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7A7-771A-4B10-B864-6CD36421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8CC-687D-4B93-B475-9B9A39E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531-CC3C-4FFE-A66A-29FD86B6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AFE-BFED-4832-839C-A67CFEAF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5DB1-D566-439C-B588-6310CF9B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9D50-C80B-43D3-8A73-5E8B356A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34DD-ABDD-4C8F-B7C5-E1904F2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22C4-EB5D-46EC-B087-0A3891F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5BB6-4F76-45B2-9385-952BFD8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EFA5-99D1-4355-80FB-3E5257A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517-A312-463C-B920-ED1BCDBC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907-2C7E-448D-920B-D0CD887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A33A-5095-4139-A047-3FDC716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680B-310F-46BB-9192-7519CBC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51C-C8D4-4E17-A500-2E5E75D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C4FD-7EE3-4B58-B1E5-A31C5DEF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D3EA-7B82-4007-B040-510507B8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8345-371C-446D-85D8-871156B0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797E-CAB6-4D90-88B8-D76F5C4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2E30-D1DF-4E39-9233-B827647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1A59-D8DE-49CF-AC84-0EEABDD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7BD3-28D5-42DF-A269-9E91BB2A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512-BC44-45EE-A33C-53247B0C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DC9F-E9FB-41E1-8A2D-26095521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D84A-8741-40CA-9D26-1F435CCB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EE3B-1189-4761-B064-734BCC2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408F-7D8D-495D-951A-43D6E84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5E9C-E08A-4FA0-8241-071122A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5BBD-0C08-4086-8BBE-FCF324CC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10B9-8A33-4BF6-AC5B-A8D3012A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DB5B-649A-4BB1-8AC2-80F098F2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43B4-9C37-4BCF-920D-1CDE1F5B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7645-CAE7-4998-92EF-8BA944F6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4F4-4274-4CED-9F5D-0056C3C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51E1-3426-4DC2-BE62-146AE7A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7337-D066-4EF6-A1DF-11A8327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C7F0-74E8-4EA0-BAA0-9B9DF891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C1FC-E070-4FDD-A365-7901C63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D888-785B-4D90-9621-F4F871C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D204-D72D-433B-9622-7976BAF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D7DF-45F0-48E6-BBF8-5256B0B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A1CD-837A-4A9F-90D2-7583EB04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BFC1-703D-4CF9-8995-BA690826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0F7-CDFE-4217-8F8E-41BC2A1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A82-C193-4DC7-98E9-8DC5864E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15D-77A7-486C-A76F-3313C7C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A16-8D6D-4FBB-A3A3-D5DFF30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1E3-6153-44B7-BB01-3ADA241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28B1-B44A-43E9-88C5-06A1873D36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132F-2AAC-49ED-99D7-65587065A3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ED8-63B2-4E1F-AA43-DB2FDBD5A82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4D8-9579-45B4-9E4B-7BCF1C5E682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41016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15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ercuri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rápid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052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Jú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norm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9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Ve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calient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3284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ar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queñ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221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Satur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grand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37372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Plutón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 planet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ent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1763640"/>
                <a:gridCol w="576360"/>
                <a:gridCol w="1871640"/>
                <a:gridCol w="1800360"/>
                <a:gridCol w="1655640"/>
                <a:gridCol w="1441440"/>
              </a:tblGrid>
              <a:tr h="70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i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n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Tierra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t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úpiter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turn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plane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norm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nd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equeñ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úsc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lie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í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rápi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ul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j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rd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arillo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r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u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st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rca del So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jos del So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2:33Z</dcterms:modified>
  <cp:revision>348</cp:revision>
  <dc:subject/>
  <dc:title>TITLE</dc:title>
</cp:coreProperties>
</file>