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941-C802-4EB2-B3FE-565370E0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C93-5DB9-4BA8-B9C9-09286F88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A8E-38D4-41D4-AF81-1F18AF19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BA2-6EA1-4633-941A-AED8EE97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655E-8D89-4CF4-88BB-4FAFB4FA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5426-7387-4418-964F-D5533CFE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EA16-E072-42D1-94B6-1E086669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6B7E-88C7-4B79-9C84-042FA537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9F74-8B56-4632-A985-E0748922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8450-BF88-45E9-AA39-4C862C85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D50A-469E-42B2-8283-7A13A9B3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6D8-65F1-486A-BE07-20EAF654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370C-4210-4B53-8F60-1B2A2ED7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D123-3F71-4E67-9D2F-7A19D0FF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0E3D-5CBB-43F7-BDE2-D159C032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78C0-3F2B-4EF2-864C-A60062C9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43AC-2D9D-403E-94E4-055FA889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44EA2-4E83-4C6A-AAED-A794ED66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8E921-39C6-4DE1-AD58-FE022038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463F-69D7-45F3-8DD0-51AC8D7E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BCBE5-F8D4-4739-91A9-538E6814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90FF0-3ACF-41D0-A78F-C6CBF0ED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A4E-5299-4BF8-ABB2-F90CCC94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CD45-27FB-47FA-A1EA-A586C1BD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036AF-0902-44AF-AD8F-AA20770E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68BB-C88C-4662-B026-397A1AD8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4452-10D4-408C-B44D-41EC01B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2D8CB-2244-4EBD-BFF7-670BEA61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BC8F-5C92-47D7-AC6F-291272F6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7ADC-6F6F-4CCE-9426-EF0FDAE0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9209-27F1-48DB-9DD9-57B5D4F9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5805-5F3A-4135-BA06-26059B61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DCDA2-1A1A-4599-8E48-46DD8C51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B6A-AFBB-471A-9B8E-650D9A06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12EA4-B6A5-44B6-8138-CEC284A0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F4779-FCEF-4A80-820A-AB60A5AB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96B2-7821-4539-B3AD-BE592259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0E477-9DC7-4674-A2B8-E6967F69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CA8A0-4DBD-4415-A8F4-F2EC882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F57EE-1977-4DF7-A50B-CE57D7AD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5CF9-BB09-480B-953D-1EE053DC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D2767-F2C5-47A2-B6C0-F6D56492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3396C-48A4-48AD-9CD5-D2844440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38A-1C0C-4FDE-AA1C-9F59AE68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210-E9E6-477A-B5B8-7F689AA4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C4F-E931-47B4-A95E-BA69E469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2D4-A725-4268-AC12-73A1CF43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7EB-3D77-4740-B7C1-8E6041AA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1543-F6F0-4275-ACD4-124B3D4A20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C5C1-D5F9-4B00-B14E-F177EBBBDC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8D7B-1D9A-427A-AA7D-8BA3977CCC3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B4D9-4259-4A49-AD38-C1DE7CDD609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41016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159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Mercuri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rápido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1052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Júpiter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norm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9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Venu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calient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3284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Mar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equeño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221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Satur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grand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37372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Plutón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ento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1763640"/>
                <a:gridCol w="576360"/>
                <a:gridCol w="1871640"/>
                <a:gridCol w="1800360"/>
                <a:gridCol w="1655640"/>
                <a:gridCol w="1441440"/>
              </a:tblGrid>
              <a:tr h="70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rcuri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enus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Tierra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t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úpiter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aturn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ran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eptun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ut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 plane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orm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nd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equeñ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úsc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lie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í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rápi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n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zul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j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erd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marill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r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u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st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rca del Sol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jos del Sol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2:33Z</dcterms:modified>
  <cp:revision>348</cp:revision>
  <dc:subject/>
  <dc:title>TITLE</dc:title>
</cp:coreProperties>
</file>