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BFA2-E13F-45D1-AC1A-4B8B02F4CD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979A-80C0-40B5-BE05-D2CA7BF138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8B63-2FF4-46C8-809E-85924D6AA9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F23-8E76-4673-A2D8-C8C602C6C4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09C-F495-48EB-A901-99F59106FC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12F-8731-41BE-88A0-8073651E84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99D-199D-467C-A594-2FFD0B123D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120E-E0E5-49A1-ADDE-17BFDFC40F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2152-D569-4C7A-994C-252F3970AD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132-CB7F-4995-97D0-3A7D2AE6E7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481-C654-4F0D-8C57-7FC7D36C64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9E0B-F5F6-4A09-9531-03EB521881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7E54-FF87-4628-AEE1-B1EB385911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3334-45B6-4E60-A147-2CD7175951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6B5-0E60-490A-810C-2E9B975F30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ED19-E046-484D-9AAE-F9EB29A518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7C1D-CA12-43EE-B07F-E80C640B93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A0F9-866C-4FD1-8313-1DDB41C8E3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60A0-9A97-4E1B-92F6-B5F459DAF3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7C7-F0E5-4775-862F-E2DF948534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6752-8083-46F3-96C3-1A32294618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878-1D61-43AD-A9CE-49277B8E2F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587-3A23-47AC-9C8D-0B65D373C2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2B5D-183F-4754-A4FA-2F3B814EAF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DC67-D0C2-47D1-906D-D2F2403D74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8E2-1B22-4ED5-BD1A-C278B85143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2922-CBC0-464D-BE4A-5E454507BD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C3F-7B02-4A21-94D8-3B71E81A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B01-4EB2-4336-846A-C71D02D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1ED-0B35-4567-B5EF-04EBBE6D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2AE-FBEE-4259-9DD9-D46594C3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16E-35FF-499A-813E-9A723BE4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9C1-21A2-47BE-AF99-3CF68ED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5587-C0FA-432B-8C43-19F472D3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CDDB-B8F1-47B6-886D-BD836C8D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F16-D51E-4A83-9011-CA64B013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C14C-ED3A-4065-AB6A-7916532F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059-F32B-4907-B1C5-688841B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14C-3875-480A-B00D-DE4733B4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17F8-D310-4B44-84F1-6DD21D7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F42E-E8C4-4951-8983-CB15C4C5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69B-C359-4680-B51F-1CA3BBCE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327-3894-422C-82B1-B3993D19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273-231F-4D77-BCA0-5FB4D07A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8CEC-1D65-4161-9D40-0CF3DB72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8A88-349E-4CF7-B3BE-8688D919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773C-8079-4ADF-909A-59D3CD3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A0006-C8C6-4466-9F84-B61A45C0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661F-2D45-4372-9031-8C2329F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DC9-3536-452A-80D5-56EA6BCC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F8D1-3289-417C-8742-2765CDF5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AACB-5414-4091-B278-00E2FA6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5BF0-D862-4224-836A-9B6E13E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346F-A231-42E2-9129-5A69349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B68F-2291-4DB8-895B-DA34B63B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59C6-49B9-4A86-A0EC-ED6F4E32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5391-CF18-4DD7-B53F-4E7AFC8C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55C9-67D0-4FDD-B2D6-F07C6C80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47EC-CC8B-4F51-9E1B-F1333F0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9F96-4F80-44C9-A9F0-DFFBE31C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1E1-4F10-4B2C-85DE-DF2EBDF0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BEA0-A76B-4706-A585-A1F8C08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A411-17DD-4CB1-95C2-C077697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BAF4-188B-41E8-84A0-265ED83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D1C5-A22B-428E-BECA-CA24718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9FE3-944F-4F88-89DC-2DC583C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1E12-F6BD-4583-A2C2-6871E1A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8511A-541B-43D2-99FD-C01FB848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8900-91E3-4A71-8556-2F931B46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AA12-A945-47B9-9D56-CEE0C4A2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A9BFC-E3F5-47D7-AD37-3FE3037C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874-CD4C-4A0D-AC16-E5FA8FB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C81F-7F75-48CB-877E-0EEA6FA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9774-11EF-4197-AB99-D091F02C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A567-E672-4001-B2E3-896BAFF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C7522-2BE6-4D7B-905B-5DE8B834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93DB-D395-427D-B03D-8CBE9F2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07C6-085D-4D7D-9A49-DF6099A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86D6-8141-40AE-AABB-9C634F2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2D93-D039-4BE9-A60B-89CD4721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7F9E-C189-46BD-9D02-B70D6B0F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0062F-CDB0-4DEB-89F6-A5F7C8E5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A30-D7A2-48E6-9032-DC1C927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8BC0C-2F63-4078-8396-DC666C4C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9055-5FE0-4EBC-A54E-995FDDF6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2EB71-D5EC-424B-8832-681BA1B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21F6-BCAC-4F38-A4F6-F120048D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CBEC-E3C4-471A-A1E5-B5C9785E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C7CE-DD5B-4B1A-B503-AE1669B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73A6-A239-4BF1-8F18-7D189CF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DC306-B44D-4856-B3A4-46B1C2C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23EF-DD5A-4CE9-BD46-254D2DD5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BDB4F-E8D2-44FA-A9BC-6A03C67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58B-894C-4CB2-84A0-531F97A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2EFF-318C-4214-9EEC-8C06261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5572-994E-4DA3-B42E-DE52F7D4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3654-0AB1-40EA-B9BF-9739C6AB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E651-1294-4B07-8897-DA2CBF5E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CF005-9DF1-42CB-8D8A-44D1F983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1075F-D775-45D3-8455-11020F39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E851E-0138-44FA-86ED-5E8FEF9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9679-B8F6-48DA-9D00-8EF759F7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7C5C-D570-4263-B451-67CCDEA2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9DF50-85FB-4ECA-ACAE-401ABC4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E6F-DC75-4649-80B4-E8C1AD5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5094F-7480-4C25-9DBC-B2389FD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A8E43-ADDD-4C16-A5A8-B8F2C19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0DA8-708E-4DF5-86A9-A22649B4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8BF8-D318-4F3E-854E-48B0B8FA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1A1E-F6C7-4C80-9047-7A95AAFB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3B20-C6A9-4480-9995-E623FE46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A7E4-4F07-493C-9097-8BCAACED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D124-684E-4F1F-B84E-53715C60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012E-01EC-450F-9260-86660D8B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44559-6C38-491D-9822-3205100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42C-05E8-4E5B-AF45-50214A7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8BAF-C666-47B6-AD04-D51E1D3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E744C-B36E-463E-9C71-0CBF7987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98298-E15C-424A-8D23-725655B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2A6F-ED16-452E-A6B4-C29BB50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3364-1F0A-40FB-A14E-539768C8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204A0-A2BF-4775-B58D-A891B905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C6604-E7C3-4C91-AF6C-CDE12F94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DD2F-F97A-4458-A44F-A2E18CB216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9EFD-9FA7-4A7E-A72C-4E6BFCC4DE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1BCD-BE84-4EBB-A422-0A6DEF5B563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808-ACA2-4873-A296-ABAF48A094F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03C0-BEDA-4972-B7C7-1266C22396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F571-1037-4ABC-9F73-C9ED78D8C7A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AEE4-9DEA-4A7F-8C99-4AE5FD776D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C25-2F52-4468-9604-F061DBC039B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6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3348000" y="52452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Which planet is hott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Which is cold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83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ounded Rectangle 5"/>
          <p:cNvSpPr/>
          <p:nvPr/>
        </p:nvSpPr>
        <p:spPr>
          <a:xfrm>
            <a:off x="1368360" y="549360"/>
            <a:ext cx="6588360" cy="563400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2357280" y="1025640"/>
            <a:ext cx="4608720" cy="4680000"/>
          </a:xfrm>
          <a:prstGeom prst="ellipse">
            <a:avLst/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Straight Arrow Connector 8"/>
          <p:cNvCxnSpPr>
            <a:stCxn id="393" idx="2"/>
          </p:cNvCxnSpPr>
          <p:nvPr/>
        </p:nvCxnSpPr>
        <p:spPr>
          <a:xfrm>
            <a:off x="2357280" y="3365280"/>
            <a:ext cx="460944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95" name="TextBox 11"/>
          <p:cNvSpPr/>
          <p:nvPr/>
        </p:nvSpPr>
        <p:spPr>
          <a:xfrm>
            <a:off x="2806560" y="26370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ame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9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9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.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08000" y="63360"/>
          <a:ext cx="8928000" cy="493884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ámetro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 mil ochocientos setenta y nu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.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ce mil ciento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e mil setecientos cincue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.7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is mil setecientos noventa y 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6.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cuarenta y dos mil novecientos och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42.98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veinte mil quinientos treinta y s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20.5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 y un mil ciento diec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51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renta y nueve mil quinientos veintio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9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 mil trescientos no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2.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2914560" cy="1773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108000" y="5229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2806560" y="5072040"/>
            <a:ext cx="61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Which planet is biggest?  Which is smalles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8000" y="63360"/>
          <a:ext cx="8928000" cy="4572000"/>
        </p:xfrm>
        <a:graphic>
          <a:graphicData uri="http://schemas.openxmlformats.org/drawingml/2006/table">
            <a:tbl>
              <a:tblPr/>
              <a:tblGrid>
                <a:gridCol w="1511280"/>
                <a:gridCol w="6121440"/>
                <a:gridCol w="129528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a (</a:t>
                      </a:r>
                      <a:r>
                        <a:rPr b="1" lang="en-GB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rcu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sesenta y si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uatrocientos sesenta y cu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 Ti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ses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úpi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diez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atu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ciento cuarenta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to noventa y 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-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25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p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doscientos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ut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 veinticinco bajo c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-108000" y="5072040"/>
            <a:ext cx="3456000" cy="17733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3"/>
          <p:cNvSpPr/>
          <p:nvPr/>
        </p:nvSpPr>
        <p:spPr>
          <a:xfrm>
            <a:off x="108000" y="5229360"/>
            <a:ext cx="30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ien(to) = 100</a:t>
            </a:r>
            <a:br>
              <a:rPr sz="2800"/>
            </a:b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il = 1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ajo cero = min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45:30Z</dcterms:modified>
  <cp:revision>276</cp:revision>
  <dc:subject/>
  <dc:title>TITLE</dc:title>
</cp:coreProperties>
</file>