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840-F3E0-4DD0-A724-60897B96D0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EF03-0276-4868-8C9F-06AC7DFE46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541-6C1E-4EF2-A290-E813349C69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E5E5-C6F0-46B0-94D6-470983FDFB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8DF2-700A-461A-A491-FD5FAE64BB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A37-FA2E-41C4-A1E0-90810835B9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5515-9112-42BE-9734-F4A1A0E729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AD71-4D0F-4974-A628-4DF121A472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9E0-979E-4FB3-B987-F92D506BDF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C96-0521-4998-8A65-87AC21205F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44D-14CF-4B65-A68E-F5BD2E3346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D5F-0D9D-4201-9E3C-470B11EF63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433-3684-4B53-B7EF-4508CD4F3A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99B-C88D-4315-99E9-D9F39BCDF5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D12-FDE6-41F7-8907-3D8F31E853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C63D-E780-4FAC-B4CA-C8A291BA3B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0C99-9321-46C3-9AC1-87680DAE75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1B3-A30E-425D-AEBC-EA8C18508F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09B-2BA3-4EF7-98AB-69C2F6FEB6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D10-4448-45A9-857E-4359688A6A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6DF-C7C5-4409-8C7E-5E592BDF39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E49-C8D1-4E20-8988-21FB3759EA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DC45-7565-4053-AC3D-E49CFA0130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0EA-1B61-4350-85A5-585480249C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514C-F850-4BF0-B4E8-7839AB7A55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D30-389A-4DB4-A13D-CC8E88CFD0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CF4-79CB-48D4-8557-667E9C1E30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3FC-44D8-438D-8EF8-35367C70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D41-3169-482D-BB79-97883B2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8CC-7CB8-4A11-AB8E-0CAA7758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787-BB88-496A-8C82-A06E96C7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4D1F-ACEC-4C86-92EC-6B6D9A04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07E-69F7-43A4-8F61-6C3EB9D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8F2C-AAB7-4DD9-9E62-0F41112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8FB8-6F5D-41C7-86B5-2378CC59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9C2C-253B-44C5-A4B0-09D172D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604C-F65A-4C96-98BA-7994D4D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4C96-5246-41FA-B25D-D9C80AA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533-7F5A-45B1-A4B2-C37B2C32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CD6-377C-4DF9-A136-91F8198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2F25-2140-4B56-86FA-9F6A785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554A-D3B6-4E92-8591-42729D40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7F9-F1DC-47DA-A43C-AC4C9126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F9B9-4C31-41EF-8D7A-758556AA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BB5C-97D1-4579-A83F-4DD9382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F1A-367A-4493-8BEF-006E6A1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3E9B-A63D-4268-B257-72DFC52B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C854-9EDD-419C-8008-9E5CA7B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3C78-D703-4D25-8E8C-AEDA37E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CEF-9C71-4DFC-B8F5-0BA89FF8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F1B5-AA6F-4163-9715-1AB9A94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64E5-8E2D-4EC7-851D-D970C48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E67C-7AFE-4FA1-8BDD-9403844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4FE5-D7E6-4748-9419-F24B04B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CA0C-7774-4B46-A1EE-9BF51D00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2B40-CB59-44BD-AAB6-180D4BBE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CA3F-3741-4DB8-B1F6-929C456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027E-268D-487A-973F-02324611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67AE-B8F9-4044-BFD6-4B3B8A17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2033-0ECB-45E5-ADEF-F7F4134D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47E-1A3A-4059-A650-F8C0218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CB26-9841-44B0-9575-4049A4AB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A441-AF9E-46DD-B345-5C7BEEE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FFFE-32C8-4CF7-A83E-2F6DE7C0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690A-DF10-498A-AE46-7D51933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C31B-26BD-40C9-8BA1-8EEC42B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F01C-A755-4C8B-AA85-67F775CE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0B6B-61CD-4AC6-B8CC-8895A85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AE93-A297-4D3F-88FF-2D1903DA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F606-AD50-4F47-921F-B0028DD6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5492-857A-4DBF-A2B0-748729A5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3F8-25CE-4B57-AEFB-92048AE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00DC-3E01-407F-B9E4-D85D0F6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C480-38DF-4819-8C61-A6DE1016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D7B2-1283-4827-BB78-5E93B35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A710-60C2-4FFC-8497-8E03589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AAF8-86F3-40B2-92FC-4F06274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361B-74E5-4FD4-9BDF-5E3107E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D486-B834-426B-8FD1-2C613FD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7DF5-482E-41A4-BE82-DF39187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18BE-CC4B-45FF-B9DF-1E77985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38BC-27AE-4F84-B94D-730CDF1B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441-E998-4BE7-9916-D76252E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294E-6D96-4673-A85F-4A1B3FD7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113C-5B4C-4A25-8367-6935D872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194B-C7FC-4309-A7D9-C9E3539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3909-2A13-46A8-B53D-BFBCC6E6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8E1F6-F1CB-4FC8-A5DD-BF779AE3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9760-DD68-4E4F-A895-B55767F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F1B3-58A7-4294-A212-8434119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00D6-5A98-43D9-B718-6E63A28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E0E2-4E19-4314-904A-3EDC9D5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3724-4B6C-42D1-AF0D-4F8E403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73D-90F3-4A26-8F6A-24AB964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ECDC4-35AE-4754-8230-452B678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2310-7807-4FED-8364-91E6A101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EB2E6-BCEE-418B-ABE8-EFF9893E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E6B0-156D-4C6D-B74C-1CB6DF76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D549-4B0F-45BB-A452-48BCD1B6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63CC-2C05-4DAD-80DB-550DF733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17E5-90BF-4FE6-B8E5-30352ABE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08381-B9A2-484B-A2D6-2DF345A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22E4-D143-433D-A4F8-13D000CA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75355-183F-4A46-8F62-D6EF3AF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A2B-10FD-4EF1-BD06-A9B7160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9351-503E-48C8-ACE0-E05933F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3FA9-DAC5-4AA8-9EA4-0EACD148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CB10-D586-408D-9552-3C737C3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6C39-3C1F-4A4F-B82F-D4F5BC05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58E1-49EE-45AE-857D-955EB022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EAB35-40D8-4824-AAA8-303490B2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78D4-4511-4B85-AD80-FAE22A33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8EAC7-6123-4A1A-B926-7DAEFE6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B996-2ABE-4B22-A5E1-53F2F70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366A-E40A-4511-918A-ABACE2F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EF6-7E3A-4F8A-83BB-96B5206E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FA3C-0878-4918-8515-EC8B819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842CF-CAC8-4FFD-939A-D1A50363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ED54-8502-4776-BD1A-5481CF10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9A13D-88F7-4DA2-8B4C-561B7F7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8C3F-45F7-4989-80B2-9EBBC9E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7577-709B-441D-B989-B2445BD4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9F26E-F8D6-41FB-9681-218BE222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5C73-4977-4000-AFA2-99AE750095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E00-83C7-4893-89DC-41643F7C8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3FA-F202-44C5-B58F-D9DB65478CD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DBA-DDE1-4B24-B6E8-DF8B294A617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849-CC4F-44F8-911E-0F4C5A32272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D1D-11CE-4555-AC25-AF4ACAC46C9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1DA-5A17-4DEC-A5D0-F7D65EB2FF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5409-8B46-4B52-A5C9-00A71A6059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6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3348000" y="52452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Which planet is hott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Which is cold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83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ounded Rectangle 5"/>
          <p:cNvSpPr/>
          <p:nvPr/>
        </p:nvSpPr>
        <p:spPr>
          <a:xfrm>
            <a:off x="1368360" y="549360"/>
            <a:ext cx="6588360" cy="56340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2357280" y="1025640"/>
            <a:ext cx="4608720" cy="4680000"/>
          </a:xfrm>
          <a:prstGeom prst="ellipse">
            <a:avLst/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Straight Arrow Connector 8"/>
          <p:cNvCxnSpPr>
            <a:stCxn id="393" idx="2"/>
          </p:cNvCxnSpPr>
          <p:nvPr/>
        </p:nvCxnSpPr>
        <p:spPr>
          <a:xfrm>
            <a:off x="2357280" y="3365280"/>
            <a:ext cx="460944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5" name="TextBox 11"/>
          <p:cNvSpPr/>
          <p:nvPr/>
        </p:nvSpPr>
        <p:spPr>
          <a:xfrm>
            <a:off x="2806560" y="26370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ame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.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.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2806560" y="5072040"/>
            <a:ext cx="61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Which planet is biggest?  Which is smalles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5:30Z</dcterms:modified>
  <cp:revision>276</cp:revision>
  <dc:subject/>
  <dc:title>TITLE</dc:title>
</cp:coreProperties>
</file>