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83F4-A28C-4E09-9595-C6293B03A2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3748-8DB1-4B3F-A707-7376DE8B92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43FF-018E-4DD9-B851-D00D31838E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66D-1450-411E-B8F2-CFAA155B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A1F-7CE2-4556-A23C-E7794C5C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B1D73-7D05-46E1-BDDE-17F7EFDD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C70E8-55F1-4711-BAAB-035CBD64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A03B5-34E2-4ABE-A44F-7D1E0603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FB950-14B4-48D3-965A-B0F7C3B6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C95B4-2393-4C28-ADB0-E819F096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713D3-1560-48F7-8851-53FB03C7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14E3C-5815-418E-A1E3-DF175516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3C316-7EAA-4248-A5F3-14CD239F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525AF-C117-4DBB-AC00-00EBB117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EE84C-DD96-4E95-8D91-57B44D71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D4C-FBBE-4C6F-80D3-9DCC6914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1A994-C40C-4CD1-BC37-FE4601A5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D84A5-6961-464B-8C7F-3FE60D79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51E7B-528B-4E14-90FE-250AAB23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E2E2E-8CFB-4957-9E6B-E40DE297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65F23-3C21-4F08-8F16-8A676EFB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BF467-504B-428A-BE0A-9A841936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E29F6-E481-4709-8B62-25B412AE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3902D-1DC7-44BB-899F-FA8E1E31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90935-073E-4E40-B5AA-17C203AC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08CE9-6EF8-45F5-885C-FB209813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4BF-5C63-4686-8A35-EDD45CF7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D8861-BA44-483E-8CBF-F1FA2B16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20E7C-6593-4C37-8C8E-3374E35B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B2332-7648-4F61-9450-CF93658C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E39E3-EACB-4FD1-86B5-F4D49E1F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3566B-1D02-4703-B342-120A5A78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72F95-6753-4A13-94D6-59A37A6C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4D35C-51A8-4605-A45C-D50B9F4D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0E06A-3D61-46AB-A281-54133AF5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711A6-AE95-4BCF-8B36-902880E2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65FF9-5AAB-4C20-97C1-BDD4066F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1BA0-AD26-4221-BCC6-4AF97CBB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8727A-CA3C-457E-AB65-F5D0DB22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0CF5D-A010-4B8A-9316-C14A9855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809A1-F8B2-4C6D-8284-AD0E8A3F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DB11-4B3A-4BBB-A036-F3119F98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D2E5-F8F9-4CFA-9B0B-526A6C9B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C722-1C68-4E54-9139-BB573C80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A56D-5C0B-4BA8-A9FB-6AC4A1B2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F4CC-D847-4ACC-A912-4A788A18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55AE-3E5C-46B1-8060-E6E5990E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292-0EA6-4BAF-B288-895B7F0B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E876-745A-4546-9AAF-E6CB1969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8E33-6E18-43A6-A898-27407B10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316A-8CCD-4D02-976F-030F8270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B93C-A402-4D15-8D66-A0FB5315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5091-81F6-4DD7-B921-9353344C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B5EF2-9F70-4E8A-A227-A250EC45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0424D-2CFA-46D6-80CF-FFE2158F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3EB68-8867-499A-B3FF-240B52EC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1AC3D-C1BD-4644-8196-8F64F97C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800E0-EAA6-4C77-A389-BB2D8C32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0CE-00E5-4DF6-B2E0-2072BF79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9A794-972C-4945-9542-0459951C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20E66-CA43-438D-8274-EF66013F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DDA5-459A-4C3F-8DA5-39AEB9F3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49CE-4997-46A1-8AA3-7ECA83B8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5C8F-FBD3-43DF-BCC1-BF8A2F45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5E016-890C-492A-BA87-302090E2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C3C3-66D1-44CF-B4E4-5C808FBF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AAEE3-4358-484B-9E47-1E1CC42F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54484-03E0-48F1-91AA-F86BB127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2CE3-C476-49D8-8318-CEA26F9C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CA7-89BE-4532-9158-14453E81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0C9FF-D482-4527-A9F5-E332A04E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A4398-C370-4A96-B8B9-1D6B4107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AE417-CF7E-44FB-A9CA-D4FD2F1C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BBCD2-A1A8-4ABA-AB8C-AF3AEEC9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5524E-DE6C-420E-A926-7E363645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2EF86-7F71-4357-B53E-FB471104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17CF5-E569-404D-AFF2-7C425E7C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6A73F-790E-4134-A6B2-227E349D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6196E-512B-4567-BD12-7F3D4F4B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FF5A4-9568-41E3-9769-401144EF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9B96-0787-4C9A-A2F4-9D8269B3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23321-A89F-4A2E-8B6B-864C6A65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78303-9A5F-4B4C-A71F-17843A0C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8CB9F-D962-49F4-84B8-31B67D54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6E017-A8AE-43F2-A85F-B9DBB0A8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2B220-31DD-4436-B986-4749282D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CCFDF-AC5F-40E6-802D-E87C4A4B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B0857-10D6-4F54-BF4B-83AADF6D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CFAA5-160A-4140-AD15-AFB4AE29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4CB41-3822-456D-8F46-F7BC58BF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F1A6B-8C6A-427D-9150-9C90812F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DFD-409C-4226-82D3-28591212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88F9F-82CC-4323-B321-D2475DAF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9E31E-2780-4D9F-89C6-D7EDC9C0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19BE8-A8A5-466C-9912-E0183549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93B23-A62E-43B6-B321-95CD1E77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06FD3-9EF2-4DAE-B415-9F0AFBF1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3EA34-0C80-4105-A814-60AD7F52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E03B7-52C9-4FD7-92F4-A4C1D646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6D2FC-DF4B-4A72-880F-687BFB7E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CBDAF-732A-44E2-8052-85484A91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6BA0A-1535-4BD9-A496-D5186A19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5F7-4FD5-4956-9558-2A2BDB05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90AE4-34CD-49FA-9BD4-DE91D57B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00989-8731-4D9D-BBBF-39A1D1C9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7679A-E7B6-49FF-BEEA-B0A7E369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6D227-6ECA-4C11-8590-BFC9818D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BED9B-217B-4211-B79F-E57F96B9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42023-40E9-4495-99BD-69EF82C5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D5357-8A53-40D2-A70E-56272993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3C94C-1DAD-4F29-A93D-691337E7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61A4C-306A-456C-8835-A1F54887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39B4D-00BD-449F-A0A1-0F09434B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331-02FA-489C-9266-2D427F05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ECE13-E856-495A-9BC6-BE3466FB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F009B-ECEB-489F-8873-CB5D6423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31304-5EFF-4BC8-BA8F-EE017756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CE320-3704-48E2-BB9D-E65FE9AC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0914A-79BB-4B6F-BEBC-465F795E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06193-FE01-43EC-870D-405C7AB9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99E82-1BBD-4556-9618-E9C04E09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43065-DBC5-4940-8479-3754CE36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C64F0-C0F9-4D0F-82B2-7A3D7885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DC0C4-5034-4582-B8A6-CBEAB918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D29-BD85-4955-B94A-BDD342E2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DDE3F-FD2B-4025-BBCC-282736A3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5D662-3954-469E-B461-18D5775E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B08E8-43CE-482B-94F2-67B8124A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378F6-81CE-4C91-964D-7FA6EE0D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2B284-AB9D-4B71-905D-11987500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15FF3-9580-4E9E-9B52-201460CC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A350C-6285-4202-8FA6-22669D42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52805-5A2A-412B-B868-AFD594B8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62346-C2DB-4859-96CF-37D05A34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196F5-2AC7-4718-BFF1-11612273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56F8-518D-443E-9155-524C2A6068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A8FA-A8A5-4603-906A-F153199588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0A44-7C2A-46DB-8C59-C437966463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FE57-11F7-44B2-936E-12769771E5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0179-062D-45F0-9090-1EFCDB55EAB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7193-E5B9-4BB3-A5BA-1E3BDAF7FF6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8213-EFE8-48A3-85F8-8082D221075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1397-A189-4823-BCF4-258A8B93CDD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5F33-8DC9-45DF-A066-BDC62764971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7F04-03A1-4051-B426-1ED7A04BC3F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554A-959C-4979-BEB9-D949C0A9CAF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2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21.xml"/><Relationship Id="rId1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2232000" cy="2736720"/>
          </a:xfrm>
          <a:prstGeom prst="rect">
            <a:avLst/>
          </a:prstGeom>
          <a:ln w="0">
            <a:noFill/>
          </a:ln>
        </p:spPr>
      </p:pic>
      <p:sp>
        <p:nvSpPr>
          <p:cNvPr id="460" name="TextBox 6"/>
          <p:cNvSpPr/>
          <p:nvPr/>
        </p:nvSpPr>
        <p:spPr>
          <a:xfrm>
            <a:off x="108000" y="2852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enorm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TextBox 9"/>
          <p:cNvSpPr/>
          <p:nvPr/>
        </p:nvSpPr>
        <p:spPr>
          <a:xfrm>
            <a:off x="2340000" y="285264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minúscul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2" name="Picture 7" descr=""/>
          <p:cNvPicPr/>
          <p:nvPr/>
        </p:nvPicPr>
        <p:blipFill>
          <a:blip r:embed="rId2"/>
          <a:srcRect l="5812" t="12969" r="3875" b="15215"/>
          <a:stretch/>
        </p:blipFill>
        <p:spPr>
          <a:xfrm>
            <a:off x="-49320" y="4511520"/>
            <a:ext cx="2816280" cy="11192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"/>
          <p:cNvPicPr/>
          <p:nvPr/>
        </p:nvPicPr>
        <p:blipFill>
          <a:blip r:embed="rId3"/>
          <a:srcRect l="8518" t="0" r="0" b="5714"/>
          <a:stretch/>
        </p:blipFill>
        <p:spPr>
          <a:xfrm>
            <a:off x="2863800" y="4149720"/>
            <a:ext cx="1832040" cy="1484280"/>
          </a:xfrm>
          <a:prstGeom prst="rect">
            <a:avLst/>
          </a:prstGeom>
          <a:ln w="0">
            <a:noFill/>
          </a:ln>
        </p:spPr>
      </p:pic>
      <p:sp>
        <p:nvSpPr>
          <p:cNvPr id="464" name="TextBox 14"/>
          <p:cNvSpPr/>
          <p:nvPr/>
        </p:nvSpPr>
        <p:spPr>
          <a:xfrm>
            <a:off x="108000" y="5668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rápid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TextBox 15"/>
          <p:cNvSpPr/>
          <p:nvPr/>
        </p:nvSpPr>
        <p:spPr>
          <a:xfrm>
            <a:off x="2340000" y="56689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lent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6" name="Picture 11" descr=""/>
          <p:cNvPicPr/>
          <p:nvPr/>
        </p:nvPicPr>
        <p:blipFill>
          <a:blip r:embed="rId4"/>
          <a:stretch/>
        </p:blipFill>
        <p:spPr>
          <a:xfrm>
            <a:off x="5580000" y="1192320"/>
            <a:ext cx="1152720" cy="17319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2" descr=""/>
          <p:cNvPicPr/>
          <p:nvPr/>
        </p:nvPicPr>
        <p:blipFill>
          <a:blip r:embed="rId5"/>
          <a:stretch/>
        </p:blipFill>
        <p:spPr>
          <a:xfrm>
            <a:off x="7380360" y="1563840"/>
            <a:ext cx="1584360" cy="1085760"/>
          </a:xfrm>
          <a:prstGeom prst="rect">
            <a:avLst/>
          </a:prstGeom>
          <a:ln w="0">
            <a:noFill/>
          </a:ln>
        </p:spPr>
      </p:pic>
      <p:sp>
        <p:nvSpPr>
          <p:cNvPr id="468" name="TextBox 17"/>
          <p:cNvSpPr/>
          <p:nvPr/>
        </p:nvSpPr>
        <p:spPr>
          <a:xfrm>
            <a:off x="5181480" y="2852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calient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TextBox 18"/>
          <p:cNvSpPr/>
          <p:nvPr/>
        </p:nvSpPr>
        <p:spPr>
          <a:xfrm>
            <a:off x="7524720" y="2852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0" name="Picture 16" descr=""/>
          <p:cNvPicPr/>
          <p:nvPr/>
        </p:nvPicPr>
        <p:blipFill>
          <a:blip r:embed="rId6"/>
          <a:stretch/>
        </p:blipFill>
        <p:spPr>
          <a:xfrm>
            <a:off x="5297400" y="4653000"/>
            <a:ext cx="1717920" cy="1584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5" descr=""/>
          <p:cNvPicPr/>
          <p:nvPr/>
        </p:nvPicPr>
        <p:blipFill>
          <a:blip r:embed="rId7"/>
          <a:stretch/>
        </p:blipFill>
        <p:spPr>
          <a:xfrm>
            <a:off x="7253280" y="4664160"/>
            <a:ext cx="1725480" cy="1573200"/>
          </a:xfrm>
          <a:prstGeom prst="rect">
            <a:avLst/>
          </a:prstGeom>
          <a:ln w="0">
            <a:noFill/>
          </a:ln>
        </p:spPr>
      </p:pic>
      <p:sp>
        <p:nvSpPr>
          <p:cNvPr id="472" name="TextBox 27"/>
          <p:cNvSpPr/>
          <p:nvPr/>
        </p:nvSpPr>
        <p:spPr>
          <a:xfrm>
            <a:off x="4932360" y="5229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roj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TextBox 28"/>
          <p:cNvSpPr/>
          <p:nvPr/>
        </p:nvSpPr>
        <p:spPr>
          <a:xfrm>
            <a:off x="6948360" y="52768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ver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4" name="Picture 26" descr=""/>
          <p:cNvPicPr/>
          <p:nvPr/>
        </p:nvPicPr>
        <p:blipFill>
          <a:blip r:embed="rId8"/>
          <a:srcRect l="2787" t="19630" r="70371" b="6618"/>
          <a:stretch/>
        </p:blipFill>
        <p:spPr>
          <a:xfrm>
            <a:off x="2919240" y="2238480"/>
            <a:ext cx="673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2232000" cy="2736720"/>
          </a:xfrm>
          <a:prstGeom prst="rect">
            <a:avLst/>
          </a:prstGeom>
          <a:ln w="0">
            <a:noFill/>
          </a:ln>
        </p:spPr>
      </p:pic>
      <p:sp>
        <p:nvSpPr>
          <p:cNvPr id="477" name="TextBox 6"/>
          <p:cNvSpPr/>
          <p:nvPr/>
        </p:nvSpPr>
        <p:spPr>
          <a:xfrm>
            <a:off x="108000" y="2852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enorm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2340000" y="285264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minúscul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9" name="Picture 7" descr=""/>
          <p:cNvPicPr/>
          <p:nvPr/>
        </p:nvPicPr>
        <p:blipFill>
          <a:blip r:embed="rId2"/>
          <a:srcRect l="5812" t="12969" r="3875" b="15215"/>
          <a:stretch/>
        </p:blipFill>
        <p:spPr>
          <a:xfrm>
            <a:off x="-49320" y="4511520"/>
            <a:ext cx="2816280" cy="11192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"/>
          <p:cNvPicPr/>
          <p:nvPr/>
        </p:nvPicPr>
        <p:blipFill>
          <a:blip r:embed="rId3"/>
          <a:srcRect l="8518" t="0" r="0" b="5714"/>
          <a:stretch/>
        </p:blipFill>
        <p:spPr>
          <a:xfrm>
            <a:off x="2863800" y="4149720"/>
            <a:ext cx="1832040" cy="1484280"/>
          </a:xfrm>
          <a:prstGeom prst="rect">
            <a:avLst/>
          </a:prstGeom>
          <a:ln w="0">
            <a:noFill/>
          </a:ln>
        </p:spPr>
      </p:pic>
      <p:sp>
        <p:nvSpPr>
          <p:cNvPr id="481" name="TextBox 14"/>
          <p:cNvSpPr/>
          <p:nvPr/>
        </p:nvSpPr>
        <p:spPr>
          <a:xfrm>
            <a:off x="108000" y="5668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rápid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TextBox 15"/>
          <p:cNvSpPr/>
          <p:nvPr/>
        </p:nvSpPr>
        <p:spPr>
          <a:xfrm>
            <a:off x="2340000" y="56689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lent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83" name="Picture 11" descr=""/>
          <p:cNvPicPr/>
          <p:nvPr/>
        </p:nvPicPr>
        <p:blipFill>
          <a:blip r:embed="rId4"/>
          <a:stretch/>
        </p:blipFill>
        <p:spPr>
          <a:xfrm>
            <a:off x="5580000" y="1192320"/>
            <a:ext cx="1152720" cy="1731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2" descr=""/>
          <p:cNvPicPr/>
          <p:nvPr/>
        </p:nvPicPr>
        <p:blipFill>
          <a:blip r:embed="rId5"/>
          <a:stretch/>
        </p:blipFill>
        <p:spPr>
          <a:xfrm>
            <a:off x="7380360" y="1563840"/>
            <a:ext cx="1584360" cy="1085760"/>
          </a:xfrm>
          <a:prstGeom prst="rect">
            <a:avLst/>
          </a:prstGeom>
          <a:ln w="0">
            <a:noFill/>
          </a:ln>
        </p:spPr>
      </p:pic>
      <p:sp>
        <p:nvSpPr>
          <p:cNvPr id="485" name="TextBox 17"/>
          <p:cNvSpPr/>
          <p:nvPr/>
        </p:nvSpPr>
        <p:spPr>
          <a:xfrm>
            <a:off x="5181480" y="2852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calient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TextBox 18"/>
          <p:cNvSpPr/>
          <p:nvPr/>
        </p:nvSpPr>
        <p:spPr>
          <a:xfrm>
            <a:off x="7524720" y="2852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TextBox 19"/>
          <p:cNvSpPr/>
          <p:nvPr/>
        </p:nvSpPr>
        <p:spPr>
          <a:xfrm>
            <a:off x="108000" y="34210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enormou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TextBox 20"/>
          <p:cNvSpPr/>
          <p:nvPr/>
        </p:nvSpPr>
        <p:spPr>
          <a:xfrm>
            <a:off x="2340000" y="33591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tin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TextBox 21"/>
          <p:cNvSpPr/>
          <p:nvPr/>
        </p:nvSpPr>
        <p:spPr>
          <a:xfrm>
            <a:off x="108000" y="61498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fas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TextBox 22"/>
          <p:cNvSpPr/>
          <p:nvPr/>
        </p:nvSpPr>
        <p:spPr>
          <a:xfrm>
            <a:off x="2340000" y="61498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slow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TextBox 23"/>
          <p:cNvSpPr/>
          <p:nvPr/>
        </p:nvSpPr>
        <p:spPr>
          <a:xfrm>
            <a:off x="5181480" y="33591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ho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TextBox 24"/>
          <p:cNvSpPr/>
          <p:nvPr/>
        </p:nvSpPr>
        <p:spPr>
          <a:xfrm>
            <a:off x="7524720" y="33591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col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3" name="Picture 16" descr=""/>
          <p:cNvPicPr/>
          <p:nvPr/>
        </p:nvPicPr>
        <p:blipFill>
          <a:blip r:embed="rId6"/>
          <a:stretch/>
        </p:blipFill>
        <p:spPr>
          <a:xfrm>
            <a:off x="5297400" y="4653000"/>
            <a:ext cx="1717920" cy="15843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5" descr=""/>
          <p:cNvPicPr/>
          <p:nvPr/>
        </p:nvPicPr>
        <p:blipFill>
          <a:blip r:embed="rId7"/>
          <a:stretch/>
        </p:blipFill>
        <p:spPr>
          <a:xfrm>
            <a:off x="7253280" y="4664160"/>
            <a:ext cx="1725480" cy="1573200"/>
          </a:xfrm>
          <a:prstGeom prst="rect">
            <a:avLst/>
          </a:prstGeom>
          <a:ln w="0">
            <a:noFill/>
          </a:ln>
        </p:spPr>
      </p:pic>
      <p:sp>
        <p:nvSpPr>
          <p:cNvPr id="495" name="TextBox 27"/>
          <p:cNvSpPr/>
          <p:nvPr/>
        </p:nvSpPr>
        <p:spPr>
          <a:xfrm>
            <a:off x="4932360" y="5229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roj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TextBox 28"/>
          <p:cNvSpPr/>
          <p:nvPr/>
        </p:nvSpPr>
        <p:spPr>
          <a:xfrm>
            <a:off x="6948360" y="52768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ver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7" name="Picture 26" descr=""/>
          <p:cNvPicPr/>
          <p:nvPr/>
        </p:nvPicPr>
        <p:blipFill>
          <a:blip r:embed="rId8"/>
          <a:srcRect l="2787" t="19630" r="70371" b="6618"/>
          <a:stretch/>
        </p:blipFill>
        <p:spPr>
          <a:xfrm>
            <a:off x="2919240" y="2238480"/>
            <a:ext cx="673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29:59Z</dcterms:modified>
  <cp:revision>287</cp:revision>
  <dc:subject/>
  <dc:title>TITLE</dc:title>
</cp:coreProperties>
</file>