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3418-774E-4935-B18F-01D669A0C2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4A4-0C21-489F-87A2-05DA38B14D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5C04-1B63-4D30-B97D-CF585F91B9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F78-ADC1-4C5B-A249-A2000DCF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91B-3332-412D-8640-BADE74A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F2DD4-BA73-45BF-9002-69A3ECE0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A4FD-BC02-41A9-A832-22B4B85C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37464-91CB-4700-9EF8-B6F86437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1B8B1-35A6-40C2-9763-C1143A25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EF05-4CAA-43FC-8F01-6DD433A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51DD3-527F-4FC2-959E-DEA8681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EF0D0-73A3-487E-9C75-E39EAD6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C4889-C33D-4830-AB94-796FB961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4576F-7F97-415A-B8DC-DA5665F6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7E8B-6A21-4A62-87F5-492D3722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152-07BE-40D2-A48E-4304311B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43A3B-410A-4AFA-A0A8-687AEEA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833C6-E3A4-427D-81F3-5772B69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F199-09D0-4828-BAE6-BFA6E2C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261E7-E51C-41B2-98D9-5029B4EE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71882-FC3B-4243-8D4E-035106F1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30B12-957B-4985-975E-04D2031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CB734-494A-4057-9EF0-D097F83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6F795-7313-4866-B255-C1A8798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08A11-07FC-4079-9AAC-5348FE4D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C0ABC-1F49-4CE6-8EA3-2B498C57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D4E-8403-4FE5-AA0C-DC5F91C2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37EC8-4229-4D24-AC7E-A53C2FA3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90A68-367A-41F0-B2EF-5D9D3B04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7F3C3-8FDC-4FF4-B029-386B63C3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4643B-6D14-4F5D-963B-EB4AEA1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7B59-77F9-4A42-86A3-4D7D6A0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3FDD-DF3F-4697-B88A-66016BEE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B5EE2-E7D7-4394-AE95-E9F3DC3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7285B-E603-4774-A251-77308F43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69685-4EEF-402E-86F7-318C6C20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B882F-5521-43AF-B108-85907090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393D-E888-4838-8B11-A7638739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FBA81-2125-4B46-8C5E-FCC9134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95766-97DC-4360-A0EE-2FF85AEC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98F39-F481-4FBD-9938-2557410A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AA99-2502-4659-9AC8-6959FAA1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905C-7BEF-486D-A336-5C4B29C4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43D6-A1F3-4173-B7F6-4500169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19E6-08C5-41E4-807B-DFE402D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802-6270-4E01-87C4-33630494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7EAE-F23D-4C53-9AD4-6DFE075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9BC-1DE2-4A6F-A452-672A385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3DE8-12D5-4583-9DA5-046E119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7F64-2BBB-4CC7-9716-D328D66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ABFF-2614-4D18-9F42-DE6B82A3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1A23-313B-462A-A505-86778822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3B3-405B-4CB4-9BCF-6C22B70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69DE-5948-4973-B89D-16C7ECDE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420D-4373-448E-96F1-996E8E4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5E2B-B06D-4871-A00E-2997DA0D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D0C0-575E-4A38-93A8-76FE5938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74D5-8F3C-466B-A4D3-EBA84F60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EC7-5B3B-4279-8493-9C5619D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885F-A15D-42EF-9D17-EB0AADF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E76F-526C-4084-9347-2A41D95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F777-3202-4A43-BFDC-E0DD54B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A4B3-B684-41E3-9AB5-859AF63B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1F39-DB23-4703-9632-7DE75657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E8F5-B870-48B2-8BBA-79DEEE39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3C80-4198-404B-8ACF-11B8EA01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F383-5B3B-45CA-BB39-54578450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80EA-CC80-4318-9BF0-EC85A359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5D89-D419-49DC-B572-53D24B14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1A1-6977-4B47-8599-78198CC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4A69-3E93-4447-AAEA-7714B954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C860-2DA5-4FD1-89D8-492862A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3930F-DC73-4E33-A258-99DCF09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D1F7-2878-49D5-8C0A-4ADC865E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4371-5630-4229-9214-64E83A1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0426-C012-42DE-9946-4BAA667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2301-61C3-4307-B3D5-C3E9C4F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2497-8B3D-4F80-91F2-6E97251B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9AC8-F4A3-4653-9AF7-BDA159B1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0F06-9575-4EF8-92B1-D7B7FF4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9C2-B63B-4C9B-A15E-D5744DF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5B2B-0A42-4D81-B268-80580EC5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F96F-319F-46C2-BF0C-6A963D84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6B9A-4696-4D7C-A339-81ACDD9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3FE6-52D9-486E-904E-C032ADB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ED7A-FADF-47B5-9C71-E6AFD6A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A618-BF6C-4D25-B09D-CEE8251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5E7D-899F-4378-8AC5-0E1EA4C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B2D1-A22A-40A1-B378-BCC19E5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9585-CA8E-4CE7-A92A-8E4CA769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88BF1-B4BD-41B2-B997-A9E09313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5DA-7FB5-49C1-BCB9-8E9B397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28B6-9B9D-404F-9807-226C8617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7EC5C-F992-421C-8113-242DCD4A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2C79-698E-4D7B-8A5A-829660B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E0DD-74F2-4E48-8905-74025E86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A1E8-79F3-43E2-ACF1-C01BC259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5CF6-20DB-4012-A566-30E866F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63A1C-409F-4FCE-ADC7-9CA4F05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3D02-AE5D-4796-8486-C512F24D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6E116-DE76-41DB-BD65-7619673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9AE35-A5E4-4FDC-91BC-750FC7C4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8A8-5544-4F60-BDBF-BCB485F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0D51-321B-4F22-BD6E-E214B77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EF8C-F48C-4761-803C-6E2A8C42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1414-F106-4EDD-82B7-56A73591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9CE5-AC65-485B-A8D9-03A88C10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A7899-472F-4A70-9557-0ADFC518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3AF7-8A08-41EF-AF3A-9FE1DA9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4311F-F037-4601-AEB5-693EF68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AABB7-2F94-4D5F-AF61-A0770AD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994B-6DAB-4865-85F9-3C925A44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985D-B670-47AE-82A1-7FF297A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1CC-B9C6-461A-8BBB-DEF3F6B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60F8-A880-4922-A5FD-A0CA1A9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9081-D04C-44AB-A7C4-07D0E27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0025F-EE83-4A24-BB69-2FD843FD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3411D-CBAA-4F2A-AAC4-DD124047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788FE-E344-41F4-B573-3EFC2FD1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48A2-9A52-40CF-92D7-7683F1E7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CD54-B3BE-43F0-AF3B-BF97E255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223C-034F-4FDF-A11D-2570CA7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2EEE8-523F-4304-86FD-7B349B45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F8E29-D4E3-42A9-A5D1-24D3A831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1BE-44EF-4B99-AA51-BF51308B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5548-198D-4FD3-9568-4F27688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74680-4794-4EBA-855D-9E041AE4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AF7F8-2413-44CC-A6F4-7AEE5FF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C2B6-D10B-4FA7-B893-22D59E3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30871-EA0C-4B3F-B4A9-0F168E67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2364C-771A-49B1-BB49-2FE4D2DE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A5C73-1C74-446F-80B5-42D914C8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70C12-2BF2-44BF-B7DB-C3A8C5B0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A2127-9897-4CB1-8C85-E388D7E0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80996-304D-400D-A2E9-12DD9AB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26B8-D731-42AB-BEB2-58F8F65E5A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EC6-86FC-4B56-90B7-3A56FE666F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AB4C-FDAB-40D2-8AE9-41D20F259B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7116-F636-48DF-BAC0-DC0D1A0CA1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2E47-5B01-43A2-A677-568958187C9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4A09-1075-4D20-87C0-2E448DE106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1E9-2912-4938-8770-30452E155F5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4D35-FDB0-48EB-BB96-422BDA33A2A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4A73-8D64-4DB8-9C43-E97570856C2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B366-7800-4FA9-87FB-6EA331E96D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ABEC-0973-4850-8A1E-CCD6DEBE3DF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232000" cy="273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6"/>
          <p:cNvSpPr/>
          <p:nvPr/>
        </p:nvSpPr>
        <p:spPr>
          <a:xfrm>
            <a:off x="10800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enor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2340000" y="285264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núscul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2" name="Picture 7" descr=""/>
          <p:cNvPicPr/>
          <p:nvPr/>
        </p:nvPicPr>
        <p:blipFill>
          <a:blip r:embed="rId2"/>
          <a:srcRect l="5812" t="12969" r="3875" b="15215"/>
          <a:stretch/>
        </p:blipFill>
        <p:spPr>
          <a:xfrm>
            <a:off x="-49320" y="4511520"/>
            <a:ext cx="2816280" cy="1119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3"/>
          <a:srcRect l="8518" t="0" r="0" b="5714"/>
          <a:stretch/>
        </p:blipFill>
        <p:spPr>
          <a:xfrm>
            <a:off x="2863800" y="4149720"/>
            <a:ext cx="1832040" cy="1484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4"/>
          <p:cNvSpPr/>
          <p:nvPr/>
        </p:nvSpPr>
        <p:spPr>
          <a:xfrm>
            <a:off x="108000" y="5668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ápid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TextBox 15"/>
          <p:cNvSpPr/>
          <p:nvPr/>
        </p:nvSpPr>
        <p:spPr>
          <a:xfrm>
            <a:off x="2340000" y="5668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len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6" name="Picture 11" descr=""/>
          <p:cNvPicPr/>
          <p:nvPr/>
        </p:nvPicPr>
        <p:blipFill>
          <a:blip r:embed="rId4"/>
          <a:stretch/>
        </p:blipFill>
        <p:spPr>
          <a:xfrm>
            <a:off x="5580000" y="1192320"/>
            <a:ext cx="1152720" cy="1731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"/>
          <p:cNvPicPr/>
          <p:nvPr/>
        </p:nvPicPr>
        <p:blipFill>
          <a:blip r:embed="rId5"/>
          <a:stretch/>
        </p:blipFill>
        <p:spPr>
          <a:xfrm>
            <a:off x="7380360" y="1563840"/>
            <a:ext cx="1584360" cy="10857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7"/>
          <p:cNvSpPr/>
          <p:nvPr/>
        </p:nvSpPr>
        <p:spPr>
          <a:xfrm>
            <a:off x="518148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calien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Box 18"/>
          <p:cNvSpPr/>
          <p:nvPr/>
        </p:nvSpPr>
        <p:spPr>
          <a:xfrm>
            <a:off x="7524720" y="285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6"/>
          <a:stretch/>
        </p:blipFill>
        <p:spPr>
          <a:xfrm>
            <a:off x="5297400" y="4653000"/>
            <a:ext cx="1717920" cy="1584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5" descr=""/>
          <p:cNvPicPr/>
          <p:nvPr/>
        </p:nvPicPr>
        <p:blipFill>
          <a:blip r:embed="rId7"/>
          <a:stretch/>
        </p:blipFill>
        <p:spPr>
          <a:xfrm>
            <a:off x="7253280" y="4664160"/>
            <a:ext cx="1725480" cy="157320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7"/>
          <p:cNvSpPr/>
          <p:nvPr/>
        </p:nvSpPr>
        <p:spPr>
          <a:xfrm>
            <a:off x="4932360" y="522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Box 28"/>
          <p:cNvSpPr/>
          <p:nvPr/>
        </p:nvSpPr>
        <p:spPr>
          <a:xfrm>
            <a:off x="6948360" y="5276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ver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4" name="Picture 26" descr=""/>
          <p:cNvPicPr/>
          <p:nvPr/>
        </p:nvPicPr>
        <p:blipFill>
          <a:blip r:embed="rId8"/>
          <a:srcRect l="2787" t="19630" r="70371" b="6618"/>
          <a:stretch/>
        </p:blipFill>
        <p:spPr>
          <a:xfrm>
            <a:off x="2919240" y="2238480"/>
            <a:ext cx="67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232000" cy="27367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6"/>
          <p:cNvSpPr/>
          <p:nvPr/>
        </p:nvSpPr>
        <p:spPr>
          <a:xfrm>
            <a:off x="10800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enor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2340000" y="285264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núscul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2"/>
          <a:srcRect l="5812" t="12969" r="3875" b="15215"/>
          <a:stretch/>
        </p:blipFill>
        <p:spPr>
          <a:xfrm>
            <a:off x="-49320" y="4511520"/>
            <a:ext cx="2816280" cy="1119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"/>
          <p:cNvPicPr/>
          <p:nvPr/>
        </p:nvPicPr>
        <p:blipFill>
          <a:blip r:embed="rId3"/>
          <a:srcRect l="8518" t="0" r="0" b="5714"/>
          <a:stretch/>
        </p:blipFill>
        <p:spPr>
          <a:xfrm>
            <a:off x="2863800" y="4149720"/>
            <a:ext cx="1832040" cy="14842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4"/>
          <p:cNvSpPr/>
          <p:nvPr/>
        </p:nvSpPr>
        <p:spPr>
          <a:xfrm>
            <a:off x="108000" y="5668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ápid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TextBox 15"/>
          <p:cNvSpPr/>
          <p:nvPr/>
        </p:nvSpPr>
        <p:spPr>
          <a:xfrm>
            <a:off x="2340000" y="5668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len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3" name="Picture 11" descr=""/>
          <p:cNvPicPr/>
          <p:nvPr/>
        </p:nvPicPr>
        <p:blipFill>
          <a:blip r:embed="rId4"/>
          <a:stretch/>
        </p:blipFill>
        <p:spPr>
          <a:xfrm>
            <a:off x="5580000" y="1192320"/>
            <a:ext cx="1152720" cy="1731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2" descr=""/>
          <p:cNvPicPr/>
          <p:nvPr/>
        </p:nvPicPr>
        <p:blipFill>
          <a:blip r:embed="rId5"/>
          <a:stretch/>
        </p:blipFill>
        <p:spPr>
          <a:xfrm>
            <a:off x="7380360" y="1563840"/>
            <a:ext cx="1584360" cy="10857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7"/>
          <p:cNvSpPr/>
          <p:nvPr/>
        </p:nvSpPr>
        <p:spPr>
          <a:xfrm>
            <a:off x="518148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calien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Box 18"/>
          <p:cNvSpPr/>
          <p:nvPr/>
        </p:nvSpPr>
        <p:spPr>
          <a:xfrm>
            <a:off x="7524720" y="285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Box 19"/>
          <p:cNvSpPr/>
          <p:nvPr/>
        </p:nvSpPr>
        <p:spPr>
          <a:xfrm>
            <a:off x="108000" y="34210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enormou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Box 20"/>
          <p:cNvSpPr/>
          <p:nvPr/>
        </p:nvSpPr>
        <p:spPr>
          <a:xfrm>
            <a:off x="2340000" y="33591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i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TextBox 21"/>
          <p:cNvSpPr/>
          <p:nvPr/>
        </p:nvSpPr>
        <p:spPr>
          <a:xfrm>
            <a:off x="108000" y="61498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a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TextBox 22"/>
          <p:cNvSpPr/>
          <p:nvPr/>
        </p:nvSpPr>
        <p:spPr>
          <a:xfrm>
            <a:off x="2340000" y="6149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lo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TextBox 23"/>
          <p:cNvSpPr/>
          <p:nvPr/>
        </p:nvSpPr>
        <p:spPr>
          <a:xfrm>
            <a:off x="5181480" y="33591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ho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TextBox 24"/>
          <p:cNvSpPr/>
          <p:nvPr/>
        </p:nvSpPr>
        <p:spPr>
          <a:xfrm>
            <a:off x="7524720" y="33591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3" name="Picture 16" descr=""/>
          <p:cNvPicPr/>
          <p:nvPr/>
        </p:nvPicPr>
        <p:blipFill>
          <a:blip r:embed="rId6"/>
          <a:stretch/>
        </p:blipFill>
        <p:spPr>
          <a:xfrm>
            <a:off x="5297400" y="4653000"/>
            <a:ext cx="1717920" cy="1584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5" descr=""/>
          <p:cNvPicPr/>
          <p:nvPr/>
        </p:nvPicPr>
        <p:blipFill>
          <a:blip r:embed="rId7"/>
          <a:stretch/>
        </p:blipFill>
        <p:spPr>
          <a:xfrm>
            <a:off x="7253280" y="4664160"/>
            <a:ext cx="1725480" cy="1573200"/>
          </a:xfrm>
          <a:prstGeom prst="rect">
            <a:avLst/>
          </a:prstGeom>
          <a:ln w="0">
            <a:noFill/>
          </a:ln>
        </p:spPr>
      </p:pic>
      <p:sp>
        <p:nvSpPr>
          <p:cNvPr id="495" name="TextBox 27"/>
          <p:cNvSpPr/>
          <p:nvPr/>
        </p:nvSpPr>
        <p:spPr>
          <a:xfrm>
            <a:off x="4932360" y="522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6948360" y="5276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ver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7" name="Picture 26" descr=""/>
          <p:cNvPicPr/>
          <p:nvPr/>
        </p:nvPicPr>
        <p:blipFill>
          <a:blip r:embed="rId8"/>
          <a:srcRect l="2787" t="19630" r="70371" b="6618"/>
          <a:stretch/>
        </p:blipFill>
        <p:spPr>
          <a:xfrm>
            <a:off x="2919240" y="2238480"/>
            <a:ext cx="67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9:59Z</dcterms:modified>
  <cp:revision>287</cp:revision>
  <dc:subject/>
  <dc:title>TITLE</dc:title>
</cp:coreProperties>
</file>