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4115-0438-4D54-9402-91398602EC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0C52-E047-48F5-B6CA-8FB7EE9CB32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81B5-6F54-49EE-ACF1-5ECBD9BA85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DCFF-D0C7-4AD2-BF8C-1658DDEC93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6C9D-A1BB-4FF6-8668-16F6D82A35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3940-F44E-4248-B698-D4D94D6ADEF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895B-95B2-4DB0-8D22-4962BDC175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4A82-B36E-42BC-B3F5-9CC25D8F855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630B-330D-4C3A-B6DC-419937E7FB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27E2-25E7-4BB8-A0B3-18AF0C52E7E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D645-AC49-48E7-9464-AFA9492A4D5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289F-87E9-4CF7-A643-EBF956F29B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8AAE-7A19-4957-A9F6-5BFE4F1822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48C-C80C-424C-BDFD-C78FEEBB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FF36-227C-4C0F-8BCE-FCB4A989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DAE0F-FA65-4896-A623-DC1EC0AD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9E623-50A7-4F51-9499-721200DB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399AA-E8FE-412C-B593-CF87BA4C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1E41A-15ED-4443-BC2C-9DF3712E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BA7F0-5A56-4E55-9331-050A268C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A5167-338B-4C64-8867-D22037FC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98FD0-184C-40C7-986B-AF778C45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F8DA7-D975-448C-B76A-92DB0A19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80C95-62E5-44E7-9080-66CCACA0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6868F-0563-45C2-A4E7-E83E39DD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80A-EF09-4F46-8609-C8DAF456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5700C-C72B-449B-9D40-9C72E3FD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F2BA6-3069-4054-9E53-E6D2EBA3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E4FC3-A64E-464B-8406-1D35D86C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63CB9-113A-4AAC-948D-0EAF649D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0778C-6FCB-4709-9443-542CCE0B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7956F-99A2-40CD-B6DE-74E4E2C2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E26F6-FEC6-45C2-9035-285DECB0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6D9BC-DC6B-4651-B7BB-7F28A363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75378-BBC4-4973-91BE-07AC7BB9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C7F5E-5841-44BD-B86D-D732F6E6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AE0-E72D-4EFD-A6B4-9E64CE56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55A14-24D5-4D44-9DF9-9AE1A0CC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85FD-EF97-4C5D-8F9F-0C307C25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966A-277F-442A-A2D2-E53DCA05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03B8-4C14-4B97-A333-42D10E85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7118-C614-49BF-BF63-17F09FC6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3F21-EF34-4FC6-BBF5-0A97307E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E32E-F8A8-4491-A1FB-EAB60495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E056-6C47-4578-B224-A74F9626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98C-F87C-4C9D-91F5-82922960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FF44-1D04-49A8-8820-1D133E76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5C36-BBD4-4C6E-B852-3EAB6A0C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FA25-DDB0-4B18-97A8-0E2FE320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340F-0879-4267-8A96-72601B19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9213-A38F-4D3C-981E-FDAEA471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99B0B-9222-4D53-9AF6-9671BDFF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E3624-2D62-41BE-A2C1-B8177F5C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D5956-D0D2-4D46-B800-A5998BBC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1721-CB99-46C3-9435-6AE82361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878BE-2686-45FA-B062-49D33D0D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ED7-6F5F-442C-9585-E87FA5FA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370C-F8E6-44CB-AF73-BFB9EFF3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B0216-23D5-4C22-B833-D01C61E5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E001-EC26-41B1-B9B1-801FF87E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798A8-9513-4812-B178-66D445DA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CCA4-C183-464D-B5C3-2B24CD79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AE73-FF6D-44BC-9CF5-301D8AC6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8DFFE-E6C9-41EF-AF89-8C0E9BE1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BF06D-3602-42BA-94D9-C1B5DA9B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A7191-4122-4B3B-ACE3-92F68DD5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1B0A3-45E3-4DB8-8874-7980ADAC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4B4-9B5A-4450-8FCF-69193D5E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13359-F4CB-490E-BC0E-43125A99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AA6A1-0621-4B4F-9860-BAF50626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6B06C-FB4F-4583-A9D1-C0141D3A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C9793-35AD-4693-BE4D-3F7C712E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511DC-21E8-413C-BF8A-70DC396C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21EA5-8628-4C0D-9582-B1C93F8E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97DDE-2A78-4E1F-B891-DAC4BE01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F7428-4E74-464D-B487-E78DCDD4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24D78-C260-42C1-9BAC-13F32834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2DD9A-4999-486E-B27F-9D0874B9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6A1-547F-44A7-BF03-227A7781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17042-2310-4EE4-AB77-02FA5F0E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63C6E-8915-48F1-94B9-0D5ED0F8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FC7AF-7225-4AF5-8059-67F1DA6E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F4263-CE16-4756-8406-94CC4989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01C87-B2EE-4C1E-A51D-B1C833FC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1652D-F2F0-43B0-8128-9615A9FA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18FB6-8B33-45FF-A631-B281DD90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87F2B-5728-4F6B-822C-45ECE0D3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1496F-D9D6-47A8-BF1A-A0EBE2BF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3D398-3507-45B7-B872-C1999681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70C-95A1-4690-A063-245CE669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EC024-6AF5-4983-89B3-A6E6DD8B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75106-056C-4F9C-9C8A-28BE685F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3CAA0-14E5-4486-8282-BF9DC6EA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44B07-FD18-4311-A2A3-D77EB424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79E57-D41E-414E-96E1-313F87DF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F3E4D-9416-4583-B1DB-E33B16B1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B124C-C902-4D4C-930D-CE4605DB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135F1-08B1-4CB7-94EA-E6FE48D6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995AF-F370-4DC6-81A3-08177E8E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DD109-6FB2-4644-8D57-7E659021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E05-9247-466F-97B4-BA7D469A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17B93-35B1-41D5-BF6C-5285A506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BB7F7-FBBC-4619-8C37-CD91A222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9915B-6218-41D6-8226-71CD73EC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0E506-D063-4FDF-A94F-A332936D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03CFD-6E93-4C4F-A669-5CFDE447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D46DC-F930-41DD-8CD3-77F78F31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8C852-388B-483A-9141-69BD4634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2A8CD-2608-4442-BD4A-C76B67AE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72C58-BAC1-48EF-BAF0-937B2F8D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E3089-316B-450F-A03F-621FA568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8E3-F9EA-457D-8A96-70477286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E54A8-0064-474B-A0EB-B4F79A93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D04A6-6ED1-41B6-85A6-D7549E08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36C67-D307-409F-A855-DBDA871F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E7B9B-E132-4291-AB76-A33ACAF0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48D2-1A38-4B45-91C2-A76686F1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1DD44-2EC4-47F7-8D4B-D4077554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8AF18-EC8A-4771-8C48-D35A46A6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897F0-363B-450A-BDA3-DCCDC31B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9032A-C42C-4981-9EA0-07246ACC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ED9D6-B6ED-41AC-BB95-D2BBE1F7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868-2D93-4448-96F6-83E8CAC0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25F2F-5A37-4B9B-8D34-394DC03F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375E2-62CF-4021-9720-C7FB23DE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CD2FA-3DA1-4B92-BE86-79E1ED16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DD770-16AE-49A1-98F0-061C3C21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ACB54-EA2C-4CC6-8058-7B85E0E7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9D56C-79F5-4FE4-9693-B03F240B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571C3-6A43-4400-B068-C15C591F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EA15C-0445-4199-A4F9-510EE549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B3B5A-C397-4228-8B24-B30F388C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8020D-D7B6-4B63-A579-6D3F93FC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D549-0E67-4EA9-BDD8-187C7392FD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25A1-454E-431D-B5FF-CDFA7E327F7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5920-B8B8-43E0-8CDC-BBFD4F62DE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A3AA-ADB7-4C9D-B472-4413EC2FCFE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7773-53D6-4AE0-80C8-C00F35438FB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92BD-C780-4826-8AAD-494D3FED04E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72D2-347C-489B-B7E4-3B060025B66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4F61-F241-4C2A-9A7A-16532232E29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AE6C-868F-440B-8982-6C9C355DC1A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83FF-36DD-4B2D-93D3-88AF6811447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4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0.7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0.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59.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90.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56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0.7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0.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59.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90.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60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Box 2"/>
          <p:cNvSpPr/>
          <p:nvPr/>
        </p:nvSpPr>
        <p:spPr>
          <a:xfrm>
            <a:off x="3419640" y="4626000"/>
            <a:ext cx="56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How many Earth years is 90,588 day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0.7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0.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59.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90.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65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TextBox 2"/>
          <p:cNvSpPr/>
          <p:nvPr/>
        </p:nvSpPr>
        <p:spPr>
          <a:xfrm>
            <a:off x="3419640" y="4626000"/>
            <a:ext cx="56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How many Earth years is 90,588 day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TextBox 3"/>
          <p:cNvSpPr/>
          <p:nvPr/>
        </p:nvSpPr>
        <p:spPr>
          <a:xfrm>
            <a:off x="5364000" y="595008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248.2 year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28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32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36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0.7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0.7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0.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48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0.7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0.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59.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52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29:14Z</dcterms:modified>
  <cp:revision>287</cp:revision>
  <dc:subject/>
  <dc:title>TITLE</dc:title>
</cp:coreProperties>
</file>