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F50B-D46A-495A-8452-41FD20CFD5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15EE-E599-47B4-AE63-72E8CA7158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BB16-0393-4B87-AEDB-19A6777637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2A8E-8B11-418D-97D2-50118D77DC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2F01-2CE0-472A-9F5F-0A6BC8D916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40E4-F968-474D-848F-E49CF1571CD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D74D-D20F-4ADC-98B7-788FB933473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07F7-2E9E-4415-856D-5E0FED0269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02D0-1172-4172-ADCB-F2131DF29E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A8CA-E65F-4164-B126-9279E9BFD3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FBB2-4774-4974-A287-575D3102BD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D30F-E4CF-4BC4-8B54-71CE272610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418B-91ED-4373-80EF-7AE2935EA5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FEA-04F3-40E9-BFC5-CBC65541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B42-1233-4E87-A371-67924321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69D1A-3457-4D37-9096-7E2E88C5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DE849-51E1-43E2-93F4-1F52D943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528D5-F7E1-48FC-81B7-D77D6B02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D86B7-2C3E-4F5C-8893-FD54DEC7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3A6AF-F87B-44E0-9097-D22CFABF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20216-7A58-4D7C-9794-6F1FC1D9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DEA36-939B-4A7C-9E85-5F5E4556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79D90-FCAD-4601-9B5F-1AAFE4C2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E8475-D398-4D94-A9F8-F21EED02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E9B66-893B-4831-AD81-71D6761C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D48-E319-401A-A404-A290CBF1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71321-45FC-4ED7-830E-944FC4E3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A6318-1E13-4B89-BFF3-088B1EB4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C47B3-A797-485A-B30A-E49E566E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47EFA-A312-496C-B208-07781384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816FE-C255-44C2-B2A9-05491C43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FF1B6-B725-4013-8D37-9EC486E9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535B9-3492-4F88-948D-D12E8068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B1FB8-1CC9-45B1-AF0A-F50847DF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12D84-46D0-45F5-AAD7-FC69AA1E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9EF9A-30E1-4181-9AAE-DCFE2996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C88-91A0-4313-AA8C-33E21B24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A580F-B0D4-47CF-B43A-7D419601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DB78-2A79-4762-B808-36674472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4B5A-BE45-4570-8AF5-24E5542B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357D-0205-48D1-B2F8-B6193996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51AF-5DA2-40CB-AC45-9071ADA0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CC6C-1F0F-4781-8FB6-A39D066B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6558-A1A3-4C64-A3DE-2ECBA018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13C6-1F57-4738-8FE6-59D6A580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7A8-1D18-42F1-8EC5-E0BDE4A5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6BDB-63CC-49C4-A6A8-D3C31D04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B034-194D-4FF6-B82F-82C16578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7E65-17B6-441D-AA7E-5E972C75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4C08-B6E2-4D0F-89BE-9ECCA52E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FC64-F0BC-43FF-B725-4D22DB13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83A5-ED53-4727-9096-C0F0F334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B7761-5566-4599-A160-72C8EC21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FB79-51FB-4C6F-8E54-3F76E1B0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BF3B-4931-49F1-B54B-D9611387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E6C69-2F6B-442C-8948-64CFDABC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7E0-7502-43BE-917D-2AAD5C2D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9DAB-398E-4C76-A656-ACCA2690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7C21-5FC9-4ED8-9AD3-2349155C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9046-DE61-4A73-A040-7A9F2F5F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709FC-70B5-4427-BE58-6BFEC664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4465-8853-483D-B956-19F37D7C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4FDA6-C4D4-4360-94A3-C65575AE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206E-8221-4433-9609-1F76C36A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74511-F4F2-4E5A-8F45-22C218D8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25983-AADC-4C7B-9724-B8868127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DA721-5100-490D-8E1C-7D67F826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4B9-3803-4274-A66E-ECEC17A6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4595-FF92-450E-BBAF-CF8A0EDB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4CBA9-54C6-4A2B-B031-7B668A83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64FC3-3B66-4981-8735-2893EF1C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6041A-290D-4634-8E7A-0D939960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C4AC5-3FE1-469B-B295-EF867114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9CF80-7EA2-4C51-8B74-9260E4B4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FE7B6-B952-4404-A5B2-1311BCC3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93549-CACA-43B1-AA47-9B67EDC0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E0CC6-6EB5-40F1-9E43-8D4FD7EA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87B17-8FB6-4372-AA9E-2E8D5C78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270-51BC-4009-9E0D-4C48858D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E4D8D-5AC1-4ED5-BD37-47F1ACF2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A2668-569C-4465-BC52-F413AF33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CE03D-46F4-4986-B427-FCD30348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552F8-817A-4397-8CB9-4FF01D0C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FBDE3-79FD-40C0-8EDF-2B250FBA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44575-E7CB-4BC5-B37C-4E958F76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C4DB8-FCD2-48B0-A852-E9601950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E8503-5608-4A52-B129-4B35F3EF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257FE-D43D-4287-B32C-95589CBB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96372-24F1-4A20-9497-0D0FC154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DB8-5DBE-4CDB-AF8A-F63E49C7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318A2-E002-41EF-9CC1-9495F856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7E77-3383-4557-89F5-07B6A20D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33898-E305-4FBA-A4C8-2047C189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39C90-3905-454F-863B-F765140F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367B1-9BEE-4A2E-A173-4D034377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8757B-275B-40EF-AD51-8C5D6BB0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A7EA7-737E-4B03-9AB4-ECB968FD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ABADA-D3B6-47BF-B62A-022AFED1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42DD3-096E-463E-A90F-7F51F45B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969A3-AB38-48C2-B295-7D65538D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F86-F9AB-4F4A-ADE3-65AD9949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EA0CE-1BFF-49C8-AB93-BB226B79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3B14A-120B-4947-BCF0-2EC84506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AFFB6-DB8C-44AC-9BEF-8B551AA9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2BACE-5C89-486A-93AA-1C4C3A84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0EBD0-2228-4449-A53E-60FF305E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D0115-79C7-4E80-BBC3-A1460BB8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45D34-165D-40F1-8876-1152173E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6530C-FEA8-4101-9106-E14162C2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05759-4099-4224-A91B-4008C7DB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866B6-1C1F-444C-8521-A5A776DE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F70-AB2E-4F82-A682-F32EF035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1BD9C-92CE-48E4-84E6-6F9A1583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6282A-B894-4051-96CC-B530D569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BB723-E754-419C-939D-1AB4B91B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41BD5-42EA-475A-B53E-9F272463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38E67-76EF-4697-A7D5-264EAC9F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01BCD-0D61-4F74-9A62-6878570F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3CFCE-97D2-420D-B905-B5FE8709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D8F8A-E8C9-4BCB-A33D-F9AF1B40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4E480-63C1-4AED-A313-1FD8A89E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82500-50F3-4689-BC07-27685D98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33A-94E2-4E10-B2A2-CF7793BC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FADC7-F815-4B7D-9833-593C6765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690BE-ED62-46F3-82E6-9D91782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E94D7-64E9-4142-B0F2-BF5B4120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4C229-D503-41F7-B63C-338A231E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318F2-0E48-4957-86B0-FA2AF3C6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1406A-395D-4437-BDFA-4F99A8FD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D363E-9B35-49FD-8FF6-E9E9BD8C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F1FA0-D2B3-43E5-A319-FB0A3158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6B116-1579-4792-82C0-CF25381C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209CF-9BBC-451C-B6E2-8782DD5F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EB20-D947-461F-A26D-469829CE8A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E96C-8066-4DFB-8EF7-C857454553B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28AF-BF78-465C-9056-A3D27A8919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24F4-C300-4895-A16F-748895EF5A8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B2E4-1DDA-4C3A-8725-39F990F9A35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AED1-750F-4FD2-A4EF-7194C8ED902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FDED-4A74-4FEB-9FB6-BD7A7BEA7C1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132C-710A-4BC8-900B-C2B451B654D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A378-88CC-4BD7-B528-DAEADA9155D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8EBC-B478-455A-AFFF-E6F87750FC4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4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0.7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0.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9.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90.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56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0.7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0.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9.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90.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60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Box 2"/>
          <p:cNvSpPr/>
          <p:nvPr/>
        </p:nvSpPr>
        <p:spPr>
          <a:xfrm>
            <a:off x="3419640" y="462600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How many Earth years is 90,588 day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0.7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0.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9.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90.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65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TextBox 2"/>
          <p:cNvSpPr/>
          <p:nvPr/>
        </p:nvSpPr>
        <p:spPr>
          <a:xfrm>
            <a:off x="3419640" y="462600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How many Earth years is 90,588 day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Box 3"/>
          <p:cNvSpPr/>
          <p:nvPr/>
        </p:nvSpPr>
        <p:spPr>
          <a:xfrm>
            <a:off x="5364000" y="595008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248.2 year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28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32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36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0.7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0.7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0.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48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odo orbital (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veinti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 sesenta y cin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cientos och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trescientos treinta y 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iez mil setecientos cuar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0.7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 mil quinientos och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30.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ncuenta y nueve mil ochocie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9.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 mil quinientos ochenta y 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452" name="TextBox 3"/>
          <p:cNvSpPr/>
          <p:nvPr/>
        </p:nvSpPr>
        <p:spPr>
          <a:xfrm>
            <a:off x="108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29:14Z</dcterms:modified>
  <cp:revision>287</cp:revision>
  <dc:subject/>
  <dc:title>TITLE</dc:title>
</cp:coreProperties>
</file>