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31D-D4CD-4F45-B5FE-D60FC6CD56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A3EB-B402-4D70-BC2B-2499D0EBD7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CF4B-0D82-4186-AFF3-8A3CC2A355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48E-1F50-4ABE-B152-B91A5DFAD0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6CA0-C6AA-4C5C-A2E3-7F9657A3F0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F398-2251-438C-B09C-B13561785A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2809-D1DF-4110-925C-F6A79D0813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9D3-D1CE-41D1-93A9-8368467B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7D1-9CE6-4D79-B283-3E08DFE4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3E5-14AD-4AB7-846E-921D7870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33A-BFAD-409D-BAF0-7109832C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C83-A9D2-4778-9760-BC32988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5D4-CF67-4CE7-93B2-5B73D16D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DAC-63BB-4F8D-BE6B-CF8DF103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8EC-4C59-4382-88C2-944586D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D85-EE7D-4579-819C-CB17F0B6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8DB-31FA-48A2-BF72-57F90C8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42B-78E1-4D4C-AA7F-EA9702B0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648-C3EF-4C53-ADC2-A0257420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E0DD-F9FF-4ACF-A471-BF70D07A31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333360"/>
          <a:ext cx="8280360" cy="421488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y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9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baloncesto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fútbol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hockey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rugby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squash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tenis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tenis de m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atletismo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ciclismo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equitación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gimnasia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natación</a:t>
                      </a:r>
                      <a:br>
                        <a:rPr sz="3200"/>
                      </a:b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vel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4724280"/>
            <a:ext cx="828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play…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ff99"/>
                </a:solidFill>
                <a:latin typeface="Comic Sans MS"/>
              </a:rPr>
              <a:t>Juego al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…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ff99"/>
                </a:solidFill>
                <a:latin typeface="Comic Sans MS"/>
              </a:rPr>
              <a:t>Practico el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18121" t="0" r="23056" b="55120"/>
          <a:stretch/>
        </p:blipFill>
        <p:spPr>
          <a:xfrm>
            <a:off x="684360" y="620640"/>
            <a:ext cx="2592360" cy="2392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Felipe R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342900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ego al balonces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Francisco Fábreg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292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ego al hock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70088" b="0"/>
          <a:stretch/>
        </p:blipFill>
        <p:spPr>
          <a:xfrm>
            <a:off x="954000" y="907920"/>
            <a:ext cx="1833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Shen Yanfe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371628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ego al teni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me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268280"/>
            <a:ext cx="23432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Sergio Muño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371628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actico la gimnas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2475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1773360"/>
            <a:ext cx="4608360" cy="3816360"/>
          </a:xfrm>
          <a:prstGeom prst="wedgeRoundRectCallout">
            <a:avLst>
              <a:gd name="adj1" fmla="val -63435"/>
              <a:gd name="adj2" fmla="val -41263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Tara Pache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71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actico la ve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6028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tletas Olím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7960" y="765000"/>
            <a:ext cx="218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22:48Z</dcterms:modified>
  <cp:revision>142</cp:revision>
  <dc:subject/>
  <dc:title>TITLE</dc:title>
</cp:coreProperties>
</file>