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8D9-F10B-417D-9D4A-1EC8E05903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7B5-DC57-4CB6-B885-A7423FA1A2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6307-9454-47A2-BCE6-A72D261DCE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6FC5-6A88-4996-BA1E-D7D0D73F94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86D8-C0F9-4A22-B792-A1ACCD75C8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0EB-A7BA-4CDC-836E-852775E062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5C7-41C4-489F-A304-4B05BB9F7E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DBC-76D5-4BDB-AFD5-FA863001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FCB-BD56-4798-93B4-15116A5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BC7-B2B9-44F3-8813-F5CD4E3F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3A0-8907-45C5-8260-7F5EC8FB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33D-F97A-468F-B15F-136B915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E1B-48BB-498C-888D-9FBABEB9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F99-8955-4846-8BC3-598FDDB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921-0063-4DD9-8188-2A775BE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279-AA1D-4AB7-843A-804B94D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195-A976-4784-98DA-17C0DE9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314-BF12-4280-84E6-B98A007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4E9-C3A8-404A-82E9-A1728AD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FA9-3B5B-40D0-9437-891FE2F41B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333360"/>
          <a:ext cx="8280360" cy="42148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y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9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baloncest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fútbol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hockey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rugby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squash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tenis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tenis de m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atletism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ciclism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equitación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gimnasia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natación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vel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4724280"/>
            <a:ext cx="828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play…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ff99"/>
                </a:solidFill>
                <a:latin typeface="Comic Sans MS"/>
              </a:rPr>
              <a:t>Juego al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…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ff99"/>
                </a:solidFill>
                <a:latin typeface="Comic Sans MS"/>
              </a:rPr>
              <a:t>Practico el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8121" t="0" r="23056" b="55120"/>
          <a:stretch/>
        </p:blipFill>
        <p:spPr>
          <a:xfrm>
            <a:off x="684360" y="620640"/>
            <a:ext cx="2592360" cy="239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Felipe R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342900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Francisco Fábre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292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hock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70088" b="0"/>
          <a:stretch/>
        </p:blipFill>
        <p:spPr>
          <a:xfrm>
            <a:off x="954000" y="907920"/>
            <a:ext cx="1833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Shen Yanfe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371628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teni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me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2343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Sergio Muño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71628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475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Tara Pache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71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actico la ve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7960" y="765000"/>
            <a:ext cx="218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22:48Z</dcterms:modified>
  <cp:revision>142</cp:revision>
  <dc:subject/>
  <dc:title>TITLE</dc:title>
</cp:coreProperties>
</file>