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2084-3AB3-4CBB-B050-3456952909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D10E-09DF-4385-8B8E-E9E79F60C5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EC7-A35E-43C1-B4B7-F831EA0BDF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825-64A2-4273-8898-3B80EC28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4CC-C9EB-480D-866A-86365A53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4F4-E7A9-4528-8335-A2992CAF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4A4-D9FA-4D66-A5AC-E9D46B52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655-CF49-415A-A5FF-15A1FADA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D85-475F-4551-BE4C-0C4AC9BE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F95-7445-42ED-A316-1582419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F52-5C82-4A64-853E-149AAF4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5E9-F1AB-4401-88E5-1FD78A15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187-277E-47F8-820F-4DC4F8D7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AE9-9482-4253-AE6D-FD1B7E3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14C-46F2-420A-9E35-FD16BD4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3F52-A2BE-4FDC-91CA-CD8365DDDC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MP900314406[1]"/>
          <p:cNvPicPr/>
          <p:nvPr/>
        </p:nvPicPr>
        <p:blipFill>
          <a:blip r:embed="rId1"/>
          <a:srcRect l="4724" t="0" r="0" b="3586"/>
          <a:stretch/>
        </p:blipFill>
        <p:spPr>
          <a:xfrm>
            <a:off x="4457880" y="3959280"/>
            <a:ext cx="2376360" cy="11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P900427743[1]"/>
          <p:cNvPicPr/>
          <p:nvPr/>
        </p:nvPicPr>
        <p:blipFill>
          <a:blip r:embed="rId2"/>
          <a:srcRect l="10707" t="22395" r="11858" b="9138"/>
          <a:stretch/>
        </p:blipFill>
        <p:spPr>
          <a:xfrm>
            <a:off x="539640" y="1042920"/>
            <a:ext cx="1527120" cy="13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P900427655[1]"/>
          <p:cNvPicPr/>
          <p:nvPr/>
        </p:nvPicPr>
        <p:blipFill>
          <a:blip r:embed="rId3"/>
          <a:srcRect l="14621" t="0" r="9789" b="0"/>
          <a:stretch/>
        </p:blipFill>
        <p:spPr>
          <a:xfrm>
            <a:off x="4527720" y="1074600"/>
            <a:ext cx="1522080" cy="146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Syrian%20Hamster"/>
          <p:cNvPicPr/>
          <p:nvPr/>
        </p:nvPicPr>
        <p:blipFill>
          <a:blip r:embed="rId4"/>
          <a:stretch/>
        </p:blipFill>
        <p:spPr>
          <a:xfrm>
            <a:off x="179280" y="3884760"/>
            <a:ext cx="2032200" cy="151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MP900427743[1]"/>
          <p:cNvPicPr/>
          <p:nvPr/>
        </p:nvPicPr>
        <p:blipFill>
          <a:blip r:embed="rId5"/>
          <a:srcRect l="10707" t="22395" r="11858" b="9138"/>
          <a:stretch/>
        </p:blipFill>
        <p:spPr>
          <a:xfrm>
            <a:off x="2066760" y="1042920"/>
            <a:ext cx="1527480" cy="13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MP900427655[1]"/>
          <p:cNvPicPr/>
          <p:nvPr/>
        </p:nvPicPr>
        <p:blipFill>
          <a:blip r:embed="rId6"/>
          <a:srcRect l="14621" t="0" r="9789" b="0"/>
          <a:stretch/>
        </p:blipFill>
        <p:spPr>
          <a:xfrm>
            <a:off x="6049800" y="1074600"/>
            <a:ext cx="1522440" cy="146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Syrian%20Hamster"/>
          <p:cNvPicPr/>
          <p:nvPr/>
        </p:nvPicPr>
        <p:blipFill>
          <a:blip r:embed="rId7"/>
          <a:stretch/>
        </p:blipFill>
        <p:spPr>
          <a:xfrm>
            <a:off x="1871640" y="3884760"/>
            <a:ext cx="203220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MP900314406[1]"/>
          <p:cNvPicPr/>
          <p:nvPr/>
        </p:nvPicPr>
        <p:blipFill>
          <a:blip r:embed="rId8"/>
          <a:srcRect l="4724" t="0" r="0" b="3586"/>
          <a:stretch/>
        </p:blipFill>
        <p:spPr>
          <a:xfrm>
            <a:off x="6624720" y="3959280"/>
            <a:ext cx="2376360" cy="111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87280" y="2711520"/>
            <a:ext cx="38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bay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278240" y="2711520"/>
            <a:ext cx="38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139680" y="575640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ámste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4788000" y="575640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at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39680" y="115920"/>
            <a:ext cx="886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plural = more than 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39680" y="115920"/>
            <a:ext cx="886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3"/>
                </a:solidFill>
                <a:latin typeface="Comic Sans MS"/>
              </a:rPr>
              <a:t>plural = more than 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39680" y="981000"/>
            <a:ext cx="886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2f4f4"/>
                </a:solidFill>
                <a:latin typeface="Comic Sans MS"/>
              </a:rPr>
              <a:t>       </a:t>
            </a:r>
            <a:r>
              <a:rPr b="0" lang="en-GB" sz="4400" spc="-1" strike="noStrike">
                <a:solidFill>
                  <a:srgbClr val="a5e9e9"/>
                </a:solidFill>
                <a:latin typeface="Comic Sans MS"/>
              </a:rPr>
              <a:t>ending in vowel: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dd </a:t>
            </a:r>
            <a:r>
              <a:rPr b="1" lang="en-GB" sz="4400" spc="-1" strike="noStrike">
                <a:solidFill>
                  <a:srgbClr val="fffffa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e9e9"/>
                </a:solidFill>
                <a:latin typeface="Comic Sans MS"/>
              </a:rPr>
              <a:t>ending in consonant: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add </a:t>
            </a:r>
            <a:r>
              <a:rPr b="1" lang="en-GB" sz="4400" spc="-1" strike="noStrike">
                <a:solidFill>
                  <a:srgbClr val="fffffa"/>
                </a:solidFill>
                <a:latin typeface="Comic Sans MS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24991" t="0" r="0" b="13939"/>
          <a:stretch/>
        </p:blipFill>
        <p:spPr>
          <a:xfrm>
            <a:off x="250920" y="5661000"/>
            <a:ext cx="1441440" cy="11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067280" y="2617920"/>
            <a:ext cx="144144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4067280" y="5661000"/>
            <a:ext cx="1441440" cy="95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1441440" cy="102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5"/>
          <a:srcRect l="0" t="0" r="11622" b="0"/>
          <a:stretch/>
        </p:blipFill>
        <p:spPr>
          <a:xfrm>
            <a:off x="250920" y="2684520"/>
            <a:ext cx="144144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6"/>
          <a:srcRect l="24154" t="0" r="15443" b="11863"/>
          <a:stretch/>
        </p:blipFill>
        <p:spPr>
          <a:xfrm>
            <a:off x="262080" y="4056120"/>
            <a:ext cx="1439640" cy="1395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2"/>
          <p:cNvSpPr/>
          <p:nvPr/>
        </p:nvSpPr>
        <p:spPr>
          <a:xfrm>
            <a:off x="1692360" y="284328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1692360" y="436896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ri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1692360" y="582624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ur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508720" y="284328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arac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508720" y="436896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erb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508720" y="5826240"/>
            <a:ext cx="38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rpie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8:05:40Z</dcterms:modified>
  <cp:revision>201</cp:revision>
  <dc:subject/>
  <dc:title>TITLE</dc:title>
</cp:coreProperties>
</file>