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49DF-17F3-41E7-83B0-2BE919FDD4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CC03-2784-4A88-B099-723DF6A3C15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6109-6F89-4320-B18E-816D26E550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D51-FE87-4BCE-B188-2E66471F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46F-8990-41FB-A799-169BC219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54C-8599-48ED-A02A-1DB5B052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1FE-E7C4-4FED-9B68-6FFD93A8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900-3733-4D45-9387-FA2326A5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E45-04F9-4515-B594-C2D7CEF6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E40-10E2-4858-9645-77D3E12E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CFE-FE60-456B-8881-D07C7E8B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400-3EE1-4511-BB6E-7AEB8687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15A-F7BE-4694-912A-E68B142D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047-E95B-4170-B5F3-82CDC135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755-AF99-46D2-9DBC-8E9DC5A0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03E0-6750-4618-A291-A8487AD2D2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3" descr="MP900314406[1]"/>
          <p:cNvPicPr/>
          <p:nvPr/>
        </p:nvPicPr>
        <p:blipFill>
          <a:blip r:embed="rId1"/>
          <a:srcRect l="4724" t="0" r="0" b="3586"/>
          <a:stretch/>
        </p:blipFill>
        <p:spPr>
          <a:xfrm>
            <a:off x="4457880" y="3959280"/>
            <a:ext cx="2376360" cy="11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MP900427743[1]"/>
          <p:cNvPicPr/>
          <p:nvPr/>
        </p:nvPicPr>
        <p:blipFill>
          <a:blip r:embed="rId2"/>
          <a:srcRect l="10707" t="22395" r="11858" b="9138"/>
          <a:stretch/>
        </p:blipFill>
        <p:spPr>
          <a:xfrm>
            <a:off x="539640" y="1042920"/>
            <a:ext cx="1527120" cy="1347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MP900427655[1]"/>
          <p:cNvPicPr/>
          <p:nvPr/>
        </p:nvPicPr>
        <p:blipFill>
          <a:blip r:embed="rId3"/>
          <a:srcRect l="14621" t="0" r="9789" b="0"/>
          <a:stretch/>
        </p:blipFill>
        <p:spPr>
          <a:xfrm>
            <a:off x="4527720" y="1074600"/>
            <a:ext cx="1522080" cy="146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Syrian%20Hamster"/>
          <p:cNvPicPr/>
          <p:nvPr/>
        </p:nvPicPr>
        <p:blipFill>
          <a:blip r:embed="rId4"/>
          <a:stretch/>
        </p:blipFill>
        <p:spPr>
          <a:xfrm>
            <a:off x="179280" y="3884760"/>
            <a:ext cx="2032200" cy="151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MP900427743[1]"/>
          <p:cNvPicPr/>
          <p:nvPr/>
        </p:nvPicPr>
        <p:blipFill>
          <a:blip r:embed="rId5"/>
          <a:srcRect l="10707" t="22395" r="11858" b="9138"/>
          <a:stretch/>
        </p:blipFill>
        <p:spPr>
          <a:xfrm>
            <a:off x="2066760" y="1042920"/>
            <a:ext cx="1527480" cy="13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MP900427655[1]"/>
          <p:cNvPicPr/>
          <p:nvPr/>
        </p:nvPicPr>
        <p:blipFill>
          <a:blip r:embed="rId6"/>
          <a:srcRect l="14621" t="0" r="9789" b="0"/>
          <a:stretch/>
        </p:blipFill>
        <p:spPr>
          <a:xfrm>
            <a:off x="6049800" y="1074600"/>
            <a:ext cx="1522440" cy="146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Syrian%20Hamster"/>
          <p:cNvPicPr/>
          <p:nvPr/>
        </p:nvPicPr>
        <p:blipFill>
          <a:blip r:embed="rId7"/>
          <a:stretch/>
        </p:blipFill>
        <p:spPr>
          <a:xfrm>
            <a:off x="1871640" y="3884760"/>
            <a:ext cx="2032200" cy="151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MP900314406[1]"/>
          <p:cNvPicPr/>
          <p:nvPr/>
        </p:nvPicPr>
        <p:blipFill>
          <a:blip r:embed="rId8"/>
          <a:srcRect l="4724" t="0" r="0" b="3586"/>
          <a:stretch/>
        </p:blipFill>
        <p:spPr>
          <a:xfrm>
            <a:off x="6624720" y="3959280"/>
            <a:ext cx="2376360" cy="111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287280" y="2711520"/>
            <a:ext cx="38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obay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4278240" y="2711520"/>
            <a:ext cx="38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at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139680" y="575640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ámste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4788000" y="575640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rato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39680" y="115920"/>
            <a:ext cx="886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plural = more than 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39680" y="115920"/>
            <a:ext cx="886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plural = more than 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139680" y="981000"/>
            <a:ext cx="886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2f4f4"/>
                </a:solidFill>
                <a:latin typeface="Comic Sans MS"/>
              </a:rPr>
              <a:t>       </a:t>
            </a:r>
            <a:r>
              <a:rPr b="0" lang="en-GB" sz="4400" spc="-1" strike="noStrike">
                <a:solidFill>
                  <a:srgbClr val="a5e9e9"/>
                </a:solidFill>
                <a:latin typeface="Comic Sans MS"/>
              </a:rPr>
              <a:t>ending in vowel: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add </a:t>
            </a:r>
            <a:r>
              <a:rPr b="1" lang="en-GB" sz="4400" spc="-1" strike="noStrike">
                <a:solidFill>
                  <a:srgbClr val="fffffa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e9e9"/>
                </a:solidFill>
                <a:latin typeface="Comic Sans MS"/>
              </a:rPr>
              <a:t>ending in consonant: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add </a:t>
            </a:r>
            <a:r>
              <a:rPr b="1" lang="en-GB" sz="4400" spc="-1" strike="noStrike">
                <a:solidFill>
                  <a:srgbClr val="fffffa"/>
                </a:solidFill>
                <a:latin typeface="Comic Sans MS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24991" t="0" r="0" b="13939"/>
          <a:stretch/>
        </p:blipFill>
        <p:spPr>
          <a:xfrm>
            <a:off x="250920" y="5661000"/>
            <a:ext cx="1441440" cy="1100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4067280" y="2617920"/>
            <a:ext cx="1441440" cy="115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4067280" y="5661000"/>
            <a:ext cx="1441440" cy="95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4"/>
          <a:stretch/>
        </p:blipFill>
        <p:spPr>
          <a:xfrm>
            <a:off x="4067280" y="4149720"/>
            <a:ext cx="1441440" cy="102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5"/>
          <a:srcRect l="0" t="0" r="11622" b="0"/>
          <a:stretch/>
        </p:blipFill>
        <p:spPr>
          <a:xfrm>
            <a:off x="250920" y="2684520"/>
            <a:ext cx="1441440" cy="1085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6"/>
          <a:srcRect l="24154" t="0" r="15443" b="11863"/>
          <a:stretch/>
        </p:blipFill>
        <p:spPr>
          <a:xfrm>
            <a:off x="262080" y="4056120"/>
            <a:ext cx="1439640" cy="1395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22"/>
          <p:cNvSpPr/>
          <p:nvPr/>
        </p:nvSpPr>
        <p:spPr>
          <a:xfrm>
            <a:off x="1692360" y="284328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r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23"/>
          <p:cNvSpPr/>
          <p:nvPr/>
        </p:nvSpPr>
        <p:spPr>
          <a:xfrm>
            <a:off x="1692360" y="436896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riz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24"/>
          <p:cNvSpPr/>
          <p:nvPr/>
        </p:nvSpPr>
        <p:spPr>
          <a:xfrm>
            <a:off x="1692360" y="582624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ur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5508720" y="284328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rac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5508720" y="436896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erb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5508720" y="582624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rpie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8:05:40Z</dcterms:modified>
  <cp:revision>201</cp:revision>
  <dc:subject/>
  <dc:title>TITLE</dc:title>
</cp:coreProperties>
</file>