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EDF2-B14D-472F-AD5F-E64395FAC9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380D-1808-4502-91A3-CF55683AFA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028-906E-4008-B8FF-E69C7C52A5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CA1-014F-4AE2-8FF0-3370FD8E62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7293-7CB0-4DD2-8466-CDEBDB6DC1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E87F-37D2-4E75-AC84-BE8FB0773E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590-B457-4D24-B343-BC8B39FA83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9FF-8AD2-40A8-8D96-C4533EBB34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1AA-C579-4F75-BFAE-2B3D84473B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06D-A782-426C-B74E-5FD78ECC10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2E3-C287-42A5-9C84-C002EFF5D9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B944-E313-47D8-BEAF-7065B5BE62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D16A-0FCD-455A-AF82-FE09A37FAE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582-521C-4CF1-A280-8940049BAB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DED4-206A-4C5D-AB8E-F546D03ED1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7B3-5C57-4B19-814D-F4ED53AA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7C9-6071-44EE-8688-5CAAFC21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E74-AA7D-4927-A953-4E5925F2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D02-F4AB-4D15-B342-3430FAA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16D-C450-4E79-AEA6-48BEBBB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41E-CF43-4125-87A4-A06BF932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B39-E332-4FB3-A090-A7ED2398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ED0-E30F-4771-82DF-FE45E219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325-98CE-4B5D-83D0-F924AE38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582-CAC9-4C5F-A850-F2270CF0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CE7-AD4E-4B62-9A7F-3FAF95D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821-CA2F-4FF0-8275-1EA8F19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A2F-DEBB-42A1-9338-FC83A64E03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r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raton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rat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058760" y="44280"/>
            <a:ext cx="70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hámster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hámste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058760" y="44280"/>
            <a:ext cx="70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nce pe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4660920" y="17874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raton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4643280" y="35956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nce pe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60920" y="2692440"/>
            <a:ext cx="48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hámster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714240" y="144000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ratón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324000" y="3633840"/>
            <a:ext cx="366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hámster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714240" y="581832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pez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Syrian%20Hamster"/>
          <p:cNvPicPr/>
          <p:nvPr/>
        </p:nvPicPr>
        <p:blipFill>
          <a:blip r:embed="rId1"/>
          <a:stretch/>
        </p:blipFill>
        <p:spPr>
          <a:xfrm>
            <a:off x="1071720" y="2117880"/>
            <a:ext cx="2031840" cy="151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MP900314406[1]"/>
          <p:cNvPicPr/>
          <p:nvPr/>
        </p:nvPicPr>
        <p:blipFill>
          <a:blip r:embed="rId2"/>
          <a:srcRect l="4724" t="0" r="0" b="3586"/>
          <a:stretch/>
        </p:blipFill>
        <p:spPr>
          <a:xfrm>
            <a:off x="900000" y="200160"/>
            <a:ext cx="2376720" cy="111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P910221097[1]"/>
          <p:cNvPicPr/>
          <p:nvPr/>
        </p:nvPicPr>
        <p:blipFill>
          <a:blip r:embed="rId3"/>
          <a:srcRect l="4601" t="1164" r="7079" b="8754"/>
          <a:stretch/>
        </p:blipFill>
        <p:spPr>
          <a:xfrm>
            <a:off x="1282680" y="4397400"/>
            <a:ext cx="1527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344520" y="2133720"/>
            <a:ext cx="854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 is the rul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24000" y="3191040"/>
            <a:ext cx="835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ords ending in a vowe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ff"/>
                </a:solidFill>
                <a:latin typeface="Comic Sans MS"/>
              </a:rPr>
              <a:t>add 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ords ending in a consonan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ff"/>
                </a:solidFill>
                <a:latin typeface="Comic Sans MS"/>
              </a:rPr>
              <a:t>add 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gat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e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r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z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gat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o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950760" y="44280"/>
            <a:ext cx="72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619280" y="218124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619280" y="503568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e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619280" y="293688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z per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619280" y="575640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o 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619280" y="14241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er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619280" y="431640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gat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7" descr="MP900427655[1]"/>
          <p:cNvPicPr/>
          <p:nvPr/>
        </p:nvPicPr>
        <p:blipFill>
          <a:blip r:embed="rId1"/>
          <a:srcRect l="14621" t="0" r="9789" b="0"/>
          <a:stretch/>
        </p:blipFill>
        <p:spPr>
          <a:xfrm>
            <a:off x="755640" y="422100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P900427623[1]"/>
          <p:cNvPicPr/>
          <p:nvPr/>
        </p:nvPicPr>
        <p:blipFill>
          <a:blip r:embed="rId2"/>
          <a:srcRect l="0" t="6235" r="0" b="0"/>
          <a:stretch/>
        </p:blipFill>
        <p:spPr>
          <a:xfrm>
            <a:off x="932040" y="1197000"/>
            <a:ext cx="1168200" cy="1709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29066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un per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184320" y="5710320"/>
            <a:ext cx="26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un g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conej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conej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os pája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pája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058760" y="115920"/>
            <a:ext cx="7021440" cy="46814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-324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Cuánt</a:t>
            </a: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 tortug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0" y="5721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iete tortug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4875120" y="189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perr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859280" y="19969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nueve gat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875120" y="10922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z perr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859280" y="29005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cho gat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859280" y="47084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is pájar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875120" y="38037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inco conejo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859280" y="56116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iete tortug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MP900427623[1]"/>
          <p:cNvPicPr/>
          <p:nvPr/>
        </p:nvPicPr>
        <p:blipFill>
          <a:blip r:embed="rId1"/>
          <a:srcRect l="0" t="6235" r="0" b="0"/>
          <a:stretch/>
        </p:blipFill>
        <p:spPr>
          <a:xfrm>
            <a:off x="250920" y="198360"/>
            <a:ext cx="1168200" cy="17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P900427655[1]"/>
          <p:cNvPicPr/>
          <p:nvPr/>
        </p:nvPicPr>
        <p:blipFill>
          <a:blip r:embed="rId2"/>
          <a:srcRect l="14621" t="0" r="9789" b="0"/>
          <a:stretch/>
        </p:blipFill>
        <p:spPr>
          <a:xfrm>
            <a:off x="2268360" y="189000"/>
            <a:ext cx="1522440" cy="146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P900430946[1]"/>
          <p:cNvPicPr/>
          <p:nvPr/>
        </p:nvPicPr>
        <p:blipFill>
          <a:blip r:embed="rId3"/>
          <a:srcRect l="28752" t="12688" r="26378" b="10021"/>
          <a:stretch/>
        </p:blipFill>
        <p:spPr>
          <a:xfrm>
            <a:off x="324000" y="2433600"/>
            <a:ext cx="1352520" cy="155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udgie"/>
          <p:cNvPicPr/>
          <p:nvPr/>
        </p:nvPicPr>
        <p:blipFill>
          <a:blip r:embed="rId4"/>
          <a:srcRect l="9947" t="8082" r="30463" b="6528"/>
          <a:stretch/>
        </p:blipFill>
        <p:spPr>
          <a:xfrm>
            <a:off x="2865600" y="2433600"/>
            <a:ext cx="1201680" cy="172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MP900314296[1]"/>
          <p:cNvPicPr/>
          <p:nvPr/>
        </p:nvPicPr>
        <p:blipFill>
          <a:blip r:embed="rId5"/>
          <a:srcRect l="2756" t="6867" r="2756" b="6867"/>
          <a:stretch/>
        </p:blipFill>
        <p:spPr>
          <a:xfrm>
            <a:off x="250920" y="4932360"/>
            <a:ext cx="2317680" cy="106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4"/>
          <p:cNvSpPr/>
          <p:nvPr/>
        </p:nvSpPr>
        <p:spPr>
          <a:xfrm>
            <a:off x="-324000" y="177948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perr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763640" y="177948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gat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-252360" y="4057560"/>
            <a:ext cx="26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conej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2163600" y="4057560"/>
            <a:ext cx="266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 pájar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0" y="5996160"/>
            <a:ext cx="2865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00"/>
                </a:solidFill>
                <a:latin typeface="Comic Sans MS"/>
              </a:rPr>
              <a:t>una tortuga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5-13T14:27:19Z</dcterms:modified>
  <cp:revision>193</cp:revision>
  <dc:subject/>
  <dc:title>TITLE</dc:title>
</cp:coreProperties>
</file>