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CF33-6E2E-4909-A9BC-33D67633355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F1D1-6AB9-4AC5-980C-7F97F5549E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E8CA-F718-4A83-8D68-C64A696D591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CFC6-6F4F-47F0-A78B-66CFD29D82D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CFE9-4BEC-4211-A8A3-E3EA5E83CC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C576-CD81-428A-9C2F-73D4762A04D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FCD5-41BF-4C45-8DEB-D913BF05F88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501F-5649-46B0-8B76-CB523F62418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BA03-A9A9-437F-BA30-DC83F652A5E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9A7A-2546-4FE4-B969-9C492A0109F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0084-6E04-4DC8-89B1-F39E6A663CE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3FE3-F3C2-4B2F-A99B-B63697321B5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0D6D-EEDB-429A-8453-EAB5ECDCF99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29AF-9761-4DCD-9DB2-8B4DC4B9AB2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5173-A0D1-4F7D-AF72-4CB2AD72E9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4056-89A6-4B5E-8746-E1CEC17E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2CBD-C059-4F17-BD08-6AE7DCA0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4C0-F57B-4F37-9D15-E00DD103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63EA-DD05-4E28-923A-09743EFE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CD50-4A01-4A82-8CA8-5EBF1ED9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67C-4975-4D3E-ADBD-65346662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27C0-4BD7-417E-8604-9C2582DB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AFC-8745-4BC4-B125-A1819FFC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667C-47FA-43D1-BE05-3D459360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FA07-2CE1-440E-94C1-0F62C518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CACB-8C27-4271-8053-96E6E6E8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8D1-F67B-4979-8709-F2D37D22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A32E-4EC3-4B28-90A6-A2FF007DFC7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950760" y="44280"/>
            <a:ext cx="7237440" cy="4824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-3240" y="4941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Cuántos perro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24"/>
          <p:cNvSpPr/>
          <p:nvPr/>
        </p:nvSpPr>
        <p:spPr>
          <a:xfrm>
            <a:off x="0" y="5721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inco per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-3240" y="4941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Cuántos raton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0" y="5721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eis rato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1058760" y="44280"/>
            <a:ext cx="7021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-3240" y="4941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Cuántos hámster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0" y="5721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inco hámste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1058760" y="44280"/>
            <a:ext cx="7021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-3240" y="4941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Cuántos pe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0" y="5721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nce pe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1058760" y="115920"/>
            <a:ext cx="7021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4660920" y="178740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eis raton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4643280" y="35956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nce pe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660920" y="2692440"/>
            <a:ext cx="48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inco hámster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Box 14"/>
          <p:cNvSpPr/>
          <p:nvPr/>
        </p:nvSpPr>
        <p:spPr>
          <a:xfrm>
            <a:off x="714240" y="1440000"/>
            <a:ext cx="266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00"/>
                </a:solidFill>
                <a:latin typeface="Comic Sans MS"/>
              </a:rPr>
              <a:t>un ratón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Box 15"/>
          <p:cNvSpPr/>
          <p:nvPr/>
        </p:nvSpPr>
        <p:spPr>
          <a:xfrm>
            <a:off x="324000" y="3633840"/>
            <a:ext cx="3665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00"/>
                </a:solidFill>
                <a:latin typeface="Comic Sans MS"/>
              </a:rPr>
              <a:t>un hámster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Box 16"/>
          <p:cNvSpPr/>
          <p:nvPr/>
        </p:nvSpPr>
        <p:spPr>
          <a:xfrm>
            <a:off x="714240" y="5818320"/>
            <a:ext cx="266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00"/>
                </a:solidFill>
                <a:latin typeface="Comic Sans MS"/>
              </a:rPr>
              <a:t>un pez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Picture 4" descr="Syrian%20Hamster"/>
          <p:cNvPicPr/>
          <p:nvPr/>
        </p:nvPicPr>
        <p:blipFill>
          <a:blip r:embed="rId1"/>
          <a:stretch/>
        </p:blipFill>
        <p:spPr>
          <a:xfrm>
            <a:off x="1071720" y="2117880"/>
            <a:ext cx="2031840" cy="1511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MP900314406[1]"/>
          <p:cNvPicPr/>
          <p:nvPr/>
        </p:nvPicPr>
        <p:blipFill>
          <a:blip r:embed="rId2"/>
          <a:srcRect l="4724" t="0" r="0" b="3586"/>
          <a:stretch/>
        </p:blipFill>
        <p:spPr>
          <a:xfrm>
            <a:off x="900000" y="200160"/>
            <a:ext cx="2376720" cy="1118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MP910221097[1]"/>
          <p:cNvPicPr/>
          <p:nvPr/>
        </p:nvPicPr>
        <p:blipFill>
          <a:blip r:embed="rId3"/>
          <a:srcRect l="4601" t="1164" r="7079" b="8754"/>
          <a:stretch/>
        </p:blipFill>
        <p:spPr>
          <a:xfrm>
            <a:off x="1282680" y="4397400"/>
            <a:ext cx="152712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344520" y="2133720"/>
            <a:ext cx="854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What is the rul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324000" y="3191040"/>
            <a:ext cx="8351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words ending in a vowe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ff"/>
                </a:solidFill>
                <a:latin typeface="Comic Sans MS"/>
              </a:rPr>
              <a:t>add 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words ending in a consonant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ff"/>
                </a:solidFill>
                <a:latin typeface="Comic Sans MS"/>
              </a:rPr>
              <a:t>add 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950760" y="44280"/>
            <a:ext cx="7237440" cy="482472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-3240" y="4941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Cuántos gato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24"/>
          <p:cNvSpPr/>
          <p:nvPr/>
        </p:nvSpPr>
        <p:spPr>
          <a:xfrm>
            <a:off x="0" y="5721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nueve gat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-3240" y="4941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Cuántos perro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24"/>
          <p:cNvSpPr/>
          <p:nvPr/>
        </p:nvSpPr>
        <p:spPr>
          <a:xfrm>
            <a:off x="0" y="5721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iez per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950760" y="44280"/>
            <a:ext cx="7237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-3240" y="4941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Cuántos gato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4"/>
          <p:cNvSpPr/>
          <p:nvPr/>
        </p:nvSpPr>
        <p:spPr>
          <a:xfrm>
            <a:off x="0" y="5721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ocho gat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950760" y="44280"/>
            <a:ext cx="7237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619280" y="2181240"/>
            <a:ext cx="75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inco per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1619280" y="5035680"/>
            <a:ext cx="75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nueve gat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619280" y="2936880"/>
            <a:ext cx="75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iez per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1619280" y="5756400"/>
            <a:ext cx="75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ocho gat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1619280" y="1424160"/>
            <a:ext cx="75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Cuántos perro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1619280" y="4316400"/>
            <a:ext cx="75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Cuántos gato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7" descr="MP900427655[1]"/>
          <p:cNvPicPr/>
          <p:nvPr/>
        </p:nvPicPr>
        <p:blipFill>
          <a:blip r:embed="rId1"/>
          <a:srcRect l="14621" t="0" r="9789" b="0"/>
          <a:stretch/>
        </p:blipFill>
        <p:spPr>
          <a:xfrm>
            <a:off x="755640" y="4221000"/>
            <a:ext cx="1522440" cy="146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MP900427623[1]"/>
          <p:cNvPicPr/>
          <p:nvPr/>
        </p:nvPicPr>
        <p:blipFill>
          <a:blip r:embed="rId2"/>
          <a:srcRect l="0" t="6235" r="0" b="0"/>
          <a:stretch/>
        </p:blipFill>
        <p:spPr>
          <a:xfrm>
            <a:off x="932040" y="1197000"/>
            <a:ext cx="1168200" cy="17096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250920" y="290664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un per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184320" y="5710320"/>
            <a:ext cx="26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un ga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1058760" y="115920"/>
            <a:ext cx="7021440" cy="468144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-3240" y="4941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Cuántos conejo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0" y="5721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inco conej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058760" y="115920"/>
            <a:ext cx="7021440" cy="468144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-3240" y="4941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Cuántos pájaro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0" y="5721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eis pája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1058760" y="115920"/>
            <a:ext cx="7021440" cy="468144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-3240" y="4941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Cuánt</a:t>
            </a: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s tortuga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0" y="5721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iete tortug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4875120" y="18900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inco perro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4859280" y="199692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nueve gato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4875120" y="109224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iez perro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4859280" y="290052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ocho gato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859280" y="470844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eis pájaro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875120" y="380376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inco conejo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4859280" y="56116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iete tortuga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5" descr="MP900427623[1]"/>
          <p:cNvPicPr/>
          <p:nvPr/>
        </p:nvPicPr>
        <p:blipFill>
          <a:blip r:embed="rId1"/>
          <a:srcRect l="0" t="6235" r="0" b="0"/>
          <a:stretch/>
        </p:blipFill>
        <p:spPr>
          <a:xfrm>
            <a:off x="250920" y="198360"/>
            <a:ext cx="1168200" cy="170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MP900427655[1]"/>
          <p:cNvPicPr/>
          <p:nvPr/>
        </p:nvPicPr>
        <p:blipFill>
          <a:blip r:embed="rId2"/>
          <a:srcRect l="14621" t="0" r="9789" b="0"/>
          <a:stretch/>
        </p:blipFill>
        <p:spPr>
          <a:xfrm>
            <a:off x="2268360" y="189000"/>
            <a:ext cx="1522440" cy="1466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MP900430946[1]"/>
          <p:cNvPicPr/>
          <p:nvPr/>
        </p:nvPicPr>
        <p:blipFill>
          <a:blip r:embed="rId3"/>
          <a:srcRect l="28752" t="12688" r="26378" b="10021"/>
          <a:stretch/>
        </p:blipFill>
        <p:spPr>
          <a:xfrm>
            <a:off x="324000" y="2433600"/>
            <a:ext cx="1352520" cy="155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budgie"/>
          <p:cNvPicPr/>
          <p:nvPr/>
        </p:nvPicPr>
        <p:blipFill>
          <a:blip r:embed="rId4"/>
          <a:srcRect l="9947" t="8082" r="30463" b="6528"/>
          <a:stretch/>
        </p:blipFill>
        <p:spPr>
          <a:xfrm>
            <a:off x="2865600" y="2433600"/>
            <a:ext cx="1201680" cy="172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MP900314296[1]"/>
          <p:cNvPicPr/>
          <p:nvPr/>
        </p:nvPicPr>
        <p:blipFill>
          <a:blip r:embed="rId5"/>
          <a:srcRect l="2756" t="6867" r="2756" b="6867"/>
          <a:stretch/>
        </p:blipFill>
        <p:spPr>
          <a:xfrm>
            <a:off x="250920" y="4932360"/>
            <a:ext cx="2317680" cy="1062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4"/>
          <p:cNvSpPr/>
          <p:nvPr/>
        </p:nvSpPr>
        <p:spPr>
          <a:xfrm>
            <a:off x="-324000" y="1779480"/>
            <a:ext cx="266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00"/>
                </a:solidFill>
                <a:latin typeface="Comic Sans MS"/>
              </a:rPr>
              <a:t>un perro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1763640" y="1779480"/>
            <a:ext cx="266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00"/>
                </a:solidFill>
                <a:latin typeface="Comic Sans MS"/>
              </a:rPr>
              <a:t>un gato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-252360" y="4057560"/>
            <a:ext cx="2663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00"/>
                </a:solidFill>
                <a:latin typeface="Comic Sans MS"/>
              </a:rPr>
              <a:t>un conejo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2163600" y="4057560"/>
            <a:ext cx="266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00"/>
                </a:solidFill>
                <a:latin typeface="Comic Sans MS"/>
              </a:rPr>
              <a:t>un pájaro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0" y="5996160"/>
            <a:ext cx="2865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00"/>
                </a:solidFill>
                <a:latin typeface="Comic Sans MS"/>
              </a:rPr>
              <a:t>una tortuga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5-13T14:27:19Z</dcterms:modified>
  <cp:revision>193</cp:revision>
  <dc:subject/>
  <dc:title>TITLE</dc:title>
</cp:coreProperties>
</file>