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D61E-9EA3-4D86-AA5E-AF3131854B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EBD5-F169-42CC-B16A-4C5DF4A425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1322-7F1F-4ACB-B4A9-D0B4C242E7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195-2A0A-48A5-9B7A-4B433391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D3A-2EB9-4D9E-B325-319C3755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8AA-6533-4228-8921-629F0094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5B0-EBB0-4BC4-B116-D6D7BC33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AAE-1642-45A9-A38B-03E9E293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EFD-DFFC-47E0-ABF2-5480907E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7D3-A993-43AA-82C2-ACF2487A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472-194E-4EAD-B285-18563208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6C3-3EC7-4D3C-8BE3-C20E5579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737-DD48-40F8-9769-E1F46C2C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687-309C-450D-B089-C9738D41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72C-E9BC-489B-BBB6-5671B5D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2A11-DA86-4BD5-9B33-ABAD717B54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2136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5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6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2" descr="MP900314296[1]"/>
          <p:cNvPicPr/>
          <p:nvPr/>
        </p:nvPicPr>
        <p:blipFill>
          <a:blip r:embed="rId1"/>
          <a:srcRect l="2756" t="6867" r="2756" b="6867"/>
          <a:stretch/>
        </p:blipFill>
        <p:spPr>
          <a:xfrm>
            <a:off x="6427800" y="4670280"/>
            <a:ext cx="2317680" cy="106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MP900314406[1]"/>
          <p:cNvPicPr/>
          <p:nvPr/>
        </p:nvPicPr>
        <p:blipFill>
          <a:blip r:embed="rId2"/>
          <a:srcRect l="4724" t="0" r="0" b="3586"/>
          <a:stretch/>
        </p:blipFill>
        <p:spPr>
          <a:xfrm>
            <a:off x="3564000" y="4546440"/>
            <a:ext cx="2376360" cy="111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910221097[1]"/>
          <p:cNvPicPr/>
          <p:nvPr/>
        </p:nvPicPr>
        <p:blipFill>
          <a:blip r:embed="rId3"/>
          <a:srcRect l="4601" t="1164" r="7079" b="8754"/>
          <a:stretch/>
        </p:blipFill>
        <p:spPr>
          <a:xfrm>
            <a:off x="900000" y="4505400"/>
            <a:ext cx="1527120" cy="139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P900427623[1]"/>
          <p:cNvPicPr/>
          <p:nvPr/>
        </p:nvPicPr>
        <p:blipFill>
          <a:blip r:embed="rId4"/>
          <a:srcRect l="0" t="6235" r="0" b="0"/>
          <a:stretch/>
        </p:blipFill>
        <p:spPr>
          <a:xfrm>
            <a:off x="6837480" y="2349360"/>
            <a:ext cx="1168200" cy="171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budgie"/>
          <p:cNvPicPr/>
          <p:nvPr/>
        </p:nvPicPr>
        <p:blipFill>
          <a:blip r:embed="rId5"/>
          <a:srcRect l="9947" t="8082" r="30463" b="6528"/>
          <a:stretch/>
        </p:blipFill>
        <p:spPr>
          <a:xfrm>
            <a:off x="3924360" y="2349360"/>
            <a:ext cx="1201680" cy="172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P900427743[1]"/>
          <p:cNvPicPr/>
          <p:nvPr/>
        </p:nvPicPr>
        <p:blipFill>
          <a:blip r:embed="rId6"/>
          <a:srcRect l="10707" t="22395" r="11858" b="9138"/>
          <a:stretch/>
        </p:blipFill>
        <p:spPr>
          <a:xfrm>
            <a:off x="900000" y="260280"/>
            <a:ext cx="1527120" cy="1347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MP900430946[1]"/>
          <p:cNvPicPr/>
          <p:nvPr/>
        </p:nvPicPr>
        <p:blipFill>
          <a:blip r:embed="rId7"/>
          <a:srcRect l="28752" t="12688" r="26378" b="10021"/>
          <a:stretch/>
        </p:blipFill>
        <p:spPr>
          <a:xfrm>
            <a:off x="4011480" y="260280"/>
            <a:ext cx="13525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MP900427655[1]"/>
          <p:cNvPicPr/>
          <p:nvPr/>
        </p:nvPicPr>
        <p:blipFill>
          <a:blip r:embed="rId8"/>
          <a:srcRect l="14621" t="0" r="9789" b="0"/>
          <a:stretch/>
        </p:blipFill>
        <p:spPr>
          <a:xfrm>
            <a:off x="6794640" y="260280"/>
            <a:ext cx="1522440" cy="146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Syrian%20Hamster"/>
          <p:cNvPicPr/>
          <p:nvPr/>
        </p:nvPicPr>
        <p:blipFill>
          <a:blip r:embed="rId9"/>
          <a:stretch/>
        </p:blipFill>
        <p:spPr>
          <a:xfrm>
            <a:off x="747720" y="2349360"/>
            <a:ext cx="2031840" cy="1511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79280" y="1528920"/>
            <a:ext cx="288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conejillo de India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3146400" y="1816200"/>
            <a:ext cx="28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conej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6027840" y="181620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ga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223920" y="393372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háms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3168720" y="3933720"/>
            <a:ext cx="28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pája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6049800" y="3933720"/>
            <a:ext cx="28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per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223920" y="602136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pe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3168720" y="6021360"/>
            <a:ext cx="28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rató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6049800" y="6021360"/>
            <a:ext cx="28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una tortug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2136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5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6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2" descr="MP900314296[1]"/>
          <p:cNvPicPr/>
          <p:nvPr/>
        </p:nvPicPr>
        <p:blipFill>
          <a:blip r:embed="rId1"/>
          <a:srcRect l="2756" t="6867" r="2756" b="6867"/>
          <a:stretch/>
        </p:blipFill>
        <p:spPr>
          <a:xfrm>
            <a:off x="6427800" y="4670280"/>
            <a:ext cx="2317680" cy="106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MP900314406[1]"/>
          <p:cNvPicPr/>
          <p:nvPr/>
        </p:nvPicPr>
        <p:blipFill>
          <a:blip r:embed="rId2"/>
          <a:srcRect l="4724" t="0" r="0" b="3586"/>
          <a:stretch/>
        </p:blipFill>
        <p:spPr>
          <a:xfrm>
            <a:off x="3564000" y="4546440"/>
            <a:ext cx="23763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MP910221097[1]"/>
          <p:cNvPicPr/>
          <p:nvPr/>
        </p:nvPicPr>
        <p:blipFill>
          <a:blip r:embed="rId3"/>
          <a:srcRect l="4601" t="1164" r="7079" b="8754"/>
          <a:stretch/>
        </p:blipFill>
        <p:spPr>
          <a:xfrm>
            <a:off x="900000" y="4505400"/>
            <a:ext cx="1527120" cy="139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MP900427623[1]"/>
          <p:cNvPicPr/>
          <p:nvPr/>
        </p:nvPicPr>
        <p:blipFill>
          <a:blip r:embed="rId4"/>
          <a:srcRect l="0" t="6235" r="0" b="0"/>
          <a:stretch/>
        </p:blipFill>
        <p:spPr>
          <a:xfrm>
            <a:off x="6837480" y="2349360"/>
            <a:ext cx="1168200" cy="171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budgie"/>
          <p:cNvPicPr/>
          <p:nvPr/>
        </p:nvPicPr>
        <p:blipFill>
          <a:blip r:embed="rId5"/>
          <a:srcRect l="9947" t="8082" r="30463" b="6528"/>
          <a:stretch/>
        </p:blipFill>
        <p:spPr>
          <a:xfrm>
            <a:off x="3924360" y="2349360"/>
            <a:ext cx="1201680" cy="172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P900427743[1]"/>
          <p:cNvPicPr/>
          <p:nvPr/>
        </p:nvPicPr>
        <p:blipFill>
          <a:blip r:embed="rId6"/>
          <a:srcRect l="10707" t="22395" r="11858" b="9138"/>
          <a:stretch/>
        </p:blipFill>
        <p:spPr>
          <a:xfrm>
            <a:off x="900000" y="260280"/>
            <a:ext cx="1527120" cy="134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MP900430946[1]"/>
          <p:cNvPicPr/>
          <p:nvPr/>
        </p:nvPicPr>
        <p:blipFill>
          <a:blip r:embed="rId7"/>
          <a:srcRect l="28752" t="12688" r="26378" b="10021"/>
          <a:stretch/>
        </p:blipFill>
        <p:spPr>
          <a:xfrm>
            <a:off x="4011480" y="260280"/>
            <a:ext cx="1352520" cy="155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P900427655[1]"/>
          <p:cNvPicPr/>
          <p:nvPr/>
        </p:nvPicPr>
        <p:blipFill>
          <a:blip r:embed="rId8"/>
          <a:srcRect l="14621" t="0" r="9789" b="0"/>
          <a:stretch/>
        </p:blipFill>
        <p:spPr>
          <a:xfrm>
            <a:off x="6794640" y="260280"/>
            <a:ext cx="1522440" cy="1467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Syrian%20Hamster"/>
          <p:cNvPicPr/>
          <p:nvPr/>
        </p:nvPicPr>
        <p:blipFill>
          <a:blip r:embed="rId9"/>
          <a:stretch/>
        </p:blipFill>
        <p:spPr>
          <a:xfrm>
            <a:off x="747720" y="2349360"/>
            <a:ext cx="2031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50:23Z</dcterms:modified>
  <cp:revision>180</cp:revision>
  <dc:subject/>
  <dc:title>TITLE</dc:title>
</cp:coreProperties>
</file>