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2379-D68D-4B77-B118-0B8FD7A06F1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CB8A-3ADB-48C1-9DAB-1643FD842C9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05CF-94BD-4DBB-AE6A-47A53589B2C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0FE5-764C-44B1-96C7-AECB266F100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5FB0-26F6-4221-B6E6-DE0A9BAF3AC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C599-4246-418F-9D11-133A264E083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7E10-E997-492B-89EB-723E9BAA56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EC4D-A23B-4AA4-941D-E8352BDEB8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2FE2-BD76-49BC-B156-D66CDD190B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9E51-CD78-42AB-B914-33B99E2E9BC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B7FB-1098-4E2C-A439-A278446597A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491B-BAB3-43CF-88F4-035CA064E6C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1950-4B75-4186-A521-CC3C40DBB6A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23B3-EA6F-4250-856A-0A5A6C56F9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A79D-AE1C-4819-BC79-598D45C6FB7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9A3F-EFF0-4E20-AFAD-A5E1677B974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236D-4C58-49F5-A2C3-6330D6DB2B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98E6-A773-457A-9A03-C39DB0CBC10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E7C1-5279-474F-B070-9AFCAC988F4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BD7C-06FC-4CE5-A3A6-0FD939274A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99F5-9BA6-4565-8264-DEF096B9BC0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0BE5-0CFC-4ED4-8511-A7E720649CC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395A-875C-4E50-AFBF-4C135E21F42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56BB-43EC-4C4C-A8C1-4809DBB4AE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09E0-D4A4-4C1E-8F35-57249574492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CC64-4894-4389-92B6-5E2FDA307DA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2A60-CA21-4F70-81FC-FD27AA8A541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DEB-1EAE-4F6A-9441-32E36A0A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CDF8-3434-4033-86E1-C12F80D1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037-8C55-4C1E-8F8C-3AC7633F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7F94-7CD5-412E-9826-7AA97073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8B60-667A-43D7-A0EB-5E6DEE66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E378-9E5E-498D-A4E1-FDFC5A62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8F84-A49E-48D3-886B-316CD487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D125-A5C7-44C4-9CAF-9D8E79B2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275A-587F-4D24-8A20-B076DF99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735-B425-47C2-B8F5-F9633B6C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A8E-78DE-4D08-BD42-6CE24824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C905-8AFC-4C70-A6F0-C15361A3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FCA2-8F55-4C05-AC1D-1CA3E33B6B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-17640" y="-10008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333360" y="404640"/>
            <a:ext cx="3360600" cy="251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3781440" cy="2521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5086440" y="3879720"/>
            <a:ext cx="3754440" cy="251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2"/>
          <p:cNvSpPr/>
          <p:nvPr/>
        </p:nvSpPr>
        <p:spPr>
          <a:xfrm>
            <a:off x="4797360" y="3573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271440" y="3573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179280" y="14112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948360" y="6308640"/>
            <a:ext cx="2195640" cy="549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41120" y="682560"/>
            <a:ext cx="3853080" cy="2314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5364000" y="4425840"/>
            <a:ext cx="3708720" cy="2459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9"/>
          <p:cNvSpPr/>
          <p:nvPr/>
        </p:nvSpPr>
        <p:spPr>
          <a:xfrm>
            <a:off x="179280" y="1890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5508720" y="4038480"/>
            <a:ext cx="57600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3"/>
          <a:stretch/>
        </p:blipFill>
        <p:spPr>
          <a:xfrm>
            <a:off x="271440" y="4206960"/>
            <a:ext cx="3651120" cy="25128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1"/>
          <p:cNvSpPr/>
          <p:nvPr/>
        </p:nvSpPr>
        <p:spPr>
          <a:xfrm>
            <a:off x="271440" y="3573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4"/>
          <a:stretch/>
        </p:blipFill>
        <p:spPr>
          <a:xfrm>
            <a:off x="5003640" y="1179360"/>
            <a:ext cx="3600720" cy="2610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0"/>
          <p:cNvSpPr/>
          <p:nvPr/>
        </p:nvSpPr>
        <p:spPr>
          <a:xfrm>
            <a:off x="4716360" y="90504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5148360" y="3562200"/>
            <a:ext cx="3814560" cy="352764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6948360" y="6308640"/>
            <a:ext cx="2195640" cy="549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41120" y="682560"/>
            <a:ext cx="3853080" cy="2314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5364000" y="4425840"/>
            <a:ext cx="3708720" cy="24591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9"/>
          <p:cNvSpPr/>
          <p:nvPr/>
        </p:nvSpPr>
        <p:spPr>
          <a:xfrm>
            <a:off x="179280" y="1890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5508720" y="4038480"/>
            <a:ext cx="57600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3"/>
          <a:stretch/>
        </p:blipFill>
        <p:spPr>
          <a:xfrm>
            <a:off x="271440" y="4206960"/>
            <a:ext cx="3651120" cy="2512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1"/>
          <p:cNvSpPr/>
          <p:nvPr/>
        </p:nvSpPr>
        <p:spPr>
          <a:xfrm>
            <a:off x="271440" y="3573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4"/>
          <a:stretch/>
        </p:blipFill>
        <p:spPr>
          <a:xfrm>
            <a:off x="5003640" y="1179360"/>
            <a:ext cx="3600720" cy="2610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0"/>
          <p:cNvSpPr/>
          <p:nvPr/>
        </p:nvSpPr>
        <p:spPr>
          <a:xfrm>
            <a:off x="4716360" y="90504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897440" y="574560"/>
            <a:ext cx="3813120" cy="352764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948360" y="6308640"/>
            <a:ext cx="2195640" cy="549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41120" y="682560"/>
            <a:ext cx="3853080" cy="231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5364000" y="4425840"/>
            <a:ext cx="3708720" cy="24591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9"/>
          <p:cNvSpPr/>
          <p:nvPr/>
        </p:nvSpPr>
        <p:spPr>
          <a:xfrm>
            <a:off x="179280" y="1890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5508720" y="4038480"/>
            <a:ext cx="57600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3"/>
          <a:stretch/>
        </p:blipFill>
        <p:spPr>
          <a:xfrm>
            <a:off x="271440" y="4206960"/>
            <a:ext cx="3651120" cy="2512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1"/>
          <p:cNvSpPr/>
          <p:nvPr/>
        </p:nvSpPr>
        <p:spPr>
          <a:xfrm>
            <a:off x="271440" y="3573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4"/>
          <a:stretch/>
        </p:blipFill>
        <p:spPr>
          <a:xfrm>
            <a:off x="5003640" y="1179360"/>
            <a:ext cx="3600720" cy="2610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0"/>
          <p:cNvSpPr/>
          <p:nvPr/>
        </p:nvSpPr>
        <p:spPr>
          <a:xfrm>
            <a:off x="4716360" y="90504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Oval 1"/>
          <p:cNvSpPr/>
          <p:nvPr/>
        </p:nvSpPr>
        <p:spPr>
          <a:xfrm>
            <a:off x="179280" y="189000"/>
            <a:ext cx="3814920" cy="352728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948360" y="6308640"/>
            <a:ext cx="2195640" cy="549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41120" y="682560"/>
            <a:ext cx="3853080" cy="231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5364000" y="4425840"/>
            <a:ext cx="3708720" cy="24591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9"/>
          <p:cNvSpPr/>
          <p:nvPr/>
        </p:nvSpPr>
        <p:spPr>
          <a:xfrm>
            <a:off x="179280" y="1890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5508720" y="4038480"/>
            <a:ext cx="57600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3"/>
          <a:stretch/>
        </p:blipFill>
        <p:spPr>
          <a:xfrm>
            <a:off x="271440" y="4206960"/>
            <a:ext cx="3651120" cy="25128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1"/>
          <p:cNvSpPr/>
          <p:nvPr/>
        </p:nvSpPr>
        <p:spPr>
          <a:xfrm>
            <a:off x="271440" y="3573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4"/>
          <a:stretch/>
        </p:blipFill>
        <p:spPr>
          <a:xfrm>
            <a:off x="5003640" y="1179360"/>
            <a:ext cx="3600720" cy="2610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20"/>
          <p:cNvSpPr/>
          <p:nvPr/>
        </p:nvSpPr>
        <p:spPr>
          <a:xfrm>
            <a:off x="4716360" y="90504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108000" y="3357720"/>
            <a:ext cx="3814560" cy="352728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1" descr=""/>
          <p:cNvPicPr/>
          <p:nvPr/>
        </p:nvPicPr>
        <p:blipFill>
          <a:blip r:embed="rId1"/>
          <a:stretch/>
        </p:blipFill>
        <p:spPr>
          <a:xfrm>
            <a:off x="2521080" y="3933720"/>
            <a:ext cx="4101840" cy="2733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4932360" y="480960"/>
            <a:ext cx="4102200" cy="3076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3670200" cy="30765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2"/>
          <p:cNvSpPr/>
          <p:nvPr/>
        </p:nvSpPr>
        <p:spPr>
          <a:xfrm>
            <a:off x="5508720" y="4038480"/>
            <a:ext cx="792000" cy="143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179280" y="1332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4643280" y="144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2521080" y="3933720"/>
            <a:ext cx="4101840" cy="2733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4932360" y="480960"/>
            <a:ext cx="4102200" cy="3076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3670200" cy="30765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22"/>
          <p:cNvSpPr/>
          <p:nvPr/>
        </p:nvSpPr>
        <p:spPr>
          <a:xfrm>
            <a:off x="5508720" y="4038480"/>
            <a:ext cx="792000" cy="143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179280" y="1332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4643280" y="144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2197080" y="3441600"/>
            <a:ext cx="3814920" cy="352908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2521080" y="3933720"/>
            <a:ext cx="4101840" cy="2733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4932360" y="480960"/>
            <a:ext cx="4102200" cy="3076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3670200" cy="30765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2"/>
          <p:cNvSpPr/>
          <p:nvPr/>
        </p:nvSpPr>
        <p:spPr>
          <a:xfrm>
            <a:off x="5508720" y="4038480"/>
            <a:ext cx="792000" cy="143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1"/>
          <p:cNvSpPr/>
          <p:nvPr/>
        </p:nvSpPr>
        <p:spPr>
          <a:xfrm>
            <a:off x="179280" y="1332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4643280" y="144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Oval 9"/>
          <p:cNvSpPr/>
          <p:nvPr/>
        </p:nvSpPr>
        <p:spPr>
          <a:xfrm>
            <a:off x="5075280" y="133200"/>
            <a:ext cx="3814560" cy="352764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2521080" y="3933720"/>
            <a:ext cx="4101840" cy="2733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"/>
          <p:cNvPicPr/>
          <p:nvPr/>
        </p:nvPicPr>
        <p:blipFill>
          <a:blip r:embed="rId2"/>
          <a:stretch/>
        </p:blipFill>
        <p:spPr>
          <a:xfrm>
            <a:off x="4932360" y="480960"/>
            <a:ext cx="4102200" cy="3076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3670200" cy="3076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22"/>
          <p:cNvSpPr/>
          <p:nvPr/>
        </p:nvSpPr>
        <p:spPr>
          <a:xfrm>
            <a:off x="5508720" y="4038480"/>
            <a:ext cx="792000" cy="143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179280" y="1332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643280" y="144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Oval 9"/>
          <p:cNvSpPr/>
          <p:nvPr/>
        </p:nvSpPr>
        <p:spPr>
          <a:xfrm>
            <a:off x="179280" y="189000"/>
            <a:ext cx="3814920" cy="352728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2521080" y="3933720"/>
            <a:ext cx="4101840" cy="2733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4932360" y="480960"/>
            <a:ext cx="4102200" cy="3076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3670200" cy="30765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2"/>
          <p:cNvSpPr/>
          <p:nvPr/>
        </p:nvSpPr>
        <p:spPr>
          <a:xfrm>
            <a:off x="5508720" y="4038480"/>
            <a:ext cx="792000" cy="143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179280" y="1332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4643280" y="144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5075280" y="133200"/>
            <a:ext cx="3814560" cy="352764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2521080" y="3933720"/>
            <a:ext cx="4101840" cy="2733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4932360" y="480960"/>
            <a:ext cx="4102200" cy="3076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3670200" cy="30765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22"/>
          <p:cNvSpPr/>
          <p:nvPr/>
        </p:nvSpPr>
        <p:spPr>
          <a:xfrm>
            <a:off x="5508720" y="4038480"/>
            <a:ext cx="792000" cy="143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179280" y="1332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4643280" y="144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9"/>
          <p:cNvSpPr/>
          <p:nvPr/>
        </p:nvSpPr>
        <p:spPr>
          <a:xfrm>
            <a:off x="179280" y="189000"/>
            <a:ext cx="3814920" cy="352728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-17640" y="-10008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338040"/>
            <a:ext cx="9113760" cy="61153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-17640" y="-100080"/>
            <a:ext cx="9166320" cy="3429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-36360" y="4797360"/>
            <a:ext cx="9165960" cy="2087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-36360" y="2349360"/>
            <a:ext cx="4752720" cy="3816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7020000" y="2351160"/>
            <a:ext cx="2160360" cy="38178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2521080" y="3933720"/>
            <a:ext cx="4101840" cy="2733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4932360" y="480960"/>
            <a:ext cx="4102200" cy="3076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3670200" cy="30765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2"/>
          <p:cNvSpPr/>
          <p:nvPr/>
        </p:nvSpPr>
        <p:spPr>
          <a:xfrm>
            <a:off x="5508720" y="4038480"/>
            <a:ext cx="792000" cy="143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179280" y="1332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4643280" y="144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2197080" y="3441600"/>
            <a:ext cx="3814920" cy="352908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231" name="Rounded Rectangle 12"/>
          <p:cNvSpPr/>
          <p:nvPr/>
        </p:nvSpPr>
        <p:spPr>
          <a:xfrm>
            <a:off x="5692680" y="907920"/>
            <a:ext cx="2060640" cy="1873440"/>
          </a:xfrm>
          <a:prstGeom prst="roundRect">
            <a:avLst>
              <a:gd name="adj" fmla="val 7963"/>
            </a:avLst>
          </a:prstGeom>
          <a:noFill/>
          <a:ln w="76320">
            <a:solidFill>
              <a:srgbClr val="e608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36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246" name="Rounded Rectangle 12"/>
          <p:cNvSpPr/>
          <p:nvPr/>
        </p:nvSpPr>
        <p:spPr>
          <a:xfrm>
            <a:off x="4673520" y="2855880"/>
            <a:ext cx="2060640" cy="1871640"/>
          </a:xfrm>
          <a:prstGeom prst="roundRect">
            <a:avLst>
              <a:gd name="adj" fmla="val 7963"/>
            </a:avLst>
          </a:prstGeom>
          <a:noFill/>
          <a:ln w="76320">
            <a:solidFill>
              <a:srgbClr val="e608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51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261" name="Rounded Rectangle 12"/>
          <p:cNvSpPr/>
          <p:nvPr/>
        </p:nvSpPr>
        <p:spPr>
          <a:xfrm>
            <a:off x="5703840" y="4819680"/>
            <a:ext cx="2060640" cy="1873080"/>
          </a:xfrm>
          <a:prstGeom prst="roundRect">
            <a:avLst>
              <a:gd name="adj" fmla="val 7963"/>
            </a:avLst>
          </a:prstGeom>
          <a:noFill/>
          <a:ln w="76320">
            <a:solidFill>
              <a:srgbClr val="e608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276" name="Rounded Rectangle 12"/>
          <p:cNvSpPr/>
          <p:nvPr/>
        </p:nvSpPr>
        <p:spPr>
          <a:xfrm>
            <a:off x="2587680" y="2852640"/>
            <a:ext cx="2060640" cy="1871640"/>
          </a:xfrm>
          <a:prstGeom prst="roundRect">
            <a:avLst>
              <a:gd name="adj" fmla="val 7963"/>
            </a:avLst>
          </a:prstGeom>
          <a:noFill/>
          <a:ln w="76320">
            <a:solidFill>
              <a:srgbClr val="e608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81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291" name="Rounded Rectangle 12"/>
          <p:cNvSpPr/>
          <p:nvPr/>
        </p:nvSpPr>
        <p:spPr>
          <a:xfrm>
            <a:off x="6756480" y="2855880"/>
            <a:ext cx="2060640" cy="1871640"/>
          </a:xfrm>
          <a:prstGeom prst="roundRect">
            <a:avLst>
              <a:gd name="adj" fmla="val 7963"/>
            </a:avLst>
          </a:prstGeom>
          <a:noFill/>
          <a:ln w="76320">
            <a:solidFill>
              <a:srgbClr val="e608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296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306" name="Rounded Rectangle 12"/>
          <p:cNvSpPr/>
          <p:nvPr/>
        </p:nvSpPr>
        <p:spPr>
          <a:xfrm>
            <a:off x="1557360" y="4805280"/>
            <a:ext cx="2060640" cy="1873440"/>
          </a:xfrm>
          <a:prstGeom prst="roundRect">
            <a:avLst>
              <a:gd name="adj" fmla="val 7963"/>
            </a:avLst>
          </a:prstGeom>
          <a:noFill/>
          <a:ln w="76320">
            <a:solidFill>
              <a:srgbClr val="e608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11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321" name="Rounded Rectangle 12"/>
          <p:cNvSpPr/>
          <p:nvPr/>
        </p:nvSpPr>
        <p:spPr>
          <a:xfrm>
            <a:off x="3668760" y="907920"/>
            <a:ext cx="2060640" cy="1873440"/>
          </a:xfrm>
          <a:prstGeom prst="roundRect">
            <a:avLst>
              <a:gd name="adj" fmla="val 7963"/>
            </a:avLst>
          </a:prstGeom>
          <a:noFill/>
          <a:ln w="76320">
            <a:solidFill>
              <a:srgbClr val="e608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26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336" name="Rounded Rectangle 12"/>
          <p:cNvSpPr/>
          <p:nvPr/>
        </p:nvSpPr>
        <p:spPr>
          <a:xfrm>
            <a:off x="1557360" y="907920"/>
            <a:ext cx="2060640" cy="1873440"/>
          </a:xfrm>
          <a:prstGeom prst="roundRect">
            <a:avLst>
              <a:gd name="adj" fmla="val 7963"/>
            </a:avLst>
          </a:prstGeom>
          <a:noFill/>
          <a:ln w="76320">
            <a:solidFill>
              <a:srgbClr val="e608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41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351" name="Rounded Rectangle 12"/>
          <p:cNvSpPr/>
          <p:nvPr/>
        </p:nvSpPr>
        <p:spPr>
          <a:xfrm>
            <a:off x="3639960" y="4805280"/>
            <a:ext cx="2060640" cy="1873440"/>
          </a:xfrm>
          <a:prstGeom prst="roundRect">
            <a:avLst>
              <a:gd name="adj" fmla="val 7963"/>
            </a:avLst>
          </a:prstGeom>
          <a:noFill/>
          <a:ln w="76320">
            <a:solidFill>
              <a:srgbClr val="e608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0"/>
          <p:cNvSpPr/>
          <p:nvPr/>
        </p:nvSpPr>
        <p:spPr>
          <a:xfrm>
            <a:off x="-17640" y="-10008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-4428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-17640" y="-100080"/>
            <a:ext cx="9166320" cy="3816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-36360" y="4797360"/>
            <a:ext cx="9165960" cy="2087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-36360" y="2349360"/>
            <a:ext cx="2708280" cy="3816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5076720" y="2351160"/>
            <a:ext cx="4103640" cy="38178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574640" y="479736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539640" y="2852640"/>
          <a:ext cx="828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74640" y="907920"/>
          <a:ext cx="6210360" cy="19447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56" name="Picture 7" descr=""/>
          <p:cNvPicPr/>
          <p:nvPr/>
        </p:nvPicPr>
        <p:blipFill>
          <a:blip r:embed="rId1"/>
          <a:stretch/>
        </p:blipFill>
        <p:spPr>
          <a:xfrm>
            <a:off x="5796000" y="5373720"/>
            <a:ext cx="1920960" cy="12794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"/>
          <p:cNvPicPr/>
          <p:nvPr/>
        </p:nvPicPr>
        <p:blipFill>
          <a:blip r:embed="rId2"/>
          <a:stretch/>
        </p:blipFill>
        <p:spPr>
          <a:xfrm>
            <a:off x="3708360" y="5234040"/>
            <a:ext cx="1925640" cy="14446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"/>
          <p:cNvPicPr/>
          <p:nvPr/>
        </p:nvPicPr>
        <p:blipFill>
          <a:blip r:embed="rId3"/>
          <a:stretch/>
        </p:blipFill>
        <p:spPr>
          <a:xfrm>
            <a:off x="1763640" y="5229360"/>
            <a:ext cx="1728720" cy="1449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" descr=""/>
          <p:cNvPicPr/>
          <p:nvPr/>
        </p:nvPicPr>
        <p:blipFill>
          <a:blip r:embed="rId4"/>
          <a:stretch/>
        </p:blipFill>
        <p:spPr>
          <a:xfrm>
            <a:off x="1692360" y="137160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"/>
          <p:cNvPicPr/>
          <p:nvPr/>
        </p:nvPicPr>
        <p:blipFill>
          <a:blip r:embed="rId5"/>
          <a:stretch/>
        </p:blipFill>
        <p:spPr>
          <a:xfrm>
            <a:off x="3708360" y="1371600"/>
            <a:ext cx="1925640" cy="12826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6"/>
          <a:stretch/>
        </p:blipFill>
        <p:spPr>
          <a:xfrm>
            <a:off x="5796000" y="1371600"/>
            <a:ext cx="1878120" cy="12589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1" descr=""/>
          <p:cNvPicPr/>
          <p:nvPr/>
        </p:nvPicPr>
        <p:blipFill>
          <a:blip r:embed="rId7"/>
          <a:stretch/>
        </p:blipFill>
        <p:spPr>
          <a:xfrm>
            <a:off x="611280" y="3357720"/>
            <a:ext cx="1892160" cy="11365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5" descr=""/>
          <p:cNvPicPr/>
          <p:nvPr/>
        </p:nvPicPr>
        <p:blipFill>
          <a:blip r:embed="rId8"/>
          <a:stretch/>
        </p:blipFill>
        <p:spPr>
          <a:xfrm>
            <a:off x="6804000" y="3321000"/>
            <a:ext cx="1900440" cy="1260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6" descr=""/>
          <p:cNvPicPr/>
          <p:nvPr/>
        </p:nvPicPr>
        <p:blipFill>
          <a:blip r:embed="rId9"/>
          <a:stretch/>
        </p:blipFill>
        <p:spPr>
          <a:xfrm>
            <a:off x="4792680" y="3363840"/>
            <a:ext cx="1873080" cy="12891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7" descr=""/>
          <p:cNvPicPr/>
          <p:nvPr/>
        </p:nvPicPr>
        <p:blipFill>
          <a:blip r:embed="rId10"/>
          <a:stretch/>
        </p:blipFill>
        <p:spPr>
          <a:xfrm>
            <a:off x="2700360" y="3321000"/>
            <a:ext cx="1836720" cy="1332000"/>
          </a:xfrm>
          <a:prstGeom prst="rect">
            <a:avLst/>
          </a:prstGeom>
          <a:ln w="0">
            <a:noFill/>
          </a:ln>
        </p:spPr>
      </p:pic>
      <p:sp>
        <p:nvSpPr>
          <p:cNvPr id="366" name="Rounded Rectangle 12"/>
          <p:cNvSpPr/>
          <p:nvPr/>
        </p:nvSpPr>
        <p:spPr>
          <a:xfrm>
            <a:off x="527040" y="2852640"/>
            <a:ext cx="2060640" cy="1871640"/>
          </a:xfrm>
          <a:prstGeom prst="roundRect">
            <a:avLst>
              <a:gd name="adj" fmla="val 7963"/>
            </a:avLst>
          </a:prstGeom>
          <a:noFill/>
          <a:ln w="76320">
            <a:solidFill>
              <a:srgbClr val="e608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"/>
          <p:cNvSpPr/>
          <p:nvPr/>
        </p:nvSpPr>
        <p:spPr>
          <a:xfrm>
            <a:off x="-17640" y="-100080"/>
            <a:ext cx="9144000" cy="69580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17640" y="325440"/>
            <a:ext cx="9191880" cy="61279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-17640" y="-100080"/>
            <a:ext cx="9166320" cy="3816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-36360" y="4797360"/>
            <a:ext cx="9165960" cy="2087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-36360" y="2349360"/>
            <a:ext cx="3600360" cy="3816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6084720" y="2351160"/>
            <a:ext cx="3095640" cy="38178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41120" y="682560"/>
            <a:ext cx="3853080" cy="23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364000" y="4425840"/>
            <a:ext cx="3708720" cy="24591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9"/>
          <p:cNvSpPr/>
          <p:nvPr/>
        </p:nvSpPr>
        <p:spPr>
          <a:xfrm>
            <a:off x="179280" y="1890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5508720" y="4038480"/>
            <a:ext cx="57600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3"/>
          <a:stretch/>
        </p:blipFill>
        <p:spPr>
          <a:xfrm>
            <a:off x="271440" y="4206960"/>
            <a:ext cx="3651120" cy="2512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1"/>
          <p:cNvSpPr/>
          <p:nvPr/>
        </p:nvSpPr>
        <p:spPr>
          <a:xfrm>
            <a:off x="271440" y="3573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4"/>
          <a:stretch/>
        </p:blipFill>
        <p:spPr>
          <a:xfrm>
            <a:off x="5003640" y="1179360"/>
            <a:ext cx="3600720" cy="2610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0"/>
          <p:cNvSpPr/>
          <p:nvPr/>
        </p:nvSpPr>
        <p:spPr>
          <a:xfrm>
            <a:off x="4716360" y="90504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948360" y="6308640"/>
            <a:ext cx="2195640" cy="549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141120" y="682560"/>
            <a:ext cx="3853080" cy="2314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5364000" y="4425840"/>
            <a:ext cx="3708720" cy="2459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9"/>
          <p:cNvSpPr/>
          <p:nvPr/>
        </p:nvSpPr>
        <p:spPr>
          <a:xfrm>
            <a:off x="179280" y="1890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5508720" y="4038480"/>
            <a:ext cx="57600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3"/>
          <a:stretch/>
        </p:blipFill>
        <p:spPr>
          <a:xfrm>
            <a:off x="271440" y="4206960"/>
            <a:ext cx="3651120" cy="2512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1"/>
          <p:cNvSpPr/>
          <p:nvPr/>
        </p:nvSpPr>
        <p:spPr>
          <a:xfrm>
            <a:off x="271440" y="3573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5003640" y="1179360"/>
            <a:ext cx="3600720" cy="2610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0"/>
          <p:cNvSpPr/>
          <p:nvPr/>
        </p:nvSpPr>
        <p:spPr>
          <a:xfrm>
            <a:off x="4716360" y="90504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Oval 10"/>
          <p:cNvSpPr/>
          <p:nvPr/>
        </p:nvSpPr>
        <p:spPr>
          <a:xfrm>
            <a:off x="4897440" y="574560"/>
            <a:ext cx="3813120" cy="352764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948360" y="6308640"/>
            <a:ext cx="2195640" cy="549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41120" y="682560"/>
            <a:ext cx="3853080" cy="2314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5364000" y="4425840"/>
            <a:ext cx="3708720" cy="2459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9"/>
          <p:cNvSpPr/>
          <p:nvPr/>
        </p:nvSpPr>
        <p:spPr>
          <a:xfrm>
            <a:off x="179280" y="1890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5508720" y="4038480"/>
            <a:ext cx="57600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3"/>
          <a:stretch/>
        </p:blipFill>
        <p:spPr>
          <a:xfrm>
            <a:off x="271440" y="4206960"/>
            <a:ext cx="3651120" cy="2512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1"/>
          <p:cNvSpPr/>
          <p:nvPr/>
        </p:nvSpPr>
        <p:spPr>
          <a:xfrm>
            <a:off x="271440" y="3573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4"/>
          <a:stretch/>
        </p:blipFill>
        <p:spPr>
          <a:xfrm>
            <a:off x="5003640" y="1179360"/>
            <a:ext cx="3600720" cy="2610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0"/>
          <p:cNvSpPr/>
          <p:nvPr/>
        </p:nvSpPr>
        <p:spPr>
          <a:xfrm>
            <a:off x="4716360" y="90504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108000" y="3357720"/>
            <a:ext cx="3814560" cy="352728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948360" y="6308640"/>
            <a:ext cx="2195640" cy="549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41120" y="682560"/>
            <a:ext cx="3853080" cy="23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5364000" y="4425840"/>
            <a:ext cx="3708720" cy="2459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9"/>
          <p:cNvSpPr/>
          <p:nvPr/>
        </p:nvSpPr>
        <p:spPr>
          <a:xfrm>
            <a:off x="179280" y="1890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5508720" y="4038480"/>
            <a:ext cx="57600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3"/>
          <a:stretch/>
        </p:blipFill>
        <p:spPr>
          <a:xfrm>
            <a:off x="271440" y="4206960"/>
            <a:ext cx="3651120" cy="25128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1"/>
          <p:cNvSpPr/>
          <p:nvPr/>
        </p:nvSpPr>
        <p:spPr>
          <a:xfrm>
            <a:off x="271440" y="3573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4"/>
          <a:stretch/>
        </p:blipFill>
        <p:spPr>
          <a:xfrm>
            <a:off x="5003640" y="1179360"/>
            <a:ext cx="3600720" cy="2610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0"/>
          <p:cNvSpPr/>
          <p:nvPr/>
        </p:nvSpPr>
        <p:spPr>
          <a:xfrm>
            <a:off x="4716360" y="90504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5148360" y="3562200"/>
            <a:ext cx="3814560" cy="352764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948360" y="6308640"/>
            <a:ext cx="2195640" cy="549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41120" y="682560"/>
            <a:ext cx="3853080" cy="231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5364000" y="4425840"/>
            <a:ext cx="3708720" cy="24591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9"/>
          <p:cNvSpPr/>
          <p:nvPr/>
        </p:nvSpPr>
        <p:spPr>
          <a:xfrm>
            <a:off x="179280" y="18900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5508720" y="4038480"/>
            <a:ext cx="57600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271440" y="4206960"/>
            <a:ext cx="3651120" cy="2512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1"/>
          <p:cNvSpPr/>
          <p:nvPr/>
        </p:nvSpPr>
        <p:spPr>
          <a:xfrm>
            <a:off x="271440" y="357336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4"/>
          <a:stretch/>
        </p:blipFill>
        <p:spPr>
          <a:xfrm>
            <a:off x="5003640" y="1179360"/>
            <a:ext cx="3600720" cy="2610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0"/>
          <p:cNvSpPr/>
          <p:nvPr/>
        </p:nvSpPr>
        <p:spPr>
          <a:xfrm>
            <a:off x="4716360" y="905040"/>
            <a:ext cx="576360" cy="764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Oval 1"/>
          <p:cNvSpPr/>
          <p:nvPr/>
        </p:nvSpPr>
        <p:spPr>
          <a:xfrm>
            <a:off x="179280" y="189000"/>
            <a:ext cx="3814920" cy="352728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26:13Z</dcterms:modified>
  <cp:revision>141</cp:revision>
  <dc:subject/>
  <dc:title>TITLE</dc:title>
</cp:coreProperties>
</file>