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8A97-5C4A-4228-963F-729B430607A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0714-D77C-44A5-A387-9B36FA9C598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406A-0DE9-4286-9C77-2184F2D638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E80C-7557-41EC-98C4-A7E0854637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CC4B-3746-4619-9B67-71AFC8218E0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34DB-B823-4596-A0E0-869C2D7536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B702-977F-482C-A193-1FBDE5062A3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A866-1273-45AF-B766-F95C096471F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A27A-BC76-4066-BEF4-B236AED42A7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8AD4-F27B-486B-A1D4-BDD12F2B950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F055-C1DA-4EC6-9669-F690710C10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052E-6288-4E38-AA58-9296454FCCD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DF7F-8BAE-48E3-B55D-B66A15C56B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468A-2F39-41CC-A257-71E238B1652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14A0-FC90-4EB7-B920-05936EE2A06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7F26-FA82-42CF-A53C-7EC34E6D11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7094-22C2-4877-9F40-3ADE8F717E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CB31-5887-4976-B442-BA67F46A9C0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61A6-84A9-49CD-AE4B-B9BB0883B3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085A-A58D-4FC2-A4E5-D9E826AE603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17AF-4852-4F41-B0FB-F3F6D1386BB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44B6-8D2F-427A-A39E-93FE60468B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DB38-4B11-4602-BA76-630E458120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0713-BCCC-4186-ACD5-187E12431A9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7BE1-0DE0-4CA6-990B-FAA59D1F930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A20D-78AA-4EF9-9BF3-CEEB7DB1C7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92F0-474E-4322-9ABA-7C744CED8B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0D7-415F-4C05-B85F-05B8EDFF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B7C-0691-4D17-8F41-90ACF541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379-B8B5-40A0-86FF-D86C270F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86C-1E37-48B8-8EED-90C584B8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593B-43B8-4B60-A22B-65B9F165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CCBB-AC94-4DEE-A006-36091122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003-0AED-48D0-BE00-A709BC65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256-59DA-4849-BA91-51B6D0F6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63F-2A1B-4665-8E0D-512CA8C8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B05-6CCD-40EA-94DB-F6407779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FB1-BFDA-4219-A04C-4B4746AA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8D3-9A59-4059-9FD6-4915BE28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A2A1-0710-43DA-93EF-E266ADCC688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-17640" y="-10008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33360" y="404640"/>
            <a:ext cx="3360600" cy="251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3781440" cy="2521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5086440" y="3879720"/>
            <a:ext cx="3754440" cy="251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2"/>
          <p:cNvSpPr/>
          <p:nvPr/>
        </p:nvSpPr>
        <p:spPr>
          <a:xfrm>
            <a:off x="479736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179280" y="14112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948360" y="6308640"/>
            <a:ext cx="219564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41120" y="682560"/>
            <a:ext cx="3853080" cy="2314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5364000" y="4425840"/>
            <a:ext cx="3708720" cy="2459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9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5508720" y="4038480"/>
            <a:ext cx="57600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3"/>
          <a:stretch/>
        </p:blipFill>
        <p:spPr>
          <a:xfrm>
            <a:off x="271440" y="4206960"/>
            <a:ext cx="3651120" cy="25128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4"/>
          <a:stretch/>
        </p:blipFill>
        <p:spPr>
          <a:xfrm>
            <a:off x="5003640" y="1179360"/>
            <a:ext cx="3600720" cy="2610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0"/>
          <p:cNvSpPr/>
          <p:nvPr/>
        </p:nvSpPr>
        <p:spPr>
          <a:xfrm>
            <a:off x="4716360" y="90504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5148360" y="3562200"/>
            <a:ext cx="3814560" cy="352764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948360" y="6308640"/>
            <a:ext cx="219564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41120" y="682560"/>
            <a:ext cx="3853080" cy="2314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5364000" y="4425840"/>
            <a:ext cx="3708720" cy="2459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9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5508720" y="4038480"/>
            <a:ext cx="57600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3"/>
          <a:stretch/>
        </p:blipFill>
        <p:spPr>
          <a:xfrm>
            <a:off x="271440" y="4206960"/>
            <a:ext cx="3651120" cy="2512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4"/>
          <a:stretch/>
        </p:blipFill>
        <p:spPr>
          <a:xfrm>
            <a:off x="5003640" y="1179360"/>
            <a:ext cx="3600720" cy="2610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0"/>
          <p:cNvSpPr/>
          <p:nvPr/>
        </p:nvSpPr>
        <p:spPr>
          <a:xfrm>
            <a:off x="4716360" y="90504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897440" y="574560"/>
            <a:ext cx="3813120" cy="352764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948360" y="6308640"/>
            <a:ext cx="219564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41120" y="682560"/>
            <a:ext cx="3853080" cy="23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5364000" y="4425840"/>
            <a:ext cx="3708720" cy="2459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9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5508720" y="4038480"/>
            <a:ext cx="57600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3"/>
          <a:stretch/>
        </p:blipFill>
        <p:spPr>
          <a:xfrm>
            <a:off x="271440" y="4206960"/>
            <a:ext cx="3651120" cy="2512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4"/>
          <a:stretch/>
        </p:blipFill>
        <p:spPr>
          <a:xfrm>
            <a:off x="5003640" y="1179360"/>
            <a:ext cx="3600720" cy="2610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0"/>
          <p:cNvSpPr/>
          <p:nvPr/>
        </p:nvSpPr>
        <p:spPr>
          <a:xfrm>
            <a:off x="4716360" y="90504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Oval 1"/>
          <p:cNvSpPr/>
          <p:nvPr/>
        </p:nvSpPr>
        <p:spPr>
          <a:xfrm>
            <a:off x="179280" y="189000"/>
            <a:ext cx="3814920" cy="352728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948360" y="6308640"/>
            <a:ext cx="219564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41120" y="682560"/>
            <a:ext cx="3853080" cy="231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5364000" y="4425840"/>
            <a:ext cx="3708720" cy="24591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9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5508720" y="4038480"/>
            <a:ext cx="57600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3"/>
          <a:stretch/>
        </p:blipFill>
        <p:spPr>
          <a:xfrm>
            <a:off x="271440" y="4206960"/>
            <a:ext cx="3651120" cy="25128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4"/>
          <a:stretch/>
        </p:blipFill>
        <p:spPr>
          <a:xfrm>
            <a:off x="5003640" y="1179360"/>
            <a:ext cx="3600720" cy="2610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0"/>
          <p:cNvSpPr/>
          <p:nvPr/>
        </p:nvSpPr>
        <p:spPr>
          <a:xfrm>
            <a:off x="4716360" y="90504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108000" y="3357720"/>
            <a:ext cx="3814560" cy="352728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1" descr=""/>
          <p:cNvPicPr/>
          <p:nvPr/>
        </p:nvPicPr>
        <p:blipFill>
          <a:blip r:embed="rId1"/>
          <a:stretch/>
        </p:blipFill>
        <p:spPr>
          <a:xfrm>
            <a:off x="2521080" y="3933720"/>
            <a:ext cx="4101840" cy="2733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4932360" y="480960"/>
            <a:ext cx="4102200" cy="3076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670200" cy="30765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2"/>
          <p:cNvSpPr/>
          <p:nvPr/>
        </p:nvSpPr>
        <p:spPr>
          <a:xfrm>
            <a:off x="5508720" y="4038480"/>
            <a:ext cx="792000" cy="143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179280" y="1332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4643280" y="144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2521080" y="3933720"/>
            <a:ext cx="4101840" cy="2733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4932360" y="480960"/>
            <a:ext cx="4102200" cy="3076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670200" cy="30765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22"/>
          <p:cNvSpPr/>
          <p:nvPr/>
        </p:nvSpPr>
        <p:spPr>
          <a:xfrm>
            <a:off x="5508720" y="4038480"/>
            <a:ext cx="792000" cy="143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179280" y="1332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4643280" y="144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2197080" y="3441600"/>
            <a:ext cx="3814920" cy="352908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2521080" y="3933720"/>
            <a:ext cx="4101840" cy="2733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4932360" y="480960"/>
            <a:ext cx="4102200" cy="3076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670200" cy="30765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2"/>
          <p:cNvSpPr/>
          <p:nvPr/>
        </p:nvSpPr>
        <p:spPr>
          <a:xfrm>
            <a:off x="5508720" y="4038480"/>
            <a:ext cx="792000" cy="143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179280" y="1332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4643280" y="144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Oval 9"/>
          <p:cNvSpPr/>
          <p:nvPr/>
        </p:nvSpPr>
        <p:spPr>
          <a:xfrm>
            <a:off x="5075280" y="133200"/>
            <a:ext cx="3814560" cy="352764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2521080" y="3933720"/>
            <a:ext cx="4101840" cy="2733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4932360" y="480960"/>
            <a:ext cx="4102200" cy="3076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670200" cy="3076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22"/>
          <p:cNvSpPr/>
          <p:nvPr/>
        </p:nvSpPr>
        <p:spPr>
          <a:xfrm>
            <a:off x="5508720" y="4038480"/>
            <a:ext cx="792000" cy="143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179280" y="1332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643280" y="144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Oval 9"/>
          <p:cNvSpPr/>
          <p:nvPr/>
        </p:nvSpPr>
        <p:spPr>
          <a:xfrm>
            <a:off x="179280" y="189000"/>
            <a:ext cx="3814920" cy="352728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2521080" y="3933720"/>
            <a:ext cx="4101840" cy="2733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4932360" y="480960"/>
            <a:ext cx="4102200" cy="3076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670200" cy="30765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2"/>
          <p:cNvSpPr/>
          <p:nvPr/>
        </p:nvSpPr>
        <p:spPr>
          <a:xfrm>
            <a:off x="5508720" y="4038480"/>
            <a:ext cx="792000" cy="143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79280" y="1332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4643280" y="144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5075280" y="133200"/>
            <a:ext cx="3814560" cy="352764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2521080" y="3933720"/>
            <a:ext cx="4101840" cy="2733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4932360" y="480960"/>
            <a:ext cx="4102200" cy="3076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670200" cy="30765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2"/>
          <p:cNvSpPr/>
          <p:nvPr/>
        </p:nvSpPr>
        <p:spPr>
          <a:xfrm>
            <a:off x="5508720" y="4038480"/>
            <a:ext cx="792000" cy="143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179280" y="1332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4643280" y="144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179280" y="189000"/>
            <a:ext cx="3814920" cy="352728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-17640" y="-10008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338040"/>
            <a:ext cx="9113760" cy="6115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-17640" y="-100080"/>
            <a:ext cx="9166320" cy="3429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-36360" y="4797360"/>
            <a:ext cx="9165960" cy="2087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36360" y="2349360"/>
            <a:ext cx="4752720" cy="3816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7020000" y="2351160"/>
            <a:ext cx="2160360" cy="3817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2521080" y="3933720"/>
            <a:ext cx="4101840" cy="2733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4932360" y="480960"/>
            <a:ext cx="4102200" cy="3076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670200" cy="30765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2"/>
          <p:cNvSpPr/>
          <p:nvPr/>
        </p:nvSpPr>
        <p:spPr>
          <a:xfrm>
            <a:off x="5508720" y="4038480"/>
            <a:ext cx="792000" cy="143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179280" y="1332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4643280" y="144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2197080" y="3441600"/>
            <a:ext cx="3814920" cy="352908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231" name="Rounded Rectangle 12"/>
          <p:cNvSpPr/>
          <p:nvPr/>
        </p:nvSpPr>
        <p:spPr>
          <a:xfrm>
            <a:off x="5692680" y="907920"/>
            <a:ext cx="2060640" cy="187344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36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246" name="Rounded Rectangle 12"/>
          <p:cNvSpPr/>
          <p:nvPr/>
        </p:nvSpPr>
        <p:spPr>
          <a:xfrm>
            <a:off x="4673520" y="2855880"/>
            <a:ext cx="2060640" cy="187164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51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261" name="Rounded Rectangle 12"/>
          <p:cNvSpPr/>
          <p:nvPr/>
        </p:nvSpPr>
        <p:spPr>
          <a:xfrm>
            <a:off x="5703840" y="4819680"/>
            <a:ext cx="2060640" cy="187308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276" name="Rounded Rectangle 12"/>
          <p:cNvSpPr/>
          <p:nvPr/>
        </p:nvSpPr>
        <p:spPr>
          <a:xfrm>
            <a:off x="2587680" y="2852640"/>
            <a:ext cx="2060640" cy="187164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81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291" name="Rounded Rectangle 12"/>
          <p:cNvSpPr/>
          <p:nvPr/>
        </p:nvSpPr>
        <p:spPr>
          <a:xfrm>
            <a:off x="6756480" y="2855880"/>
            <a:ext cx="2060640" cy="187164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96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306" name="Rounded Rectangle 12"/>
          <p:cNvSpPr/>
          <p:nvPr/>
        </p:nvSpPr>
        <p:spPr>
          <a:xfrm>
            <a:off x="1557360" y="4805280"/>
            <a:ext cx="2060640" cy="187344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11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321" name="Rounded Rectangle 12"/>
          <p:cNvSpPr/>
          <p:nvPr/>
        </p:nvSpPr>
        <p:spPr>
          <a:xfrm>
            <a:off x="3668760" y="907920"/>
            <a:ext cx="2060640" cy="187344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26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336" name="Rounded Rectangle 12"/>
          <p:cNvSpPr/>
          <p:nvPr/>
        </p:nvSpPr>
        <p:spPr>
          <a:xfrm>
            <a:off x="1557360" y="907920"/>
            <a:ext cx="2060640" cy="187344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41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351" name="Rounded Rectangle 12"/>
          <p:cNvSpPr/>
          <p:nvPr/>
        </p:nvSpPr>
        <p:spPr>
          <a:xfrm>
            <a:off x="3639960" y="4805280"/>
            <a:ext cx="2060640" cy="187344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0"/>
          <p:cNvSpPr/>
          <p:nvPr/>
        </p:nvSpPr>
        <p:spPr>
          <a:xfrm>
            <a:off x="-17640" y="-10008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-4428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-17640" y="-100080"/>
            <a:ext cx="9166320" cy="3816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-36360" y="4797360"/>
            <a:ext cx="9165960" cy="2087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-36360" y="2349360"/>
            <a:ext cx="2708280" cy="3816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5076720" y="2351160"/>
            <a:ext cx="4103640" cy="3817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56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366" name="Rounded Rectangle 12"/>
          <p:cNvSpPr/>
          <p:nvPr/>
        </p:nvSpPr>
        <p:spPr>
          <a:xfrm>
            <a:off x="527040" y="2852640"/>
            <a:ext cx="2060640" cy="187164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"/>
          <p:cNvSpPr/>
          <p:nvPr/>
        </p:nvSpPr>
        <p:spPr>
          <a:xfrm>
            <a:off x="-17640" y="-100080"/>
            <a:ext cx="9144000" cy="6958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7640" y="325440"/>
            <a:ext cx="9191880" cy="6127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-17640" y="-100080"/>
            <a:ext cx="9166320" cy="3816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-36360" y="4797360"/>
            <a:ext cx="9165960" cy="2087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-36360" y="2349360"/>
            <a:ext cx="3600360" cy="3816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6084720" y="2351160"/>
            <a:ext cx="3095640" cy="3817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41120" y="682560"/>
            <a:ext cx="3853080" cy="23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364000" y="4425840"/>
            <a:ext cx="3708720" cy="24591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9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5508720" y="4038480"/>
            <a:ext cx="57600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3"/>
          <a:stretch/>
        </p:blipFill>
        <p:spPr>
          <a:xfrm>
            <a:off x="271440" y="4206960"/>
            <a:ext cx="3651120" cy="2512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5003640" y="1179360"/>
            <a:ext cx="3600720" cy="2610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0"/>
          <p:cNvSpPr/>
          <p:nvPr/>
        </p:nvSpPr>
        <p:spPr>
          <a:xfrm>
            <a:off x="4716360" y="90504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948360" y="6308640"/>
            <a:ext cx="219564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141120" y="682560"/>
            <a:ext cx="3853080" cy="2314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5364000" y="4425840"/>
            <a:ext cx="3708720" cy="2459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9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5508720" y="4038480"/>
            <a:ext cx="57600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3"/>
          <a:stretch/>
        </p:blipFill>
        <p:spPr>
          <a:xfrm>
            <a:off x="271440" y="4206960"/>
            <a:ext cx="3651120" cy="2512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5003640" y="1179360"/>
            <a:ext cx="3600720" cy="2610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0"/>
          <p:cNvSpPr/>
          <p:nvPr/>
        </p:nvSpPr>
        <p:spPr>
          <a:xfrm>
            <a:off x="4716360" y="90504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Oval 10"/>
          <p:cNvSpPr/>
          <p:nvPr/>
        </p:nvSpPr>
        <p:spPr>
          <a:xfrm>
            <a:off x="4897440" y="574560"/>
            <a:ext cx="3813120" cy="352764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948360" y="6308640"/>
            <a:ext cx="219564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41120" y="682560"/>
            <a:ext cx="3853080" cy="2314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5364000" y="4425840"/>
            <a:ext cx="3708720" cy="2459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9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5508720" y="4038480"/>
            <a:ext cx="57600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3"/>
          <a:stretch/>
        </p:blipFill>
        <p:spPr>
          <a:xfrm>
            <a:off x="271440" y="4206960"/>
            <a:ext cx="3651120" cy="2512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4"/>
          <a:stretch/>
        </p:blipFill>
        <p:spPr>
          <a:xfrm>
            <a:off x="5003640" y="1179360"/>
            <a:ext cx="3600720" cy="2610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0"/>
          <p:cNvSpPr/>
          <p:nvPr/>
        </p:nvSpPr>
        <p:spPr>
          <a:xfrm>
            <a:off x="4716360" y="90504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108000" y="3357720"/>
            <a:ext cx="3814560" cy="352728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948360" y="6308640"/>
            <a:ext cx="219564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41120" y="682560"/>
            <a:ext cx="3853080" cy="23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5364000" y="4425840"/>
            <a:ext cx="3708720" cy="2459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9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5508720" y="4038480"/>
            <a:ext cx="57600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3"/>
          <a:stretch/>
        </p:blipFill>
        <p:spPr>
          <a:xfrm>
            <a:off x="271440" y="4206960"/>
            <a:ext cx="3651120" cy="25128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4"/>
          <a:stretch/>
        </p:blipFill>
        <p:spPr>
          <a:xfrm>
            <a:off x="5003640" y="1179360"/>
            <a:ext cx="3600720" cy="2610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0"/>
          <p:cNvSpPr/>
          <p:nvPr/>
        </p:nvSpPr>
        <p:spPr>
          <a:xfrm>
            <a:off x="4716360" y="90504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5148360" y="3562200"/>
            <a:ext cx="3814560" cy="352764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948360" y="6308640"/>
            <a:ext cx="219564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41120" y="682560"/>
            <a:ext cx="3853080" cy="231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5364000" y="4425840"/>
            <a:ext cx="3708720" cy="24591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9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5508720" y="4038480"/>
            <a:ext cx="57600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271440" y="4206960"/>
            <a:ext cx="3651120" cy="2512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4"/>
          <a:stretch/>
        </p:blipFill>
        <p:spPr>
          <a:xfrm>
            <a:off x="5003640" y="1179360"/>
            <a:ext cx="3600720" cy="2610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0"/>
          <p:cNvSpPr/>
          <p:nvPr/>
        </p:nvSpPr>
        <p:spPr>
          <a:xfrm>
            <a:off x="4716360" y="90504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Oval 1"/>
          <p:cNvSpPr/>
          <p:nvPr/>
        </p:nvSpPr>
        <p:spPr>
          <a:xfrm>
            <a:off x="179280" y="189000"/>
            <a:ext cx="3814920" cy="352728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26:13Z</dcterms:modified>
  <cp:revision>141</cp:revision>
  <dc:subject/>
  <dc:title>TITLE</dc:title>
</cp:coreProperties>
</file>