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3C11-E132-4D42-965F-E33042CF8C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F622-0BB3-4B3D-AA61-AEA3DD93ED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074-01B7-4775-AD2B-DB0F7B05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8A6-0A4B-4453-B2D8-63D80F6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82A-050D-46CD-ACF8-CD0BFC76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E14-43D7-4AFA-9AC4-63171F27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B2B4-B08F-41D6-8A12-F8FF9B38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A768-E7FF-4BAE-8F0F-38ED5A15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3F2C-3E6F-49DB-8CF0-22CBA771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DAD-9FC7-46F6-AB82-9C2D046C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4E02-29A7-43B9-8640-AA93E6BF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835-5A11-40DC-8B41-576ED49B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0F52-8070-4F9F-9825-91440C6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822-E3C3-4ED1-9BA3-8AA3FF64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25DA-7333-4715-B76D-84FFFC0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6329-12C9-4882-A81D-8299AD6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2551-2DA9-45A4-908E-A0A0457C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BE3C-B939-4C6D-8DBC-A8698F12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DFAD-9CE4-43E9-8682-2DA020FB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F2B-0D3F-4B9C-9BBE-54E540E7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606-6746-4148-8763-C3089B9F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05A-CDEB-4450-AB97-8F0A6DE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FB1-B9A8-4FCB-AA1C-8E84E1D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822-D71B-490C-BE53-6E8B510E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68E-E866-4FB6-8703-C009463E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92A-92F5-489A-83D7-3E50669B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D3B6-FBCD-4651-ADF6-356E2E9012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B39A-F71C-4276-8CA6-B2B4039ADE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35080" y="1938240"/>
          <a:ext cx="6605640" cy="4392720"/>
        </p:xfrm>
        <a:graphic>
          <a:graphicData uri="http://schemas.openxmlformats.org/drawingml/2006/table">
            <a:tbl>
              <a:tblPr/>
              <a:tblGrid>
                <a:gridCol w="2201760"/>
                <a:gridCol w="2202120"/>
                <a:gridCol w="2201760"/>
              </a:tblGrid>
              <a:tr h="2197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19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90840" y="4508640"/>
            <a:ext cx="1715760" cy="1118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573880" y="4149720"/>
            <a:ext cx="3462120" cy="2735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185840" y="3468600"/>
            <a:ext cx="20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3381480" y="34686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5573880" y="346860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201680" y="566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3440160" y="566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2"/>
          <a:srcRect l="42680" t="14952" r="20113" b="25387"/>
          <a:stretch/>
        </p:blipFill>
        <p:spPr>
          <a:xfrm>
            <a:off x="1692360" y="1974960"/>
            <a:ext cx="1511280" cy="162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rcRect l="26781" t="8585" r="0" b="0"/>
          <a:stretch/>
        </p:blipFill>
        <p:spPr>
          <a:xfrm>
            <a:off x="3925800" y="2060640"/>
            <a:ext cx="1559160" cy="129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4"/>
          <a:srcRect l="25176" t="11156" r="24330" b="7831"/>
          <a:stretch/>
        </p:blipFill>
        <p:spPr>
          <a:xfrm>
            <a:off x="6084720" y="2008080"/>
            <a:ext cx="1419480" cy="15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rcRect l="0" t="0" r="0" b="47148"/>
          <a:stretch/>
        </p:blipFill>
        <p:spPr>
          <a:xfrm>
            <a:off x="3917880" y="4292640"/>
            <a:ext cx="1533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46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rcRect l="42676" t="14951" r="20114" b="25389"/>
          <a:stretch/>
        </p:blipFill>
        <p:spPr>
          <a:xfrm>
            <a:off x="6084720" y="3429000"/>
            <a:ext cx="2664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52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57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2"/>
          <a:srcRect l="25173" t="11158" r="24334" b="7824"/>
          <a:stretch/>
        </p:blipFill>
        <p:spPr>
          <a:xfrm>
            <a:off x="6087960" y="3429000"/>
            <a:ext cx="26607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04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13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rcRect l="26766" t="8595" r="0" b="0"/>
          <a:stretch/>
        </p:blipFill>
        <p:spPr>
          <a:xfrm>
            <a:off x="6372360" y="4005360"/>
            <a:ext cx="2393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19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24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992920" y="417672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0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5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rcRect l="0" t="0" r="0" b="47149"/>
          <a:stretch/>
        </p:blipFill>
        <p:spPr>
          <a:xfrm>
            <a:off x="5810400" y="4076640"/>
            <a:ext cx="2962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Oval Callout 3"/>
          <p:cNvSpPr/>
          <p:nvPr/>
        </p:nvSpPr>
        <p:spPr>
          <a:xfrm>
            <a:off x="372960" y="4292640"/>
            <a:ext cx="2706840" cy="172872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41" name="Oval Callout 6"/>
          <p:cNvSpPr/>
          <p:nvPr/>
        </p:nvSpPr>
        <p:spPr>
          <a:xfrm>
            <a:off x="3851280" y="168120"/>
            <a:ext cx="3470400" cy="2087640"/>
          </a:xfrm>
          <a:prstGeom prst="wedgeEllipseCallout">
            <a:avLst>
              <a:gd name="adj1" fmla="val -71351"/>
              <a:gd name="adj2" fmla="val -500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¡ Tengo hambre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3419640" y="4772160"/>
            <a:ext cx="2166840" cy="764280"/>
          </a:xfrm>
          <a:prstGeom prst="rect">
            <a:avLst/>
          </a:prstGeom>
          <a:solidFill>
            <a:srgbClr val="ffff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6:08Z</dcterms:modified>
  <cp:revision>174</cp:revision>
  <dc:subject/>
  <dc:title>TITLE</dc:title>
</cp:coreProperties>
</file>