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DAE-6487-4D3A-BD1D-CDC2B4A2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883-E23E-4C67-8F4A-746FE7E3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AD8-886E-4CFA-8CB3-71393543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4E1-1DB9-4582-A46D-92EAD078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162-B441-4843-B12C-58726652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E32-2F3C-4A63-A3CC-D214249D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473-4596-4312-B58A-76479E00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0CE-35D0-482D-B971-B51137FB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18B-088D-4DF6-B823-24FCFC96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048-C895-4275-A9FD-9D4C3F08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3DE-47AB-4F7A-9709-8185A729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3C6-6119-454F-B40D-15AADD5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4E37-F27F-4523-8919-5FE1E2D2E8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887480" y="1773360"/>
            <a:ext cx="2246400" cy="2246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2251080" cy="2246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711440" y="4437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jue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762440" y="44370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prac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uego al fútbo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15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uego al baloncest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083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ractico la equitaci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986120" y="765000"/>
            <a:ext cx="4962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uego al tenis de mes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876320" y="836640"/>
            <a:ext cx="4927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ractico la nataci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4975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ractico la gimnasi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1436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0" y="4005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uego al tenis de mesa y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ractico el atlet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39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o practico el cicl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59748" t="0" r="0" b="0"/>
          <a:stretch/>
        </p:blipFill>
        <p:spPr>
          <a:xfrm>
            <a:off x="1979640" y="981000"/>
            <a:ext cx="49291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15:59Z</dcterms:modified>
  <cp:revision>171</cp:revision>
  <dc:subject/>
  <dc:title>TITLE</dc:title>
</cp:coreProperties>
</file>