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D31-4D98-4E3C-8DFE-C28B01F6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713-8549-4613-8B4C-CEDDBBA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85F-523C-49E0-BBC0-FE38EAE4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9EC-DBA2-4E90-B190-1781B209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C5B-8C06-45AA-AB73-4DF3C82F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3AB-F38B-46FF-A4E9-B12D7A73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E47-24CA-4CD6-9007-01E1788D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7B7-42DC-4964-9A69-65674A09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B3E-4708-4908-A724-273BDCE1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383-B6D1-4C46-825C-9B39DA9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E3C-83E3-4E9B-89E3-432D87B0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616-8B3D-4033-A566-F05DCA27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04E-DC38-4DAE-817F-8BCE7B9E1B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887480" y="1773360"/>
            <a:ext cx="2246400" cy="2246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2251080" cy="2246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711440" y="4437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jue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762440" y="44370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prac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uego al fútbo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15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uego al balonces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083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actico la equitaci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986120" y="765000"/>
            <a:ext cx="4962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uego al tenis de mes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876320" y="836640"/>
            <a:ext cx="4927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actico la nataci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4975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actico la gimnasi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1436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0" y="4005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uego al tenis de mesa y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actico el atlet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39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o practico el cicl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59748" t="0" r="0" b="0"/>
          <a:stretch/>
        </p:blipFill>
        <p:spPr>
          <a:xfrm>
            <a:off x="1979640" y="981000"/>
            <a:ext cx="49291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15:59Z</dcterms:modified>
  <cp:revision>171</cp:revision>
  <dc:subject/>
  <dc:title>TITLE</dc:title>
</cp:coreProperties>
</file>