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C3A5-6BB4-4690-9097-AB93F8A555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AFBF-2417-449F-8B76-94B2F566EC3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8D71-D8FA-415C-9E74-4091C5AA61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022-C50F-4755-B069-AAD5E414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887-E4AE-4779-817E-A26EC38C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9BA-FC44-4D17-B3DA-C8457CB0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DFB-860E-408C-89A9-C6311A11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297-4D0E-4433-8E98-B7F2FCB1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04E-CCE0-42D4-A8C8-D1C6C9EF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80D-2B9C-42DC-A7B6-8E4053CC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50B-8FAC-45AD-8506-8739FF85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EB5-EC9E-43D4-BFCA-CEC2AE82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1D0-807B-4E5A-A063-10AA3C5A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885-150A-4F61-9A2F-97225D66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3F6-A421-484C-87EE-BD267D1A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68A2-E4E7-4CE5-9864-41EA82CDD2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765000"/>
          <a:ext cx="8713800" cy="597708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  <a:gridCol w="2178000"/>
              </a:tblGrid>
              <a:tr h="199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2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2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" name="TextBox 2"/>
          <p:cNvSpPr/>
          <p:nvPr/>
        </p:nvSpPr>
        <p:spPr>
          <a:xfrm>
            <a:off x="0" y="44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Cómo se llama?     Se llama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544760" y="3284640"/>
            <a:ext cx="6121440" cy="70380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sert into each box a picture of a cartoon or film character with which the children will be famili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765000"/>
          <a:ext cx="8713800" cy="597708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  <a:gridCol w="2178000"/>
              </a:tblGrid>
              <a:tr h="1992600"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2240"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2240"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" name="TextBox 16"/>
          <p:cNvSpPr/>
          <p:nvPr/>
        </p:nvSpPr>
        <p:spPr>
          <a:xfrm>
            <a:off x="108000" y="44280"/>
            <a:ext cx="89280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a"/>
                </a:solidFill>
                <a:latin typeface="Comic Sans MS"/>
              </a:rPr>
              <a:t>¿Cuántos años tiene?     Tiene … años.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1544760" y="3284640"/>
            <a:ext cx="6121440" cy="100872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sert into each box the same pictures as in slide 1.  you will probably have to make them smaller so as not to hide the numb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50920" y="18900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e9"/>
                </a:solidFill>
                <a:latin typeface="Arial"/>
              </a:rPr>
              <a:t>Notes for the teach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Due to copyright restrictions, this PowerPoint cannot be shared with photographs copied from the internet.</a:t>
            </a:r>
            <a:br>
              <a:rPr sz="2000"/>
            </a:b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Slide 1 uses the numbers 1-12 and characters that children will know to practise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¿cómo se llama?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se llama…</a:t>
            </a:r>
            <a:br>
              <a:rPr sz="2000"/>
            </a:br>
            <a:r>
              <a:rPr b="0" lang="en-GB" sz="2000" spc="-1" strike="noStrike">
                <a:solidFill>
                  <a:srgbClr val="ffff7a"/>
                </a:solidFill>
                <a:latin typeface="Arial"/>
              </a:rPr>
              <a:t>Say “Se llama (character’s name)” and the children have to tell you which number that is.</a:t>
            </a:r>
            <a:br>
              <a:rPr sz="2000"/>
            </a:br>
            <a:r>
              <a:rPr b="0" lang="en-GB" sz="2000" spc="-1" strike="noStrike">
                <a:solidFill>
                  <a:srgbClr val="ffff7a"/>
                </a:solidFill>
                <a:latin typeface="Arial"/>
              </a:rPr>
              <a:t>Say “¿Cómo se llama el número (number)?” and children have to reply with “Se llama (name).”</a:t>
            </a:r>
            <a:br>
              <a:rPr sz="2000"/>
            </a:b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Slide 2 uses the numbers 1-15 and characters that children will know to practise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¿cuántos años tiene?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tiene…años.</a:t>
            </a:r>
            <a:br>
              <a:rPr sz="2000"/>
            </a:br>
            <a:r>
              <a:rPr b="0" lang="en-GB" sz="2000" spc="-1" strike="noStrike">
                <a:solidFill>
                  <a:srgbClr val="ffff7a"/>
                </a:solidFill>
                <a:latin typeface="Arial"/>
              </a:rPr>
              <a:t>Say “Tiene (number) años” and the children have to tell you which character that is.</a:t>
            </a:r>
            <a:br>
              <a:rPr sz="2000"/>
            </a:br>
            <a:r>
              <a:rPr b="0" lang="en-GB" sz="2000" spc="-1" strike="noStrike">
                <a:solidFill>
                  <a:srgbClr val="ffff7a"/>
                </a:solidFill>
                <a:latin typeface="Arial"/>
              </a:rPr>
              <a:t>Say “¿Cuántos años tiene (character)?” and children have to reply with “Tiene (number) años.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40:04Z</dcterms:modified>
  <cp:revision>164</cp:revision>
  <dc:subject/>
  <dc:title>TITLE</dc:title>
</cp:coreProperties>
</file>