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21DB-3CAF-4E09-BCFD-93CDB28329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CEB2-6AC4-45FB-A94A-102EFE85AF0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D87E-391A-4187-A9C7-A4A62DF5D7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D4D-1928-4F95-829B-2D3E4475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20D-A68F-440F-931A-0ABF1C56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91A-A5C4-4C21-8DF1-2B30855F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1BA-2675-4E0C-BE2C-1C94FB1C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811-0966-4C72-91DD-47C7B16C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8FF-F042-47F5-9271-4DB5B553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7D7-0CDD-4935-AD36-429AB656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716-22AA-4510-9EB5-B8033BE0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2A2-9B5D-40AF-AFCE-BA564001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E8A-7C04-4F84-8AD6-0A04B244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113-BCB6-49F8-828D-41D0C6B8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5D9-4606-4701-B10E-B653688E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5747-CB62-4C13-B072-A7C923DA77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765000"/>
          <a:ext cx="8713800" cy="597708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  <a:gridCol w="2178000"/>
              </a:tblGrid>
              <a:tr h="199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2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2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" name="TextBox 2"/>
          <p:cNvSpPr/>
          <p:nvPr/>
        </p:nvSpPr>
        <p:spPr>
          <a:xfrm>
            <a:off x="0" y="44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Cómo se llama?     Se llama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544760" y="3284640"/>
            <a:ext cx="6121440" cy="70380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sert into each box a picture of a cartoon or film character with which the children will be famili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765000"/>
          <a:ext cx="8713800" cy="597708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  <a:gridCol w="2178000"/>
              </a:tblGrid>
              <a:tr h="1992600"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2240"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2240"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" name="TextBox 16"/>
          <p:cNvSpPr/>
          <p:nvPr/>
        </p:nvSpPr>
        <p:spPr>
          <a:xfrm>
            <a:off x="108000" y="44280"/>
            <a:ext cx="89280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fa"/>
                </a:solidFill>
                <a:latin typeface="Comic Sans MS"/>
              </a:rPr>
              <a:t>¿Cuántos años tiene?     Tiene … años.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1544760" y="3284640"/>
            <a:ext cx="6121440" cy="100872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sert into each box the same pictures as in slide 1.  you will probably have to make them smaller so as not to hide the numb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50920" y="18900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e9"/>
                </a:solidFill>
                <a:latin typeface="Arial"/>
              </a:rPr>
              <a:t>Notes for the teach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Due to copyright restrictions, this PowerPoint cannot be shared with photographs copied from the internet.</a:t>
            </a:r>
            <a:br>
              <a:rPr sz="2000"/>
            </a:b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Slide 1 uses the numbers 1-12 and characters that children will know to practise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¿cómo se llama?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se llama…</a:t>
            </a:r>
            <a:br>
              <a:rPr sz="2000"/>
            </a:br>
            <a:r>
              <a:rPr b="0" lang="en-GB" sz="2000" spc="-1" strike="noStrike">
                <a:solidFill>
                  <a:srgbClr val="ffff7a"/>
                </a:solidFill>
                <a:latin typeface="Arial"/>
              </a:rPr>
              <a:t>Say “Se llama (character’s name)” and the children have to tell you which number that is.</a:t>
            </a:r>
            <a:br>
              <a:rPr sz="2000"/>
            </a:br>
            <a:r>
              <a:rPr b="0" lang="en-GB" sz="2000" spc="-1" strike="noStrike">
                <a:solidFill>
                  <a:srgbClr val="ffff7a"/>
                </a:solidFill>
                <a:latin typeface="Arial"/>
              </a:rPr>
              <a:t>Say “¿Cómo se llama el número (number)?” and children have to reply with “Se llama (name).”</a:t>
            </a:r>
            <a:br>
              <a:rPr sz="2000"/>
            </a:b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Slide 2 uses the numbers 1-15 and characters that children will know to practise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¿cuántos años tiene?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tiene…años.</a:t>
            </a:r>
            <a:br>
              <a:rPr sz="2000"/>
            </a:br>
            <a:r>
              <a:rPr b="0" lang="en-GB" sz="2000" spc="-1" strike="noStrike">
                <a:solidFill>
                  <a:srgbClr val="ffff7a"/>
                </a:solidFill>
                <a:latin typeface="Arial"/>
              </a:rPr>
              <a:t>Say “Tiene (number) años” and the children have to tell you which character that is.</a:t>
            </a:r>
            <a:br>
              <a:rPr sz="2000"/>
            </a:br>
            <a:r>
              <a:rPr b="0" lang="en-GB" sz="2000" spc="-1" strike="noStrike">
                <a:solidFill>
                  <a:srgbClr val="ffff7a"/>
                </a:solidFill>
                <a:latin typeface="Arial"/>
              </a:rPr>
              <a:t>Say “¿Cuántos años tiene (character)?” and children have to reply with “Tiene (number) años.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40:04Z</dcterms:modified>
  <cp:revision>164</cp:revision>
  <dc:subject/>
  <dc:title>TITLE</dc:title>
</cp:coreProperties>
</file>