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F6A1-1901-4B53-B9A4-CCC2AAEB80D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C976-10EB-4B23-8F2D-5F167C0DE8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2602-ED55-49A9-BAD8-2D0C02376A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B0E1-D484-4042-B6C2-06FA1141F8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CDF1-FBB4-40B9-82BC-E002CA584F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FAAD-4469-4796-8DC1-E9EE9F31F6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13A9-CF54-49E1-B239-32062930FF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93A5-DEC6-4ECB-8ECF-198034824C4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AAFF-3822-4F0F-8ABC-D67892C06A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09D8-44DA-4813-962F-2E153C45D2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631C-D3FE-41DB-80A0-350FDE9508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FAA6-5F64-4F10-AFCE-AF6FD2CBAF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CFCB-092D-4F22-8D94-17301A541D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B7E7-94AE-4495-9610-06F1602343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3DDE-1BA6-4EF2-9DDD-0216FC9E34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3F39-47FD-4E2F-B29E-01E38F620A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5650-49A7-45BF-827A-0D295E6B860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A516-0772-46FC-8C18-66523D969F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FB8B-775A-4C87-A285-A7E3517342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686D-82A5-453C-AC53-D65639ADB2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EC5A-163E-42D3-BCE1-DB1D2232CEA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4508-9E21-4342-A135-71053E971D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144F-F10C-4FBC-B86A-9E08BB41E9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9BB3-7356-430A-A8D4-0580DF5E1E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6E2-5338-46EB-8878-4C840EBF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D3A-73EB-4802-BA57-024CCE4A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2E6-9098-4AC2-A578-1776B923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C6A-BD70-471B-8588-1D29C742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DA6-906B-4166-B753-98F3F1B0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6A4-6173-4049-B5C1-9E425B9F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A8C-F981-4564-9529-272D52EB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00F-972A-4F79-A5DB-85F962D3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83F-FCB1-4499-8B1B-469FF9B1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CE4-E9AE-4A17-981B-35357B51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5B7-F769-4983-A600-BD508442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029-0D74-450B-A5E8-C03344DF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CFC9-3529-4441-BB08-9CD570E3F0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5492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71" name="Picture 1" descr=""/>
          <p:cNvPicPr/>
          <p:nvPr/>
        </p:nvPicPr>
        <p:blipFill>
          <a:blip r:embed="rId1"/>
          <a:srcRect l="23200" t="14258" r="15941" b="21191"/>
          <a:stretch/>
        </p:blipFill>
        <p:spPr>
          <a:xfrm rot="17677800">
            <a:off x="594360" y="-329400"/>
            <a:ext cx="43642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1" descr=""/>
          <p:cNvPicPr/>
          <p:nvPr/>
        </p:nvPicPr>
        <p:blipFill>
          <a:blip r:embed="rId1"/>
          <a:srcRect l="18451" t="17690" r="16997" b="28052"/>
          <a:stretch/>
        </p:blipFill>
        <p:spPr>
          <a:xfrm>
            <a:off x="4859280" y="2421000"/>
            <a:ext cx="442764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2421000"/>
            <a:ext cx="60688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24000" y="215892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5003640" y="2158920"/>
            <a:ext cx="40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3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5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6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4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24000" y="2158920"/>
            <a:ext cx="439092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5003640" y="2158920"/>
            <a:ext cx="40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3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5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6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4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Straight Connector 3"/>
          <p:cNvSpPr/>
          <p:nvPr/>
        </p:nvSpPr>
        <p:spPr>
          <a:xfrm>
            <a:off x="5003640" y="2852640"/>
            <a:ext cx="243072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24000" y="215892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5003640" y="2158920"/>
            <a:ext cx="40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3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5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6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4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Straight Connector 3"/>
          <p:cNvSpPr/>
          <p:nvPr/>
        </p:nvSpPr>
        <p:spPr>
          <a:xfrm>
            <a:off x="5003640" y="2852640"/>
            <a:ext cx="243072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Straight Connector 6"/>
          <p:cNvSpPr/>
          <p:nvPr/>
        </p:nvSpPr>
        <p:spPr>
          <a:xfrm>
            <a:off x="5076720" y="584532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24000" y="2158920"/>
            <a:ext cx="4392360" cy="439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5003640" y="2158920"/>
            <a:ext cx="40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3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5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6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4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Straight Connector 3"/>
          <p:cNvSpPr/>
          <p:nvPr/>
        </p:nvSpPr>
        <p:spPr>
          <a:xfrm>
            <a:off x="5003640" y="2852640"/>
            <a:ext cx="243072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Straight Connector 6"/>
          <p:cNvSpPr/>
          <p:nvPr/>
        </p:nvSpPr>
        <p:spPr>
          <a:xfrm>
            <a:off x="5076720" y="584532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Straight Connector 7"/>
          <p:cNvSpPr/>
          <p:nvPr/>
        </p:nvSpPr>
        <p:spPr>
          <a:xfrm>
            <a:off x="5076720" y="328464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710244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24000" y="2158920"/>
            <a:ext cx="4392360" cy="43912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5003640" y="2158920"/>
            <a:ext cx="40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3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5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6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4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Straight Connector 3"/>
          <p:cNvSpPr/>
          <p:nvPr/>
        </p:nvSpPr>
        <p:spPr>
          <a:xfrm>
            <a:off x="5003640" y="2852640"/>
            <a:ext cx="243072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Straight Connector 6"/>
          <p:cNvSpPr/>
          <p:nvPr/>
        </p:nvSpPr>
        <p:spPr>
          <a:xfrm>
            <a:off x="5076720" y="584532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Straight Connector 7"/>
          <p:cNvSpPr/>
          <p:nvPr/>
        </p:nvSpPr>
        <p:spPr>
          <a:xfrm>
            <a:off x="5076720" y="328464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Straight Connector 8"/>
          <p:cNvSpPr/>
          <p:nvPr/>
        </p:nvSpPr>
        <p:spPr>
          <a:xfrm>
            <a:off x="5003640" y="5445000"/>
            <a:ext cx="2232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24000" y="2158920"/>
            <a:ext cx="4392360" cy="4391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5003640" y="2158920"/>
            <a:ext cx="40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3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5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6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4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Straight Connector 3"/>
          <p:cNvSpPr/>
          <p:nvPr/>
        </p:nvSpPr>
        <p:spPr>
          <a:xfrm>
            <a:off x="5003640" y="2852640"/>
            <a:ext cx="243072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Straight Connector 6"/>
          <p:cNvSpPr/>
          <p:nvPr/>
        </p:nvSpPr>
        <p:spPr>
          <a:xfrm>
            <a:off x="5076720" y="584532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Straight Connector 7"/>
          <p:cNvSpPr/>
          <p:nvPr/>
        </p:nvSpPr>
        <p:spPr>
          <a:xfrm>
            <a:off x="5076720" y="328464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Straight Connector 8"/>
          <p:cNvSpPr/>
          <p:nvPr/>
        </p:nvSpPr>
        <p:spPr>
          <a:xfrm>
            <a:off x="5003640" y="5445000"/>
            <a:ext cx="2232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Straight Connector 9"/>
          <p:cNvSpPr/>
          <p:nvPr/>
        </p:nvSpPr>
        <p:spPr>
          <a:xfrm>
            <a:off x="5076720" y="3716280"/>
            <a:ext cx="165600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324000" y="2158920"/>
            <a:ext cx="4392360" cy="4391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5003640" y="2158920"/>
            <a:ext cx="40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3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5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6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4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Straight Connector 3"/>
          <p:cNvSpPr/>
          <p:nvPr/>
        </p:nvSpPr>
        <p:spPr>
          <a:xfrm>
            <a:off x="5003640" y="2852640"/>
            <a:ext cx="243072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Straight Connector 6"/>
          <p:cNvSpPr/>
          <p:nvPr/>
        </p:nvSpPr>
        <p:spPr>
          <a:xfrm>
            <a:off x="5076720" y="584532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Straight Connector 7"/>
          <p:cNvSpPr/>
          <p:nvPr/>
        </p:nvSpPr>
        <p:spPr>
          <a:xfrm>
            <a:off x="5076720" y="328464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Straight Connector 8"/>
          <p:cNvSpPr/>
          <p:nvPr/>
        </p:nvSpPr>
        <p:spPr>
          <a:xfrm>
            <a:off x="5003640" y="5445000"/>
            <a:ext cx="2232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Straight Connector 10"/>
          <p:cNvSpPr/>
          <p:nvPr/>
        </p:nvSpPr>
        <p:spPr>
          <a:xfrm>
            <a:off x="5076720" y="3716280"/>
            <a:ext cx="165600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Straight Connector 11"/>
          <p:cNvSpPr/>
          <p:nvPr/>
        </p:nvSpPr>
        <p:spPr>
          <a:xfrm>
            <a:off x="5076720" y="623736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324000" y="2158920"/>
            <a:ext cx="4392360" cy="4391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5003640" y="2158920"/>
            <a:ext cx="403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3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5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6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cousin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a"/>
                </a:solidFill>
                <a:uFillTx/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gir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4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fa"/>
                </a:solidFill>
                <a:latin typeface="Comic Sans MS"/>
              </a:rPr>
              <a:t>friend (bo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Straight Connector 3"/>
          <p:cNvSpPr/>
          <p:nvPr/>
        </p:nvSpPr>
        <p:spPr>
          <a:xfrm>
            <a:off x="5003640" y="2852640"/>
            <a:ext cx="243072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Straight Connector 6"/>
          <p:cNvSpPr/>
          <p:nvPr/>
        </p:nvSpPr>
        <p:spPr>
          <a:xfrm>
            <a:off x="5076720" y="584532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Straight Connector 7"/>
          <p:cNvSpPr/>
          <p:nvPr/>
        </p:nvSpPr>
        <p:spPr>
          <a:xfrm>
            <a:off x="5076720" y="328464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Straight Connector 8"/>
          <p:cNvSpPr/>
          <p:nvPr/>
        </p:nvSpPr>
        <p:spPr>
          <a:xfrm>
            <a:off x="5003640" y="5445000"/>
            <a:ext cx="2232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5076720" y="3716280"/>
            <a:ext cx="165600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Straight Connector 9"/>
          <p:cNvSpPr/>
          <p:nvPr/>
        </p:nvSpPr>
        <p:spPr>
          <a:xfrm>
            <a:off x="5076720" y="623736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Straight Connector 12"/>
          <p:cNvSpPr/>
          <p:nvPr/>
        </p:nvSpPr>
        <p:spPr>
          <a:xfrm>
            <a:off x="5076720" y="4149720"/>
            <a:ext cx="3024360" cy="0"/>
          </a:xfrm>
          <a:prstGeom prst="line">
            <a:avLst/>
          </a:prstGeom>
          <a:ln w="38160">
            <a:solidFill>
              <a:srgbClr val="fff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56" name="Picture 10" descr=""/>
          <p:cNvPicPr/>
          <p:nvPr/>
        </p:nvPicPr>
        <p:blipFill>
          <a:blip r:embed="rId1"/>
          <a:srcRect l="18052" t="15444" r="31386" b="19076"/>
          <a:stretch/>
        </p:blipFill>
        <p:spPr>
          <a:xfrm rot="20477400">
            <a:off x="1146240" y="2373120"/>
            <a:ext cx="37447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3" descr=""/>
          <p:cNvPicPr/>
          <p:nvPr/>
        </p:nvPicPr>
        <p:blipFill>
          <a:blip r:embed="rId1"/>
          <a:srcRect l="10131" t="17559" r="25318" b="30047"/>
          <a:stretch/>
        </p:blipFill>
        <p:spPr>
          <a:xfrm rot="19390200">
            <a:off x="4278240" y="372960"/>
            <a:ext cx="49831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4" descr=""/>
          <p:cNvPicPr/>
          <p:nvPr/>
        </p:nvPicPr>
        <p:blipFill>
          <a:blip r:embed="rId1"/>
          <a:srcRect l="12856" t="12787" r="25375" b="24084"/>
          <a:stretch/>
        </p:blipFill>
        <p:spPr>
          <a:xfrm rot="15689400">
            <a:off x="5063760" y="3564720"/>
            <a:ext cx="474012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1844640"/>
          <a:ext cx="8209080" cy="4846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84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0099ff"/>
                          </a:solidFill>
                          <a:latin typeface="Comic Sans MS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</a:t>
                      </a:r>
                      <a:r>
                        <a:rPr b="0" lang="en-GB" sz="48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 h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ma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pri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cou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 amig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3-02T13:14:47Z</dcterms:modified>
  <cp:revision>213</cp:revision>
  <dc:subject/>
  <dc:title>TITLE</dc:title>
</cp:coreProperties>
</file>