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6EDB-0BF9-42E4-8BE8-2CAD7D9A28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12E7-E41F-40F5-8A22-E792403C98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369A-8478-4A93-BE46-B9E75E5620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91D8-6C7F-4C50-9BD7-EE5B82253A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75E3-5284-4379-BCEC-7F843F4BA7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AA04-E4C6-4049-855E-21345FA3C1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93BB-065C-48F7-9186-A1B076BA10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E9CB-A706-44E6-9BD5-85AF371214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1415-CB04-49F6-9AFB-29A3B0BDE2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A8F0-05F9-42AE-BB5A-6C37274E1D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AB3-9567-4EF5-A826-27965FA55A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253D-8852-4A20-A4C1-C3A7B95079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4813-A925-434C-B892-DBBAEB6F11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88F3-BF1F-4564-8FB0-B4551162C9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2AA3-F4E5-45D7-A154-60B6A3F3BE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DFCB-E2DE-46A3-B734-902CBEE3BA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91E7-BD34-42E9-BE09-2E67988EC4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7EA-2A84-44BF-B3A5-50946C0EA4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4DB2-9A33-4960-92CF-FC1D0CDC02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864-E1ED-49DC-B372-7E96A23A09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468-2549-4C3B-A01E-C49417DF86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D1F5-AE8A-452D-B651-EE41D684A5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6416-B101-4CEE-89E0-FED76D5B62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F62F-5ED3-43A2-BA9F-014EA85DFE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2B6-58CD-438A-887D-E6CF24EC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FA1-9229-4CAA-AE28-FD7A7819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74D-150E-441C-91BB-6FAA4A4F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8EE-A547-4B07-A556-B2651D0B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5A0-A678-45EE-ACE8-BE0EEDC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510-BE1E-4DA4-BA54-8FE6A55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E48-4DE9-4601-8FBE-0F488F05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D40-74B5-48B0-B819-BD096BD4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C47-92A7-449E-949A-A28AF07B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858-E01E-4358-BCA9-E9E93E0A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DD0-8041-4D70-9357-7CDC1FD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C5C-9383-49EB-9B71-53DCAE41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0E57-C766-4C59-A498-0E30278B9D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5492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1" descr=""/>
          <p:cNvPicPr/>
          <p:nvPr/>
        </p:nvPicPr>
        <p:blipFill>
          <a:blip r:embed="rId1"/>
          <a:srcRect l="23200" t="14258" r="15941" b="21191"/>
          <a:stretch/>
        </p:blipFill>
        <p:spPr>
          <a:xfrm rot="17677800">
            <a:off x="594360" y="-329400"/>
            <a:ext cx="43642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1" descr=""/>
          <p:cNvPicPr/>
          <p:nvPr/>
        </p:nvPicPr>
        <p:blipFill>
          <a:blip r:embed="rId1"/>
          <a:srcRect l="18451" t="17690" r="16997" b="28052"/>
          <a:stretch/>
        </p:blipFill>
        <p:spPr>
          <a:xfrm>
            <a:off x="4859280" y="2421000"/>
            <a:ext cx="442764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2421000"/>
            <a:ext cx="6068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092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710244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5003640" y="5445000"/>
            <a:ext cx="2232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Straight Connector 8"/>
          <p:cNvSpPr/>
          <p:nvPr/>
        </p:nvSpPr>
        <p:spPr>
          <a:xfrm>
            <a:off x="5003640" y="5445000"/>
            <a:ext cx="2232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Straight Connector 9"/>
          <p:cNvSpPr/>
          <p:nvPr/>
        </p:nvSpPr>
        <p:spPr>
          <a:xfrm>
            <a:off x="5076720" y="3716280"/>
            <a:ext cx="165600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Straight Connector 8"/>
          <p:cNvSpPr/>
          <p:nvPr/>
        </p:nvSpPr>
        <p:spPr>
          <a:xfrm>
            <a:off x="5003640" y="5445000"/>
            <a:ext cx="2232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Straight Connector 10"/>
          <p:cNvSpPr/>
          <p:nvPr/>
        </p:nvSpPr>
        <p:spPr>
          <a:xfrm>
            <a:off x="5076720" y="3716280"/>
            <a:ext cx="165600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traight Connector 11"/>
          <p:cNvSpPr/>
          <p:nvPr/>
        </p:nvSpPr>
        <p:spPr>
          <a:xfrm>
            <a:off x="5076720" y="623736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5003640" y="5445000"/>
            <a:ext cx="2232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5076720" y="3716280"/>
            <a:ext cx="165600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5076720" y="623736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5076720" y="41497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10" descr=""/>
          <p:cNvPicPr/>
          <p:nvPr/>
        </p:nvPicPr>
        <p:blipFill>
          <a:blip r:embed="rId1"/>
          <a:srcRect l="18052" t="15444" r="31386" b="19076"/>
          <a:stretch/>
        </p:blipFill>
        <p:spPr>
          <a:xfrm rot="20477400">
            <a:off x="1146240" y="2373120"/>
            <a:ext cx="37447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3" descr=""/>
          <p:cNvPicPr/>
          <p:nvPr/>
        </p:nvPicPr>
        <p:blipFill>
          <a:blip r:embed="rId1"/>
          <a:srcRect l="10131" t="17559" r="25318" b="30047"/>
          <a:stretch/>
        </p:blipFill>
        <p:spPr>
          <a:xfrm rot="19390200">
            <a:off x="4278240" y="372960"/>
            <a:ext cx="49831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4" descr=""/>
          <p:cNvPicPr/>
          <p:nvPr/>
        </p:nvPicPr>
        <p:blipFill>
          <a:blip r:embed="rId1"/>
          <a:srcRect l="12856" t="12787" r="25375" b="24084"/>
          <a:stretch/>
        </p:blipFill>
        <p:spPr>
          <a:xfrm rot="15689400">
            <a:off x="5063760" y="3564720"/>
            <a:ext cx="47401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14:47Z</dcterms:modified>
  <cp:revision>213</cp:revision>
  <dc:subject/>
  <dc:title>TITLE</dc:title>
</cp:coreProperties>
</file>