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87B-33FF-4513-8B31-225677DE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401-E44F-41EA-9C1A-27BBEB16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1AB-8717-4724-9C18-803663D8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87B-2675-4F4D-B124-203B0ADF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B72-86E8-41DC-AC51-C59B1539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616-5FAC-4D57-A953-F5551D1A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F62-72E1-494D-B67D-AB8C88EA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C6D-9EB6-4927-A482-3B3F978E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91A-1624-41A6-B7D0-19550F4D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552-8D19-45F7-BD16-F8DEEEE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61F-4A61-423C-9DD8-3FD4BD7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A27-7039-42D5-8644-9A54A971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9FDE-AF30-47FC-B8BF-E25E5F4C3E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124000" y="981000"/>
            <a:ext cx="266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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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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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Wingdings"/>
                <a:ea typeface="Wingdings"/>
              </a:rPr>
              <a:t>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7640" y="119700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encan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427640" y="22939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gus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427640" y="339264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e da igu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427640" y="449100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no me gus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427640" y="55897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d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1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da igual el rugb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60148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da igual el ciclis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58924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522600" y="1498680"/>
            <a:ext cx="2220840" cy="2233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3348000" y="414972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e gus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4775040" cy="2354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gusta la ve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gusta el hocke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3635280" y="1547640"/>
            <a:ext cx="42339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gusta el hocke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635280" y="1547640"/>
            <a:ext cx="42339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No me gusta el atletis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43675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No me gusta el bádminto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3394080" y="1268280"/>
            <a:ext cx="4586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3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encanta el baloncest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3429000" y="1268280"/>
            <a:ext cx="469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81080" y="189000"/>
            <a:ext cx="2595600" cy="273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7" name="TextBox 6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e encanta la equitaci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3564000" y="1235160"/>
            <a:ext cx="49035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17:25Z</dcterms:modified>
  <cp:revision>171</cp:revision>
  <dc:subject/>
  <dc:title>TITLE</dc:title>
</cp:coreProperties>
</file>