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867-7311-4E77-909A-33A15F1A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1EE-C9E1-4A3A-878C-34C202B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39C-8A59-47CC-8334-6949BEFC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0D7-0028-4208-96F3-ED456B22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7FA-E661-43C8-81D7-336AB7E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CEA-392A-4904-AA7F-6757DE3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31E-B415-4F04-9C87-6F08C14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8ED-FF33-4BD8-9EBC-14FF89E2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868-F849-4EF7-801E-AB3A0F96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100-8F7E-4C1A-9234-4F44851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5CE-3FEB-46FA-AD77-047B425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422-23FD-4855-BBEA-87EF6D1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C77-F682-43AB-933A-B81A065EF4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24000" y="98100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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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7640" y="1197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enca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427640" y="229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427640" y="339264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da igu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427640" y="4491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 me gu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427640" y="5589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d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1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da igual el rugb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60148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da igual el cicl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892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22600" y="1498680"/>
            <a:ext cx="2220840" cy="2233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3348000" y="414972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4775040" cy="2354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gusta la ve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gusta el hocke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635280" y="1547640"/>
            <a:ext cx="4233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gusta el hocke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635280" y="1547640"/>
            <a:ext cx="4233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 me gusta el atlet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43675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 me gusta el bádminto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394080" y="1268280"/>
            <a:ext cx="458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encanta el balonces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429000" y="1268280"/>
            <a:ext cx="469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encanta la equi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564000" y="1235160"/>
            <a:ext cx="4903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17:25Z</dcterms:modified>
  <cp:revision>171</cp:revision>
  <dc:subject/>
  <dc:title>TITLE</dc:title>
</cp:coreProperties>
</file>