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E1A2-07C6-4FF4-9BC6-1144F640F5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C12-AB7E-4ED1-A495-66239920E0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ACA-BC31-45D1-BB40-6320A73C90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1D88-CBE3-4279-93C5-AD5D0C8A32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EB75-CF3E-497D-906A-B4B4516DF9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BEA-1CB8-4F72-B4D1-2626E544A4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83D4-FC90-42C1-A436-C8BD81E4C3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481A-38C7-4316-A35C-50D544E77C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CC3D-3599-4F63-8DED-96413DC3EF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D72-59CF-4D07-B6CD-8975B92D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548-DCB0-4D6C-94D2-F0FF8D31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994-8113-493D-ABE1-4C2C841F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120-EEF9-4496-9568-34F797C2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5CF3-CE2D-4F43-9BFA-A1C83556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F9E9-9979-4F10-BE93-D92DD3E8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0E6-998F-4068-9EFE-19F3B3F9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0B06-4AC3-462B-BDF0-6D84F929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FE98-2C3D-4861-BA20-5C05AAED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A591-3D93-4357-9D29-2337F20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0B7B-C495-4F60-BA92-C7979035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0BB-0173-43AE-BEB2-4272D96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1CCC-E81E-4823-812E-E3B4568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A142-7C29-4F6B-8566-261BEBF2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2F33-586A-41C2-AF11-6F9B9699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1B33-F81E-42B5-9093-9BADC272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5005-4AE7-4012-9F98-060408BC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C54-35F2-4681-85F7-EB021147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1C8-1F76-4E75-BF11-1DC0B9A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4AE-0081-4F59-B329-608F226F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2FC-881E-4C07-91B6-699DF1FC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790-4EA5-4DDD-BDF6-9557BA62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115-CB1C-4C99-BA75-3BD4B43C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916-961C-4BC4-B857-99385D3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7DDF-4C3D-48D2-93F5-CF1A5BA2B9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0CB0-D22B-42C6-A867-6B9FA45358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94540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755640" y="5013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What can I se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08000" y="-28440"/>
            <a:ext cx="502632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048040" y="0"/>
            <a:ext cx="49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5328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5256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979640" y="12600"/>
            <a:ext cx="5184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50920" y="0"/>
            <a:ext cx="4824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9:32Z</dcterms:modified>
  <cp:revision>263</cp:revision>
  <dc:subject/>
  <dc:title>TITLE</dc:title>
</cp:coreProperties>
</file>