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45C9-27B0-4CF5-BDFF-0D365C58931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DD10-384E-4D2B-AA3C-BCDEDF9D5FD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2215-FD44-4F14-A798-30786DC098E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BAED-3828-4E4A-85F4-08930BFB3DD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0066-64A0-4206-ACE3-0EF1654CD47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F694-3E57-4C8A-8CF6-7AECB260411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BD28-6D9C-4C15-83C1-A8D6A123FFB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283D-7738-4138-BADE-6947297BBDF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CAD0-1C57-45D2-BB86-6D3D722AA1E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B6C6-6FE1-429B-A2EC-E8F3631C1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7DB9-559B-46C0-A59E-FF648577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A375-EDCF-410F-A3F9-5BFD4F6D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60DC-1AF8-4BBB-8AE7-0013E95F4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E622-0758-4943-813A-85591609B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D176-F59D-4F58-8DC2-26077AC9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5DDE-24EA-48D5-8688-98EB9AFA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E051-BE07-4F4E-8CC4-50C10490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1B6C-3E0F-4AA5-99CD-2605955F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2A9E-FE0A-4887-A8B8-DAAAC0BA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9658-857F-45E9-83C9-AB5AB555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BAFB-A28C-4D38-81AC-A897E215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B677-3B84-4406-AB4F-C83360F8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B733-5534-42D6-BB54-85EEEB35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852E-5038-4ECF-80AE-DFA6CE45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38FB-8B4A-4521-BD76-CD3B0CB7D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1AD8-6841-4AE0-8957-DD4F47781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BE57-3005-4C9F-80BC-4C8CDB89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ECCB-BC90-4FE2-82A1-2F75B79A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00BE-31F4-450F-8E32-685D119D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9003-164B-4F44-944B-B31BD5BA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C926-427B-4C6F-B380-35D96550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A553-1292-4059-AA86-BCD6614D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44EE-3B91-48EB-9CFB-0742E34D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B600-A17A-4CFD-BA19-685B54110B9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E64D-944E-403A-8C01-A66E866DA43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547640" y="836640"/>
            <a:ext cx="5945400" cy="331308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755640" y="501336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3"/>
                </a:solidFill>
                <a:latin typeface="Comic Sans MS"/>
              </a:rPr>
              <a:t>What can I see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908000" y="-28440"/>
            <a:ext cx="502632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048040" y="0"/>
            <a:ext cx="490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979640" y="0"/>
            <a:ext cx="5184720" cy="69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908000" y="0"/>
            <a:ext cx="5328000" cy="69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908000" y="0"/>
            <a:ext cx="525636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979640" y="12600"/>
            <a:ext cx="51847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050920" y="0"/>
            <a:ext cx="48247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10-19T08:09:32Z</dcterms:modified>
  <cp:revision>263</cp:revision>
  <dc:subject/>
  <dc:title>TITLE</dc:title>
</cp:coreProperties>
</file>