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596A-5B8D-4F86-9021-7844FDA93D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61BD-660B-401A-84B0-DDBA07C786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9DE4-71D1-45AE-B536-4E7D3C53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EEA-E1B3-4248-80D3-8D98E8B3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527-340E-47D5-BEC3-02DBE2CC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94A4-3481-4199-A26C-ADBC1E8C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5491-47B2-4242-A7F4-18FD70E4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6C2A-16B5-4067-93E4-1D1DA748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4CCB-742C-4F92-9A0A-E273CAE3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22EF-600D-4B7C-8405-DB1318FB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6BD6-D948-4655-8F50-AA85A5A5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EC82-2EEF-40B9-9250-34C0053A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6F96-3351-427C-A655-C781FD89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765-AF73-4010-97F4-AACACE91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EEB3-7B0E-44FB-9285-05BED827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8279-77FF-4637-B309-22BE8C6C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49DE-B663-4023-A83E-DE9C40C6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A95F-5BE0-4D1F-80A1-26CE9C33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A0C4-7D0D-4D45-896F-A327C741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77EC1-AED9-4956-9F48-82B27545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1C92C-9907-4BB6-9A90-FD936DA0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6376F-541D-408D-B2AB-299AEE50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ECB29-71C6-4CA2-8E03-09D11F32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9EBF6-9FA1-43B9-AB4D-1C38EFC3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371-7195-4FAF-85AE-7A7E42F7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748E8-DE96-4FB2-920F-704834E1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DAAF8-9788-483B-B90B-A0EAC379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552EA-DF33-4651-8F72-675EC546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8F9FD-C510-4804-95E3-777792CC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E6F64-4241-44D8-AC4F-C6409205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84C1B-BF57-4A13-AC7F-FF56EC6D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DA794-64AA-4C38-A7BF-74758E21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B85-8C14-4B6B-874C-BA34AF2F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E4BD-584F-4609-982B-D2706524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31D-BB21-4B72-9A77-02939661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3BC-EA93-4140-862B-0967F272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3A3-4BA1-4C80-B934-45618BE4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E4C-F468-4D82-8263-29D5515F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0274-5B75-41A1-A6A0-601F1581074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552D-BC1E-4260-9690-B734ABA894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0782-2E49-4DA6-B287-AE2F8F362B3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900000" y="115920"/>
            <a:ext cx="73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00"/>
                </a:solidFill>
                <a:latin typeface="Comic Sans MS"/>
              </a:rPr>
              <a:t>¿ sí o n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08000" y="90792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¿Cómo te llama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108000" y="189216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¿Está lloviendo ho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108000" y="287640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Está lloviendo ho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108000" y="386064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¿Qué hora 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108000" y="484344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engo un gat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108000" y="582768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¿Tienes un lápiz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58:20Z</dcterms:modified>
  <cp:revision>385</cp:revision>
  <dc:subject/>
  <dc:title>TITLE</dc:title>
</cp:coreProperties>
</file>