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B9EA-89F3-486A-B86D-EC4AFF8D31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BB7-B65B-4ACF-8DA3-BBE07CB98D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C2C-7353-4CB6-88D8-0545622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DEE-62FD-47E7-A625-23E611F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0FE-D33E-44DC-9289-EF6902A4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622-5972-494C-BDDB-3C6FFE19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84F-56FF-401B-BD1F-2C97B851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FFF-23AF-4253-8409-B8C0691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0A54-4082-4BD2-A7FD-F7399F4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6AC9-6128-4607-94C3-5EA1BC33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12B-ED1C-497B-B4E9-EBDCEB05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AF1B-6003-492D-929C-BD760451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4C4-FD55-4AA4-9494-C4883D0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2F5-2825-4E86-8AF7-D912B376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1D8C-FA78-4433-88C5-1FD346B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DB43-7079-4014-9A6B-6D9B66A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74F0-0CA4-4B42-AE60-64FF9B9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650-FF12-46C9-A38B-9558C983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23E-0801-4B3A-B761-DFCB0FC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1C11-42BA-4B91-8087-66239719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D137-F2A6-4952-AA84-68EE47E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7D19-DC6D-4DC6-B1C3-2F4EED5E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CE73-0CC2-4431-86AB-863631F5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BBFB-BF7A-46C9-932E-11355F92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B31-1AAD-4837-BD75-0959E2E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334-D4FC-478C-A040-831105C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EAC6-A4D8-4680-AE7D-65D3D3C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8BBF-0926-49C9-A71F-BEE00D6E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D6F1-F511-41E7-A6B6-F209968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25E2-4ECB-4269-8229-A8D467AE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9C13-89AD-4F84-B10C-7AA874B2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CBB4-F079-47EA-B43B-47689E6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333-3A6D-4036-AB47-67A9AF3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202-B404-4D99-95EC-CDADFE90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EFF-72F1-45A5-BE7A-35A6FAA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646-9752-4C22-9FEB-FF22224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AB5-E200-4021-86DA-A6A98B7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C32-6E9D-4B7B-B19E-257F0513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0D10-A340-40ED-B9E5-9263904644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EFA-8748-4B5D-9C7A-5EF327F525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7C7-1A00-43F3-B5FD-E1ED8B7FB3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900000" y="11592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¿ sí o no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8000" y="9079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Cómo te lla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108000" y="189216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Está lloviendo ho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8000" y="287640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tá lloviendo ho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108000" y="386064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Qué hora 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108000" y="484344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un gat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108000" y="582768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¿Tienes un lápiz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58:20Z</dcterms:modified>
  <cp:revision>385</cp:revision>
  <dc:subject/>
  <dc:title>TITLE</dc:title>
</cp:coreProperties>
</file>