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23FB-4DA4-4EA6-8F00-0CD6EE9EBD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AD36-24F8-4E7F-ADFD-C8C7603A28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326-C01E-47F1-B000-60228229D1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5CE-D773-478C-B441-68265E713F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CFF9-2523-453D-9788-2918021D48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FF5-9748-4999-B1E4-78D5F5F09F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CEE0-8A48-4B98-AA6C-B8DC4D5DE7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7AE-759A-4F27-9556-6B0A5B8A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DB4-6B7E-4213-B81F-6DFE57D3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FDA-E430-4223-96E9-CF0BB281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B7D-399A-4F5E-AAA7-9B28C598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1F4-58FD-461B-AFF0-A9EBC5EF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FA1-7C3A-4662-8796-AD7E5EA9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3BA-22DF-4736-8A0B-986383A5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6D8-3770-4814-B2EB-800CA12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108-A1BF-40EB-9FFC-5142BDDC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268-F713-4915-89EC-933DB46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DAE-030D-496C-A2CB-C11FC05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C38-967E-4F96-8A6A-00A37C3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7B20-DB47-4C34-9806-5D2A5286EA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3760" y="189000"/>
            <a:ext cx="9120240" cy="643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247760" cy="1247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7020000" y="3573360"/>
            <a:ext cx="2232000" cy="251964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-36360" y="1035000"/>
            <a:ext cx="9144000" cy="520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6360" y="2421000"/>
            <a:ext cx="914400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6360" y="3860640"/>
            <a:ext cx="9144000" cy="237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7143840" y="443700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4:40Z</dcterms:modified>
  <cp:revision>148</cp:revision>
  <dc:subject/>
  <dc:title>TITLE</dc:title>
</cp:coreProperties>
</file>