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B3E8-9FCD-4BDE-B3E1-AC37D715A9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1B5D-DD06-491F-9E18-921885CF9A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C19A-EE3F-4DF5-B23D-BE4C079906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9A3E-A5BC-49DF-BBA1-D927EA140C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A42-2557-4264-BC54-09B1128CDA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FCB-DBE3-4BE0-ACF6-9E819A34B3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2531-5BA0-4E68-8133-651416A5F6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870-86F1-477A-9B64-CE0A01C7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F54-A917-4D49-A372-FB8FE312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50D-D035-4ACC-96CC-2AE96857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FAA-49F6-43B4-B89B-CE8F5B0E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B5C-CD5E-4CD5-AFE8-CFAAD00C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2C5-1AC7-45C9-AB1F-34A25EF3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C2F-FE68-4E99-9ED9-E296F310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C7A-0363-4785-B249-7B988D1F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F4B-9614-4A2A-951E-F219A38E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344-7081-4E4C-8BE3-0C7A4ABA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3F9-BA76-40C4-9127-0466A425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ED3-2EDA-43D7-86BB-CD79180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8BC3-87FF-4B78-A6F9-D5B9EA0720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3760" y="189000"/>
            <a:ext cx="9120240" cy="643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247760" cy="1247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7020000" y="3573360"/>
            <a:ext cx="2232000" cy="251964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250920" y="26028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-36360" y="1035000"/>
            <a:ext cx="9144000" cy="5202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50920" y="26028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6360" y="2421000"/>
            <a:ext cx="9144000" cy="3816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50920" y="26028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6360" y="3860640"/>
            <a:ext cx="9144000" cy="2376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50920" y="26028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50920" y="26028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Secret Sentenc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ech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7143840" y="443700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4:40Z</dcterms:modified>
  <cp:revision>148</cp:revision>
  <dc:subject/>
  <dc:title>TITLE</dc:title>
</cp:coreProperties>
</file>