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B0F8-7913-4496-8937-653685E4D0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D193-83CD-415F-9719-2E8AD6833D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48F5-2F3A-469A-830D-E56A622993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F89B-D00B-42BD-8F87-D74406A458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C6A2-0AB7-4412-8311-2398741C93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47A-4D69-4DCE-ADDF-D81D97D6CB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43A4-BDA0-4256-8917-201668BEED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916-23BC-4AD2-B9E3-8C1CEB88CB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8931-F803-4FAA-8CFB-92BB280B97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6825-F3F3-4FCA-B469-CDA330FE9B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3131-20CC-4CB3-B9B4-486EF1AF1E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50F-0C3F-447F-9A75-808F591E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D37-4D7E-4C5F-836A-54BC4BBE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D5F-5B96-43E9-9239-846D7655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CBE-3CAF-438D-99BB-3C8BBFB3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28C-9D3A-48F3-BFD0-9FE3E50A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4EF-E236-4D6B-B4E7-272C8AF7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3E6-5B78-4408-B622-FFC2125A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940-D3B7-4FC1-940E-2EE87DEA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444-DCE9-41F7-B3AA-DED9B906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402-4FAE-4FE5-8512-14E3545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A8F-9CB1-4933-8613-72D0AE4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5AF-5306-416B-8210-F669A12E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5FB-F14F-48A9-B13A-FF1F85489E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Callout 3"/>
          <p:cNvSpPr/>
          <p:nvPr/>
        </p:nvSpPr>
        <p:spPr>
          <a:xfrm>
            <a:off x="826920" y="1197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Callout 5"/>
          <p:cNvSpPr/>
          <p:nvPr/>
        </p:nvSpPr>
        <p:spPr>
          <a:xfrm>
            <a:off x="979560" y="3890880"/>
            <a:ext cx="34700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33cc"/>
                </a:solidFill>
                <a:latin typeface="Comic Sans MS"/>
              </a:rPr>
              <a:t>I wan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79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80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" name="Group 2"/>
          <p:cNvGrpSpPr/>
          <p:nvPr/>
        </p:nvGrpSpPr>
        <p:grpSpPr>
          <a:xfrm>
            <a:off x="351000" y="981000"/>
            <a:ext cx="2636640" cy="768600"/>
            <a:chOff x="351000" y="981000"/>
            <a:chExt cx="2636640" cy="768600"/>
          </a:xfrm>
        </p:grpSpPr>
        <p:sp>
          <p:nvSpPr>
            <p:cNvPr id="83" name="TextBox 7"/>
            <p:cNvSpPr/>
            <p:nvPr/>
          </p:nvSpPr>
          <p:spPr>
            <a:xfrm>
              <a:off x="1273320" y="981000"/>
              <a:ext cx="17143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4" name="Picture 7" descr=""/>
            <p:cNvPicPr/>
            <p:nvPr/>
          </p:nvPicPr>
          <p:blipFill>
            <a:blip r:embed="rId2"/>
            <a:stretch/>
          </p:blipFill>
          <p:spPr>
            <a:xfrm>
              <a:off x="351000" y="981000"/>
              <a:ext cx="921960" cy="7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87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88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91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2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3"/>
          <p:cNvGrpSpPr/>
          <p:nvPr/>
        </p:nvGrpSpPr>
        <p:grpSpPr>
          <a:xfrm>
            <a:off x="668160" y="549360"/>
            <a:ext cx="2608560" cy="768240"/>
            <a:chOff x="668160" y="549360"/>
            <a:chExt cx="2608560" cy="768240"/>
          </a:xfrm>
        </p:grpSpPr>
        <p:pic>
          <p:nvPicPr>
            <p:cNvPr id="94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668160" y="549360"/>
              <a:ext cx="95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13"/>
            <p:cNvSpPr/>
            <p:nvPr/>
          </p:nvSpPr>
          <p:spPr>
            <a:xfrm>
              <a:off x="1619280" y="549360"/>
              <a:ext cx="165744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98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02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3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05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" name="Group 5"/>
          <p:cNvGrpSpPr/>
          <p:nvPr/>
        </p:nvGrpSpPr>
        <p:grpSpPr>
          <a:xfrm>
            <a:off x="387360" y="880920"/>
            <a:ext cx="2657520" cy="1434600"/>
            <a:chOff x="387360" y="880920"/>
            <a:chExt cx="2657520" cy="1434600"/>
          </a:xfrm>
        </p:grpSpPr>
        <p:pic>
          <p:nvPicPr>
            <p:cNvPr id="108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387360" y="880920"/>
              <a:ext cx="906480" cy="7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16"/>
            <p:cNvSpPr/>
            <p:nvPr/>
          </p:nvSpPr>
          <p:spPr>
            <a:xfrm>
              <a:off x="1293840" y="88092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112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113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16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19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531720" y="4869000"/>
            <a:ext cx="2657520" cy="1434600"/>
            <a:chOff x="531720" y="4869000"/>
            <a:chExt cx="2657520" cy="1434600"/>
          </a:xfrm>
        </p:grpSpPr>
        <p:pic>
          <p:nvPicPr>
            <p:cNvPr id="122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531720" y="4869000"/>
              <a:ext cx="906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16"/>
            <p:cNvSpPr/>
            <p:nvPr/>
          </p:nvSpPr>
          <p:spPr>
            <a:xfrm>
              <a:off x="1438200" y="486900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1212840" y="828720"/>
            <a:ext cx="2638440" cy="1434600"/>
            <a:chOff x="1212840" y="828720"/>
            <a:chExt cx="2638440" cy="1434600"/>
          </a:xfrm>
        </p:grpSpPr>
        <p:pic>
          <p:nvPicPr>
            <p:cNvPr id="125" name="Picture 13" descr=""/>
            <p:cNvPicPr/>
            <p:nvPr/>
          </p:nvPicPr>
          <p:blipFill>
            <a:blip r:embed="rId5"/>
            <a:srcRect l="2785" t="10308" r="3329" b="38750"/>
            <a:stretch/>
          </p:blipFill>
          <p:spPr>
            <a:xfrm>
              <a:off x="1212840" y="828720"/>
              <a:ext cx="99612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18"/>
            <p:cNvSpPr/>
            <p:nvPr/>
          </p:nvSpPr>
          <p:spPr>
            <a:xfrm>
              <a:off x="2208240" y="828720"/>
              <a:ext cx="1643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zum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129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2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33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4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36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531720" y="4869000"/>
            <a:ext cx="2657520" cy="1434600"/>
            <a:chOff x="531720" y="4869000"/>
            <a:chExt cx="2657520" cy="1434600"/>
          </a:xfrm>
        </p:grpSpPr>
        <p:pic>
          <p:nvPicPr>
            <p:cNvPr id="139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531720" y="4869000"/>
              <a:ext cx="906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16"/>
            <p:cNvSpPr/>
            <p:nvPr/>
          </p:nvSpPr>
          <p:spPr>
            <a:xfrm>
              <a:off x="1438200" y="486900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1" name="Group 6"/>
          <p:cNvGrpSpPr/>
          <p:nvPr/>
        </p:nvGrpSpPr>
        <p:grpSpPr>
          <a:xfrm>
            <a:off x="4788000" y="5805360"/>
            <a:ext cx="2639880" cy="1434600"/>
            <a:chOff x="4788000" y="5805360"/>
            <a:chExt cx="2639880" cy="1434600"/>
          </a:xfrm>
        </p:grpSpPr>
        <p:pic>
          <p:nvPicPr>
            <p:cNvPr id="142" name="Picture 13" descr=""/>
            <p:cNvPicPr/>
            <p:nvPr/>
          </p:nvPicPr>
          <p:blipFill>
            <a:blip r:embed="rId5"/>
            <a:srcRect l="2785" t="10308" r="3329" b="38750"/>
            <a:stretch/>
          </p:blipFill>
          <p:spPr>
            <a:xfrm>
              <a:off x="4788000" y="5805360"/>
              <a:ext cx="9964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18"/>
            <p:cNvSpPr/>
            <p:nvPr/>
          </p:nvSpPr>
          <p:spPr>
            <a:xfrm>
              <a:off x="5784840" y="5805360"/>
              <a:ext cx="1643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zum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4" name="Group 14"/>
          <p:cNvGrpSpPr/>
          <p:nvPr/>
        </p:nvGrpSpPr>
        <p:grpSpPr>
          <a:xfrm>
            <a:off x="324000" y="884160"/>
            <a:ext cx="2746080" cy="1434600"/>
            <a:chOff x="324000" y="884160"/>
            <a:chExt cx="2746080" cy="1434600"/>
          </a:xfrm>
        </p:grpSpPr>
        <p:pic>
          <p:nvPicPr>
            <p:cNvPr id="145" name="Picture 11" descr=""/>
            <p:cNvPicPr/>
            <p:nvPr/>
          </p:nvPicPr>
          <p:blipFill>
            <a:blip r:embed="rId6"/>
            <a:srcRect l="7926" t="2754" r="10489" b="0"/>
            <a:stretch/>
          </p:blipFill>
          <p:spPr>
            <a:xfrm>
              <a:off x="324000" y="884160"/>
              <a:ext cx="9950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20"/>
            <p:cNvSpPr/>
            <p:nvPr/>
          </p:nvSpPr>
          <p:spPr>
            <a:xfrm>
              <a:off x="1319040" y="88416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ques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53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4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56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8" name="Group 5"/>
          <p:cNvGrpSpPr/>
          <p:nvPr/>
        </p:nvGrpSpPr>
        <p:grpSpPr>
          <a:xfrm>
            <a:off x="531720" y="4869000"/>
            <a:ext cx="2657520" cy="1434600"/>
            <a:chOff x="531720" y="4869000"/>
            <a:chExt cx="2657520" cy="1434600"/>
          </a:xfrm>
        </p:grpSpPr>
        <p:pic>
          <p:nvPicPr>
            <p:cNvPr id="159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531720" y="4869000"/>
              <a:ext cx="906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6"/>
            <p:cNvSpPr/>
            <p:nvPr/>
          </p:nvSpPr>
          <p:spPr>
            <a:xfrm>
              <a:off x="1438200" y="486900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6"/>
          <p:cNvGrpSpPr/>
          <p:nvPr/>
        </p:nvGrpSpPr>
        <p:grpSpPr>
          <a:xfrm>
            <a:off x="4788000" y="5805360"/>
            <a:ext cx="2639880" cy="1434600"/>
            <a:chOff x="4788000" y="5805360"/>
            <a:chExt cx="2639880" cy="1434600"/>
          </a:xfrm>
        </p:grpSpPr>
        <p:pic>
          <p:nvPicPr>
            <p:cNvPr id="162" name="Picture 13" descr=""/>
            <p:cNvPicPr/>
            <p:nvPr/>
          </p:nvPicPr>
          <p:blipFill>
            <a:blip r:embed="rId5"/>
            <a:srcRect l="2785" t="10308" r="3329" b="38750"/>
            <a:stretch/>
          </p:blipFill>
          <p:spPr>
            <a:xfrm>
              <a:off x="4788000" y="5805360"/>
              <a:ext cx="9964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18"/>
            <p:cNvSpPr/>
            <p:nvPr/>
          </p:nvSpPr>
          <p:spPr>
            <a:xfrm>
              <a:off x="5784840" y="5805360"/>
              <a:ext cx="1643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zum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531720" y="5784840"/>
            <a:ext cx="2745000" cy="1434600"/>
            <a:chOff x="531720" y="5784840"/>
            <a:chExt cx="2745000" cy="1434600"/>
          </a:xfrm>
        </p:grpSpPr>
        <p:pic>
          <p:nvPicPr>
            <p:cNvPr id="165" name="Picture 11" descr=""/>
            <p:cNvPicPr/>
            <p:nvPr/>
          </p:nvPicPr>
          <p:blipFill>
            <a:blip r:embed="rId6"/>
            <a:srcRect l="7922" t="2754" r="10494" b="0"/>
            <a:stretch/>
          </p:blipFill>
          <p:spPr>
            <a:xfrm>
              <a:off x="531720" y="5784840"/>
              <a:ext cx="9946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20"/>
            <p:cNvSpPr/>
            <p:nvPr/>
          </p:nvSpPr>
          <p:spPr>
            <a:xfrm>
              <a:off x="1527120" y="5784840"/>
              <a:ext cx="174960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ques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169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73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4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76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5"/>
          <p:cNvGrpSpPr/>
          <p:nvPr/>
        </p:nvGrpSpPr>
        <p:grpSpPr>
          <a:xfrm>
            <a:off x="531720" y="4869000"/>
            <a:ext cx="2657520" cy="1434600"/>
            <a:chOff x="531720" y="4869000"/>
            <a:chExt cx="2657520" cy="1434600"/>
          </a:xfrm>
        </p:grpSpPr>
        <p:pic>
          <p:nvPicPr>
            <p:cNvPr id="179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531720" y="4869000"/>
              <a:ext cx="906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6"/>
            <p:cNvSpPr/>
            <p:nvPr/>
          </p:nvSpPr>
          <p:spPr>
            <a:xfrm>
              <a:off x="1438200" y="486900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6"/>
          <p:cNvGrpSpPr/>
          <p:nvPr/>
        </p:nvGrpSpPr>
        <p:grpSpPr>
          <a:xfrm>
            <a:off x="4788000" y="5805360"/>
            <a:ext cx="2639880" cy="1434600"/>
            <a:chOff x="4788000" y="5805360"/>
            <a:chExt cx="2639880" cy="1434600"/>
          </a:xfrm>
        </p:grpSpPr>
        <p:pic>
          <p:nvPicPr>
            <p:cNvPr id="182" name="Picture 13" descr=""/>
            <p:cNvPicPr/>
            <p:nvPr/>
          </p:nvPicPr>
          <p:blipFill>
            <a:blip r:embed="rId5"/>
            <a:srcRect l="2785" t="10308" r="3329" b="38750"/>
            <a:stretch/>
          </p:blipFill>
          <p:spPr>
            <a:xfrm>
              <a:off x="4788000" y="5805360"/>
              <a:ext cx="9964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18"/>
            <p:cNvSpPr/>
            <p:nvPr/>
          </p:nvSpPr>
          <p:spPr>
            <a:xfrm>
              <a:off x="5784840" y="5805360"/>
              <a:ext cx="1643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zum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14"/>
          <p:cNvGrpSpPr/>
          <p:nvPr/>
        </p:nvGrpSpPr>
        <p:grpSpPr>
          <a:xfrm>
            <a:off x="531720" y="5784840"/>
            <a:ext cx="2745000" cy="1434600"/>
            <a:chOff x="531720" y="5784840"/>
            <a:chExt cx="2745000" cy="1434600"/>
          </a:xfrm>
        </p:grpSpPr>
        <p:pic>
          <p:nvPicPr>
            <p:cNvPr id="185" name="Picture 11" descr=""/>
            <p:cNvPicPr/>
            <p:nvPr/>
          </p:nvPicPr>
          <p:blipFill>
            <a:blip r:embed="rId6"/>
            <a:srcRect l="7922" t="2754" r="10494" b="0"/>
            <a:stretch/>
          </p:blipFill>
          <p:spPr>
            <a:xfrm>
              <a:off x="531720" y="5784840"/>
              <a:ext cx="9946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20"/>
            <p:cNvSpPr/>
            <p:nvPr/>
          </p:nvSpPr>
          <p:spPr>
            <a:xfrm>
              <a:off x="1527120" y="5784840"/>
              <a:ext cx="174960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ques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Oval Callout 21"/>
          <p:cNvSpPr/>
          <p:nvPr/>
        </p:nvSpPr>
        <p:spPr>
          <a:xfrm>
            <a:off x="468360" y="189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68360" y="2924280"/>
            <a:ext cx="6875640" cy="3933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539640" y="2565360"/>
            <a:ext cx="80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 y que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zu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pizza y beber limonada tambié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Callout 3"/>
          <p:cNvSpPr/>
          <p:nvPr/>
        </p:nvSpPr>
        <p:spPr>
          <a:xfrm>
            <a:off x="826920" y="1197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Callout 4"/>
          <p:cNvSpPr/>
          <p:nvPr/>
        </p:nvSpPr>
        <p:spPr>
          <a:xfrm>
            <a:off x="3132000" y="2924280"/>
            <a:ext cx="5616720" cy="31194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rcRect l="7916" t="2725" r="10491" b="0"/>
          <a:stretch/>
        </p:blipFill>
        <p:spPr>
          <a:xfrm>
            <a:off x="4932360" y="4365720"/>
            <a:ext cx="1812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rcRect l="8772" t="0" r="8938" b="0"/>
          <a:stretch/>
        </p:blipFill>
        <p:spPr>
          <a:xfrm>
            <a:off x="3513240" y="3548160"/>
            <a:ext cx="20779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rcRect l="2798" t="10294" r="3335" b="38756"/>
          <a:stretch/>
        </p:blipFill>
        <p:spPr>
          <a:xfrm>
            <a:off x="3459240" y="3537000"/>
            <a:ext cx="21859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rcRect l="0" t="0" r="21619" b="0"/>
          <a:stretch/>
        </p:blipFill>
        <p:spPr>
          <a:xfrm>
            <a:off x="3564000" y="3429000"/>
            <a:ext cx="2289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15992" t="0" r="15485" b="0"/>
          <a:stretch/>
        </p:blipFill>
        <p:spPr>
          <a:xfrm>
            <a:off x="3492360" y="3500280"/>
            <a:ext cx="21924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3419640" y="3500280"/>
            <a:ext cx="22874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74" name="Group 10"/>
          <p:cNvGrpSpPr/>
          <p:nvPr/>
        </p:nvGrpSpPr>
        <p:grpSpPr>
          <a:xfrm>
            <a:off x="324000" y="968400"/>
            <a:ext cx="3527280" cy="1434600"/>
            <a:chOff x="324000" y="968400"/>
            <a:chExt cx="3527280" cy="1434600"/>
          </a:xfrm>
        </p:grpSpPr>
        <p:pic>
          <p:nvPicPr>
            <p:cNvPr id="75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324000" y="968400"/>
              <a:ext cx="94860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4"/>
            <p:cNvSpPr/>
            <p:nvPr/>
          </p:nvSpPr>
          <p:spPr>
            <a:xfrm>
              <a:off x="1273320" y="968400"/>
              <a:ext cx="25779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18:26Z</dcterms:modified>
  <cp:revision>141</cp:revision>
  <dc:subject/>
  <dc:title>TITLE</dc:title>
</cp:coreProperties>
</file>