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344-935F-43CE-B975-B32184E582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8237-F04D-4FBE-9B1E-DE7CBF9E1D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772D-6F69-4FFE-AAC4-8F46FEBA8E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AAF-3691-48F8-947C-3ACE5FB05F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4A61-DD61-4800-8D0A-8933985A3F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B3E-63A6-4803-A6F8-7E07F042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233-2DE5-4802-A397-0885EA48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5CE-B8A1-4111-9FED-02C066A4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960-FAFB-4CC0-9E2E-17F9BD0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DC7-ACD5-484B-9021-40F3A0B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136D-E49B-4921-84CA-3710A1AC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36A2-5B11-4B67-9C32-1C935F2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1EE8-1C92-4AD8-97AB-B27AA89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6A94-8F6B-4D77-8D46-ED5E92BF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907-BC27-4D0F-8A38-E3AA6EB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6A9-1053-41D7-A73E-C930BD3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766-7C0F-4B9A-8C03-BF9A5C92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DC04-57C3-421E-A65C-97A71C71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3F2E-37B9-4310-9AE2-6989D54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66A-0EDC-4CF2-B347-A87BA1F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35A8-FB06-4B68-8020-560DB8E2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ED08-9C9D-4962-A026-CA395529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571A-2A77-4C9F-9866-B5F91742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7E59-C6FD-4E5E-9F6D-9CAD44C3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C1DD-CD5A-4931-9FD3-1E497EB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266B-2950-4227-8C0A-62497E33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8883-4149-46BC-A2D4-4C43028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A6A-9DF1-4FBD-AC03-EEB41E8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F772-395B-44BF-86DD-0EEBD6D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8BDB-CBB8-41C5-83C2-E17A516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1D5C-4B68-42BE-8DE6-C9DE484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5A40-F81C-4B06-A20F-9498151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A3A2-77C1-4D40-AFB1-56C569B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23A5-C7A2-4E9C-ACEE-1763F9E7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DDB8-6746-46F1-9697-C9FD4AED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A76-B6EA-4913-846F-00D66CAB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FFF-0C9A-4406-B05E-4EE5A30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B2F-CC58-4551-984D-A7E3310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C5E-9271-4984-B899-284B552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3C0-C22A-415B-84BA-3685425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5C5-DD88-4869-B774-281AEF5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768-FBA1-486C-BE6F-C497A7ACD3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922-5C2A-4BEB-AC10-ECE8F0100C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026-B883-4CA2-A926-116B08B3817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4" name="TextBox 3"/>
          <p:cNvSpPr/>
          <p:nvPr/>
        </p:nvSpPr>
        <p:spPr>
          <a:xfrm>
            <a:off x="1332000" y="2095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9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539640" y="1484280"/>
            <a:ext cx="1871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539640" y="2832120"/>
            <a:ext cx="1295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539640" y="377208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68440" y="5157720"/>
            <a:ext cx="1699920" cy="5954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932360" y="1484280"/>
            <a:ext cx="136836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932360" y="285444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4946760" y="4221000"/>
            <a:ext cx="1873080" cy="5972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7093080" y="4253040"/>
            <a:ext cx="115092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4946760" y="5589720"/>
            <a:ext cx="1873080" cy="5950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2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539640" y="1484280"/>
            <a:ext cx="1871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539640" y="2832120"/>
            <a:ext cx="1295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39640" y="377208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568440" y="5157720"/>
            <a:ext cx="1699920" cy="5954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4932360" y="1484280"/>
            <a:ext cx="136836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4932360" y="285444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4946760" y="4221000"/>
            <a:ext cx="1873080" cy="5972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7093080" y="4253040"/>
            <a:ext cx="115092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4946760" y="5589720"/>
            <a:ext cx="1873080" cy="5950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rcRect l="23368" t="32149" r="14948" b="9278"/>
          <a:stretch/>
        </p:blipFill>
        <p:spPr>
          <a:xfrm>
            <a:off x="2124000" y="4280040"/>
            <a:ext cx="1008000" cy="71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36656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76" name="Straight Arrow Connector 18"/>
          <p:cNvCxnSpPr/>
          <p:nvPr/>
        </p:nvCxnSpPr>
        <p:spPr>
          <a:xfrm flipH="1">
            <a:off x="2915640" y="5454360"/>
            <a:ext cx="361080" cy="135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7" name="Picture 19" descr=""/>
          <p:cNvPicPr/>
          <p:nvPr/>
        </p:nvPicPr>
        <p:blipFill>
          <a:blip r:embed="rId4"/>
          <a:srcRect l="9850" t="6127" r="24387" b="10895"/>
          <a:stretch/>
        </p:blipFill>
        <p:spPr>
          <a:xfrm>
            <a:off x="7885080" y="1994040"/>
            <a:ext cx="993960" cy="177804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21"/>
          <p:cNvCxnSpPr/>
          <p:nvPr/>
        </p:nvCxnSpPr>
        <p:spPr>
          <a:xfrm flipH="1" flipV="1">
            <a:off x="8459280" y="1782000"/>
            <a:ext cx="216720" cy="212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06T12:57:28Z</dcterms:modified>
  <cp:revision>287</cp:revision>
  <dc:subject/>
  <dc:title>TITLE</dc:title>
</cp:coreProperties>
</file>