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3D40-1897-461C-A44C-ED7D3C71687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DB7C-A189-4A7B-BC72-74B14F753F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7EAE-73F5-4346-A6F6-790E489E8A0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AB0A-E404-4A42-B678-88017AF9BE7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ED23-7B06-42CB-A0FF-39E31B65234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47C-342D-4357-9327-F1DB1BE2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45C-9B77-4391-8F38-D8BD7A1D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81B-36AA-4DCF-88C5-8403C3F9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0FF-EAC5-44DB-8784-C35B57E0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2445-DAD7-4ABD-A3FC-8EAE6D27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7A55-0458-4188-BBCD-290388C5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2B07-26DA-45DF-9A89-3FC4340E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B6F4-F4B5-47CB-A28C-2EB5764A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420C-ED10-450D-A430-43F8E89C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0780-3058-48E7-AA5D-3C5FC930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A816-1D24-4B75-B83F-55CF6884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C0A-99B2-42BD-A5DB-862E7F57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6E3E-FA30-40FD-8D6D-CEF07D09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45A1-7A64-448C-8759-648C07D7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9222-75E2-408F-B331-5EF69885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716D-3F0F-40CD-96DD-6AACFE8B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38D4-4AA2-43B0-8037-34D21FF7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300C-6273-4225-830D-CD991CCB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F63A-CB3C-4568-A066-A270A86A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132F-9BB0-426A-B033-25B7333B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506D1-3792-490E-9972-44F08E92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EB047-A396-4034-A377-4DC28C4A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5CF-9E9A-4481-B740-09ADC110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9DE6C-B21B-4E64-B85E-5CAA1282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087B7-B010-447D-800D-BF90FB3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F4ED-25DE-4485-ABC0-359A7AC0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34A3-D399-4D13-B723-0BAD18A9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DB84-D5C5-4F38-A21B-50402D84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A13D-9DAE-4CA7-80CE-896ADF5D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C76E-E673-4E0F-AC1F-758ABBF2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4C5-0527-4E48-A314-D94AB706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22E-4B2B-4076-8F39-AB5E60D6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B64-034C-4215-88AB-A4F45FA9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93C-60B0-4B1A-8735-09B552FE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24C-439B-407E-BB5D-55C4849E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B38-F0C3-4F6A-BC3D-682DD9E6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05C8-F1E8-4940-8B85-3379CF73EE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7EB6-FD01-4DBF-8004-990D6CE512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1CC8-E31A-4D60-9996-E84A088A711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28264" t="5081" r="25724" b="20695"/>
          <a:stretch/>
        </p:blipFill>
        <p:spPr>
          <a:xfrm>
            <a:off x="52560" y="44280"/>
            <a:ext cx="1206360" cy="129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4" name="TextBox 3"/>
          <p:cNvSpPr/>
          <p:nvPr/>
        </p:nvSpPr>
        <p:spPr>
          <a:xfrm>
            <a:off x="1332000" y="2095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57d"/>
                </a:solidFill>
                <a:latin typeface="Comic Sans MS"/>
              </a:rPr>
              <a:t>mis resoluciones de año nuev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28264" t="5081" r="25724" b="20695"/>
          <a:stretch/>
        </p:blipFill>
        <p:spPr>
          <a:xfrm>
            <a:off x="52560" y="44280"/>
            <a:ext cx="1206360" cy="129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9" name="TextBox 3"/>
          <p:cNvSpPr/>
          <p:nvPr/>
        </p:nvSpPr>
        <p:spPr>
          <a:xfrm>
            <a:off x="1332000" y="209520"/>
            <a:ext cx="741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57d"/>
                </a:solidFill>
                <a:latin typeface="Comic Sans MS"/>
              </a:rPr>
              <a:t>mis resoluciones de año nuev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oy a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7928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tudiar 45 minutos cada dí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ás ejercicio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i cam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ordenar mi habitación cada domingo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457200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er frut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yudar en mi comunidad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prender a tocar la guitarr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cuchar a mi mamá y a mi papá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28264" t="5081" r="25724" b="20695"/>
          <a:stretch/>
        </p:blipFill>
        <p:spPr>
          <a:xfrm>
            <a:off x="52560" y="44280"/>
            <a:ext cx="1206360" cy="129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6" name="TextBox 3"/>
          <p:cNvSpPr/>
          <p:nvPr/>
        </p:nvSpPr>
        <p:spPr>
          <a:xfrm>
            <a:off x="1332000" y="209520"/>
            <a:ext cx="741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57d"/>
                </a:solidFill>
                <a:latin typeface="Comic Sans MS"/>
              </a:rPr>
              <a:t>mis resoluciones de año nuev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oy a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17928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tudiar 45 minutos cada dí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ás ejercicio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i cam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ordenar mi habitación cada domingo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457200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er frut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yudar en mi comunidad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prender a tocar la guitarr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cuchar a mi mamá y a mi papá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539640" y="1484280"/>
            <a:ext cx="187164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539640" y="2832120"/>
            <a:ext cx="129564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Oval 10"/>
          <p:cNvSpPr/>
          <p:nvPr/>
        </p:nvSpPr>
        <p:spPr>
          <a:xfrm>
            <a:off x="539640" y="3772080"/>
            <a:ext cx="144000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68440" y="5157720"/>
            <a:ext cx="1699920" cy="59544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932360" y="1484280"/>
            <a:ext cx="136836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932360" y="2854440"/>
            <a:ext cx="144000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4946760" y="4221000"/>
            <a:ext cx="1873080" cy="59724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16"/>
          <p:cNvSpPr/>
          <p:nvPr/>
        </p:nvSpPr>
        <p:spPr>
          <a:xfrm>
            <a:off x="7093080" y="4253040"/>
            <a:ext cx="115092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17"/>
          <p:cNvSpPr/>
          <p:nvPr/>
        </p:nvSpPr>
        <p:spPr>
          <a:xfrm>
            <a:off x="4946760" y="5589720"/>
            <a:ext cx="1873080" cy="5950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979640" y="1700280"/>
            <a:ext cx="716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rcRect l="28264" t="5081" r="25724" b="20695"/>
          <a:stretch/>
        </p:blipFill>
        <p:spPr>
          <a:xfrm>
            <a:off x="52560" y="44280"/>
            <a:ext cx="1206360" cy="129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2" name="TextBox 3"/>
          <p:cNvSpPr/>
          <p:nvPr/>
        </p:nvSpPr>
        <p:spPr>
          <a:xfrm>
            <a:off x="1332000" y="209520"/>
            <a:ext cx="741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57d"/>
                </a:solidFill>
                <a:latin typeface="Comic Sans MS"/>
              </a:rPr>
              <a:t>mis resoluciones de año nuev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voy a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7928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tudiar 45 minutos cada dí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ás ejercicio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hacer mi cam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ordenar mi habitación cada domingo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4572000" y="148428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er fruta todos los día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yudar en mi comunidad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aprender a tocar la guitarr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scuchar a mi mamá y a mi papá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539640" y="1484280"/>
            <a:ext cx="187164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539640" y="2832120"/>
            <a:ext cx="129564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39640" y="3772080"/>
            <a:ext cx="144000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12"/>
          <p:cNvSpPr/>
          <p:nvPr/>
        </p:nvSpPr>
        <p:spPr>
          <a:xfrm>
            <a:off x="568440" y="5157720"/>
            <a:ext cx="1699920" cy="59544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13"/>
          <p:cNvSpPr/>
          <p:nvPr/>
        </p:nvSpPr>
        <p:spPr>
          <a:xfrm>
            <a:off x="4932360" y="1484280"/>
            <a:ext cx="136836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14"/>
          <p:cNvSpPr/>
          <p:nvPr/>
        </p:nvSpPr>
        <p:spPr>
          <a:xfrm>
            <a:off x="4932360" y="2854440"/>
            <a:ext cx="144000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4946760" y="4221000"/>
            <a:ext cx="1873080" cy="59724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7093080" y="4253040"/>
            <a:ext cx="1150920" cy="5968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4946760" y="5589720"/>
            <a:ext cx="1873080" cy="595080"/>
          </a:xfrm>
          <a:prstGeom prst="ellipse">
            <a:avLst/>
          </a:prstGeom>
          <a:noFill/>
          <a:ln w="25560">
            <a:solidFill>
              <a:srgbClr val="22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rcRect l="23368" t="32149" r="14948" b="9278"/>
          <a:stretch/>
        </p:blipFill>
        <p:spPr>
          <a:xfrm>
            <a:off x="2124000" y="4280040"/>
            <a:ext cx="1008000" cy="71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1366560" cy="91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76" name="Straight Arrow Connector 18"/>
          <p:cNvCxnSpPr/>
          <p:nvPr/>
        </p:nvCxnSpPr>
        <p:spPr>
          <a:xfrm flipH="1">
            <a:off x="2915640" y="5454360"/>
            <a:ext cx="361080" cy="135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77" name="Picture 19" descr=""/>
          <p:cNvPicPr/>
          <p:nvPr/>
        </p:nvPicPr>
        <p:blipFill>
          <a:blip r:embed="rId4"/>
          <a:srcRect l="9850" t="6127" r="24387" b="10895"/>
          <a:stretch/>
        </p:blipFill>
        <p:spPr>
          <a:xfrm>
            <a:off x="7885080" y="1994040"/>
            <a:ext cx="993960" cy="1778040"/>
          </a:xfrm>
          <a:prstGeom prst="rect">
            <a:avLst/>
          </a:prstGeom>
          <a:ln w="0">
            <a:noFill/>
          </a:ln>
        </p:spPr>
      </p:pic>
      <p:cxnSp>
        <p:nvCxnSpPr>
          <p:cNvPr id="178" name="Straight Arrow Connector 21"/>
          <p:cNvCxnSpPr/>
          <p:nvPr/>
        </p:nvCxnSpPr>
        <p:spPr>
          <a:xfrm flipH="1" flipV="1">
            <a:off x="8459280" y="1782000"/>
            <a:ext cx="216720" cy="212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01-06T12:57:28Z</dcterms:modified>
  <cp:revision>287</cp:revision>
  <dc:subject/>
  <dc:title>TITLE</dc:title>
</cp:coreProperties>
</file>