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102-DB1B-4F66-893F-58F5197C7B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5A2B-CC6F-4EAE-8A2C-2D7FBE8E8C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C04-C881-4046-B0D8-CED1E7468E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B3D-BC4A-4285-BDB8-0ECF65DF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84E-9431-4D07-8F47-8D11C5E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D93-2DBD-41C3-AE9E-4CBBD2B6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208-7326-4E64-9078-CDF78167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C3D-24D7-47D2-8A2D-2EE7EE38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1549-E363-4339-9472-AF7506F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CC72-BD8D-4272-9E70-DE7BE6C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EAD8-EEEB-4782-82F9-868D1ABB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FE07-908B-4C2C-9FF0-CEBC95C9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63C-573B-48F4-BB39-FAB041F7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29EF-0266-44B1-96A2-40ADC2E8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DA2-8E24-4383-A7AE-1174211E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8454-934E-4C3A-AFFD-7280B8A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3567-5CDE-472C-9DDA-28EE61A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DBAC-7F0B-4E07-8ABB-BB6BD602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27EB-5664-4FA6-B3CC-DB3760F2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9BC6-9D7D-4B36-BCCA-68CD7BC6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32A6-E288-4704-ADEC-56C7A227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279C-1444-4793-8C25-AF2C98FE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FDE1-9A7D-4C07-90DC-3D8445FE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2B60-1DFF-493E-9317-56D8B53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BDDC-3D10-407B-9687-A0F291B8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FFC-C277-482E-BA4F-89EA6D2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23A5-F87F-405D-9718-F0385398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3270-B72A-4BEB-AE27-610214F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0683-643D-480E-9E26-90D82DF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9653-B4D1-41F1-8CC2-BD0AB56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28F5-DC37-4427-B739-394574EE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FCB7-C8EF-43E3-ADD0-B8CC627E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7530-1C3D-4BB7-BD37-ABA1E0B9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053-BB9D-4597-9A4D-439052A8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0D4-4A29-425E-8D47-1E3BAD9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4B7-9300-4F94-90D9-156B854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FDC-2811-4783-8A76-C5A5D5E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683-1AE4-4F85-A735-5D50087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BC0-D3AA-45EB-BCEC-51261E4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53C-37E2-47F6-9F3D-7C2CE18D5E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8C6-EFD0-4677-B74A-4E53DC5B6C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B039-298A-45E6-A3FE-61558976F4D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89000"/>
          <a:ext cx="5041800" cy="6408720"/>
        </p:xfrm>
        <a:graphic>
          <a:graphicData uri="http://schemas.openxmlformats.org/drawingml/2006/table">
            <a:tbl>
              <a:tblPr/>
              <a:tblGrid>
                <a:gridCol w="1944720"/>
                <a:gridCol w="3097080"/>
              </a:tblGrid>
              <a:tr h="915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to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Cloud Callout 3"/>
          <p:cNvSpPr/>
          <p:nvPr/>
        </p:nvSpPr>
        <p:spPr>
          <a:xfrm rot="1010400">
            <a:off x="5694480" y="1584360"/>
            <a:ext cx="2849400" cy="26398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872400" y="26114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7446960" y="3013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5902200" y="27194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151680" y="33051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617688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718020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Cloud Callout 26"/>
          <p:cNvSpPr/>
          <p:nvPr/>
        </p:nvSpPr>
        <p:spPr>
          <a:xfrm rot="1010400">
            <a:off x="5532480" y="4172040"/>
            <a:ext cx="3402000" cy="26416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6399360" y="602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7308720" y="4437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5537160" y="543708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7121520" y="50943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608472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32"/>
          <p:cNvSpPr/>
          <p:nvPr/>
        </p:nvSpPr>
        <p:spPr>
          <a:xfrm>
            <a:off x="7451640" y="572436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5651640" y="4773600"/>
            <a:ext cx="17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89000"/>
          <a:ext cx="5041800" cy="6499080"/>
        </p:xfrm>
        <a:graphic>
          <a:graphicData uri="http://schemas.openxmlformats.org/drawingml/2006/table">
            <a:tbl>
              <a:tblPr/>
              <a:tblGrid>
                <a:gridCol w="1944720"/>
                <a:gridCol w="3097080"/>
              </a:tblGrid>
              <a:tr h="915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to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o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I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you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he goes / she go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m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we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you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they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Cloud Callout 3"/>
          <p:cNvSpPr/>
          <p:nvPr/>
        </p:nvSpPr>
        <p:spPr>
          <a:xfrm rot="1010400">
            <a:off x="5694480" y="1584360"/>
            <a:ext cx="2849400" cy="26398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6872400" y="26114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7446960" y="3013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5902200" y="27194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3"/>
          <p:cNvSpPr/>
          <p:nvPr/>
        </p:nvSpPr>
        <p:spPr>
          <a:xfrm>
            <a:off x="6151680" y="33051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617688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718020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Cloud Callout 26"/>
          <p:cNvSpPr/>
          <p:nvPr/>
        </p:nvSpPr>
        <p:spPr>
          <a:xfrm rot="1010400">
            <a:off x="5532480" y="4172040"/>
            <a:ext cx="3402000" cy="26416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7"/>
          <p:cNvSpPr/>
          <p:nvPr/>
        </p:nvSpPr>
        <p:spPr>
          <a:xfrm>
            <a:off x="6399360" y="602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8"/>
          <p:cNvSpPr/>
          <p:nvPr/>
        </p:nvSpPr>
        <p:spPr>
          <a:xfrm>
            <a:off x="7308720" y="4437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5537160" y="543708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7121520" y="50943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608472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1640" y="572436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33"/>
          <p:cNvSpPr/>
          <p:nvPr/>
        </p:nvSpPr>
        <p:spPr>
          <a:xfrm>
            <a:off x="5651640" y="4773600"/>
            <a:ext cx="17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2:03Z</dcterms:modified>
  <cp:revision>332</cp:revision>
  <dc:subject/>
  <dc:title>TITLE</dc:title>
</cp:coreProperties>
</file>