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4AB5-841B-486A-97AD-4D0EB6134C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D273-1D3F-4866-A32D-32894B25E9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C41-A988-4CF6-8A95-0E66F9A100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4C4-CD00-4038-B1AC-4F20D972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BCA-DA35-46B2-9707-F26CFDB9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E92-A26D-4DDB-B041-B588F759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35B-A0AE-4ED4-A31F-B7AFDC0B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070E-DA07-4EBC-8C49-C9472839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836F-83B5-4558-8ED3-5EBDEBE2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09C-0FB2-45DD-BC8E-8A7EA168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EEBC-C17F-49D9-BC39-72EDCD38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56A4-5172-4195-815A-AD891555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C17C-000C-4452-9924-46CA3A3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EFDF-3FAC-4633-A156-B297600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105-75F1-4E0B-943A-E80209B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F8B-2532-417D-B7A7-BCE8F91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5D53-FAE8-40BE-9D1C-6EEC5E0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2DD-1DDA-45C7-B1F8-33AC7959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0B0B-ABD4-4206-BA4A-10B0FA99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9D4F-73A9-4053-8D8F-F12E9BC5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35BD-7604-4E68-AE76-E463327E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27C1-4A3B-4C2F-8A94-E5A69615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05A6-68B2-44C0-88D4-CEFF2C16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E2BDB-AF30-408B-8C52-E6B13C29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DBFD-93F3-46DE-AF0A-5AD43F8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5B8-70AE-43FF-BEF5-9DD6B7A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0074-7AD0-4571-9606-35C074D2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5DEF-D9DD-4E61-A27B-B9699341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EBCA-A3A7-49A8-8217-7B168B4B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DF9F-F421-4A46-A387-F7704A0A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78E3-BBF9-4B4B-86CC-D0063B7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2918-5060-4A74-84F3-3C08F86B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4BBC-501B-4D71-86F2-485BC52F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C2E-61D1-431D-8A8A-1DCE7E9D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BF1-4D95-4DCF-88C9-22E24900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67E-BFF5-4E36-8A54-B38DDAD5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810-FB56-4605-9987-3EF08F4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E3D-06C9-4D5E-B962-93364964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DF6-8492-4A1D-8420-2C27D69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0810-5EA7-4D1B-BCBA-49A98E7CA4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A8A6-AE5F-4B48-90D1-1D22F7D10F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F044-C335-453B-A806-CA2FBFDA0DC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89000"/>
          <a:ext cx="5041800" cy="6408720"/>
        </p:xfrm>
        <a:graphic>
          <a:graphicData uri="http://schemas.openxmlformats.org/drawingml/2006/table">
            <a:tbl>
              <a:tblPr/>
              <a:tblGrid>
                <a:gridCol w="1944720"/>
                <a:gridCol w="3097080"/>
              </a:tblGrid>
              <a:tr h="915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to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Cloud Callout 3"/>
          <p:cNvSpPr/>
          <p:nvPr/>
        </p:nvSpPr>
        <p:spPr>
          <a:xfrm rot="1010400">
            <a:off x="5694480" y="1584360"/>
            <a:ext cx="2849400" cy="26398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872400" y="26114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7446960" y="3013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5902200" y="27194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151680" y="33051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617688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25"/>
          <p:cNvSpPr/>
          <p:nvPr/>
        </p:nvSpPr>
        <p:spPr>
          <a:xfrm>
            <a:off x="718020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Cloud Callout 26"/>
          <p:cNvSpPr/>
          <p:nvPr/>
        </p:nvSpPr>
        <p:spPr>
          <a:xfrm rot="1010400">
            <a:off x="5532480" y="4172040"/>
            <a:ext cx="3402000" cy="26416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6399360" y="602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7308720" y="4437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29"/>
          <p:cNvSpPr/>
          <p:nvPr/>
        </p:nvSpPr>
        <p:spPr>
          <a:xfrm>
            <a:off x="5537160" y="5437080"/>
            <a:ext cx="17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7121520" y="50943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31"/>
          <p:cNvSpPr/>
          <p:nvPr/>
        </p:nvSpPr>
        <p:spPr>
          <a:xfrm>
            <a:off x="6084720" y="414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32"/>
          <p:cNvSpPr/>
          <p:nvPr/>
        </p:nvSpPr>
        <p:spPr>
          <a:xfrm>
            <a:off x="7451640" y="572436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3"/>
          <p:cNvSpPr/>
          <p:nvPr/>
        </p:nvSpPr>
        <p:spPr>
          <a:xfrm>
            <a:off x="5651640" y="4773600"/>
            <a:ext cx="17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89000"/>
          <a:ext cx="5041800" cy="6499080"/>
        </p:xfrm>
        <a:graphic>
          <a:graphicData uri="http://schemas.openxmlformats.org/drawingml/2006/table">
            <a:tbl>
              <a:tblPr/>
              <a:tblGrid>
                <a:gridCol w="1944720"/>
                <a:gridCol w="3097080"/>
              </a:tblGrid>
              <a:tr h="915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to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1224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o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I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1224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you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he goes / she go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m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we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you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they 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a"/>
                      </a:solidFill>
                    </a:lnL>
                    <a:lnR w="5760">
                      <a:solidFill>
                        <a:srgbClr val="fffffa"/>
                      </a:solidFill>
                    </a:lnR>
                    <a:lnT w="5760">
                      <a:solidFill>
                        <a:srgbClr val="fffffa"/>
                      </a:solidFill>
                    </a:lnT>
                    <a:lnB w="5760">
                      <a:solidFill>
                        <a:srgbClr val="fffff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Cloud Callout 3"/>
          <p:cNvSpPr/>
          <p:nvPr/>
        </p:nvSpPr>
        <p:spPr>
          <a:xfrm rot="1010400">
            <a:off x="5694480" y="1584360"/>
            <a:ext cx="2849400" cy="26398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6872400" y="26114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7446960" y="3013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2"/>
          <p:cNvSpPr/>
          <p:nvPr/>
        </p:nvSpPr>
        <p:spPr>
          <a:xfrm>
            <a:off x="5902200" y="27194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3"/>
          <p:cNvSpPr/>
          <p:nvPr/>
        </p:nvSpPr>
        <p:spPr>
          <a:xfrm>
            <a:off x="6151680" y="33051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4"/>
          <p:cNvSpPr/>
          <p:nvPr/>
        </p:nvSpPr>
        <p:spPr>
          <a:xfrm>
            <a:off x="617688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7180200" y="1996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Cloud Callout 26"/>
          <p:cNvSpPr/>
          <p:nvPr/>
        </p:nvSpPr>
        <p:spPr>
          <a:xfrm rot="1010400">
            <a:off x="5532480" y="4172040"/>
            <a:ext cx="3402000" cy="2641680"/>
          </a:xfrm>
          <a:prstGeom prst="cloudCallout">
            <a:avLst>
              <a:gd name="adj1" fmla="val 136282"/>
              <a:gd name="adj2" fmla="val -42421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7"/>
          <p:cNvSpPr/>
          <p:nvPr/>
        </p:nvSpPr>
        <p:spPr>
          <a:xfrm>
            <a:off x="6399360" y="602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8"/>
          <p:cNvSpPr/>
          <p:nvPr/>
        </p:nvSpPr>
        <p:spPr>
          <a:xfrm>
            <a:off x="7308720" y="4437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5537160" y="5437080"/>
            <a:ext cx="17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7121520" y="50943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g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6084720" y="414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1640" y="572436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33"/>
          <p:cNvSpPr/>
          <p:nvPr/>
        </p:nvSpPr>
        <p:spPr>
          <a:xfrm>
            <a:off x="5651640" y="4773600"/>
            <a:ext cx="17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2:03Z</dcterms:modified>
  <cp:revision>332</cp:revision>
  <dc:subject/>
  <dc:title>TITLE</dc:title>
</cp:coreProperties>
</file>