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07FD-FD7F-4598-B8B2-7D04D3A99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4574-A32F-4A93-9F78-B18EC6E8D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1B28-9645-4FF5-91A7-ABB486F67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A486-52DD-4AEA-8C72-9D86EC09E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F55A-6FDA-4C6A-BA05-0E190013A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2A6C-857E-4217-93F3-872C1A8EE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3022-734A-44AB-AFB8-EF5D348ED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DD9A-917B-43AE-B65A-30E5A654D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FC8A-2F43-4801-B5DE-8D394784A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3295-7D81-42C3-9DBE-C5B659425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4F93-09BC-4C67-837A-E66A36C9D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94DF-6A99-4DC4-8F19-79A43E5BE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d9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omic Sans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34499-0355-4FB8-9D94-9EF01B094AFA}" type="slidenum">
              <a:rPr b="0" lang="en-GB" sz="1200" spc="-1" strike="noStrike">
                <a:solidFill>
                  <a:srgbClr val="898989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4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4.bp.blogspot.com/-TMLK3EXFKVA/T2EhW-QCTmI/AAAAAAAAADg/YKrqiTF8Z1Q/s1600/latin+words.jpg"/>
          <p:cNvPicPr/>
          <p:nvPr/>
        </p:nvPicPr>
        <p:blipFill>
          <a:blip r:embed="rId1"/>
          <a:srcRect l="34892" t="0" r="35190" b="0"/>
          <a:stretch/>
        </p:blipFill>
        <p:spPr>
          <a:xfrm>
            <a:off x="-1028880" y="0"/>
            <a:ext cx="20577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rcRect l="0" t="3695" r="58061" b="3289"/>
          <a:stretch/>
        </p:blipFill>
        <p:spPr>
          <a:xfrm>
            <a:off x="7956720" y="0"/>
            <a:ext cx="3960720" cy="70293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348000" y="0"/>
            <a:ext cx="460872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"/>
          <p:cNvSpPr/>
          <p:nvPr/>
        </p:nvSpPr>
        <p:spPr>
          <a:xfrm>
            <a:off x="1116000" y="0"/>
            <a:ext cx="18003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0"/>
            <a:ext cx="223380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VII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XVI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X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XXII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XIX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XXX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XIV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XXVII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II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XXV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"/>
          <p:cNvSpPr/>
          <p:nvPr/>
        </p:nvSpPr>
        <p:spPr>
          <a:xfrm>
            <a:off x="3419640" y="0"/>
            <a:ext cx="4475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siet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"/>
          <p:cNvSpPr/>
          <p:nvPr/>
        </p:nvSpPr>
        <p:spPr>
          <a:xfrm>
            <a:off x="3419640" y="669960"/>
            <a:ext cx="4475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dieciséi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"/>
          <p:cNvSpPr/>
          <p:nvPr/>
        </p:nvSpPr>
        <p:spPr>
          <a:xfrm>
            <a:off x="3419640" y="1338120"/>
            <a:ext cx="4475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nuev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"/>
          <p:cNvSpPr/>
          <p:nvPr/>
        </p:nvSpPr>
        <p:spPr>
          <a:xfrm>
            <a:off x="3419640" y="2008080"/>
            <a:ext cx="4475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veintidó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"/>
          <p:cNvSpPr/>
          <p:nvPr/>
        </p:nvSpPr>
        <p:spPr>
          <a:xfrm>
            <a:off x="3419640" y="2676600"/>
            <a:ext cx="4475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diecinuev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"/>
          <p:cNvSpPr/>
          <p:nvPr/>
        </p:nvSpPr>
        <p:spPr>
          <a:xfrm>
            <a:off x="3419640" y="3346560"/>
            <a:ext cx="4475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treint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4014720"/>
            <a:ext cx="4475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cator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"/>
          <p:cNvSpPr/>
          <p:nvPr/>
        </p:nvSpPr>
        <p:spPr>
          <a:xfrm>
            <a:off x="3419640" y="4684680"/>
            <a:ext cx="4475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veintisiet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"/>
          <p:cNvSpPr/>
          <p:nvPr/>
        </p:nvSpPr>
        <p:spPr>
          <a:xfrm>
            <a:off x="3419640" y="5353200"/>
            <a:ext cx="4475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tr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"/>
          <p:cNvSpPr/>
          <p:nvPr/>
        </p:nvSpPr>
        <p:spPr>
          <a:xfrm>
            <a:off x="3419640" y="6021360"/>
            <a:ext cx="4475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veinticinc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 Seccombe</cp:lastModifiedBy>
  <dcterms:modified xsi:type="dcterms:W3CDTF">2014-01-10T09:50:33Z</dcterms:modified>
  <cp:revision>99</cp:revision>
  <dc:subject/>
  <dc:title>TITLE</dc:title>
</cp:coreProperties>
</file>