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DB0-0C43-4EB9-9FFF-8E729F3F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110-F48E-42BD-9C12-AE698A7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3A4-D6D2-4D28-94CD-BBDA0419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DBD-C989-43F1-8687-8C66B1D6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87F-8FC0-4854-986C-477A3B2F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831-DCA4-4C0A-A333-7D24084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691-2651-4955-91A2-344B948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F52-89BF-4501-9DCC-3D3A4260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5D8-E3FB-46E8-BDBE-675AA823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5E6-69FE-4952-9909-72A2BC9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66F-88FF-40C3-8F70-BB884DE1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43D-B71E-4375-8EA9-44D2EFB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F6A-BC55-4E3C-9F82-3B095BD0DBC5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-1028880" y="0"/>
            <a:ext cx="2057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3695" r="58061" b="3289"/>
          <a:stretch/>
        </p:blipFill>
        <p:spPr>
          <a:xfrm>
            <a:off x="7956720" y="0"/>
            <a:ext cx="3960720" cy="702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48000" y="0"/>
            <a:ext cx="460872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0"/>
            <a:ext cx="180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0"/>
            <a:ext cx="223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V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I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IV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V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I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XXV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i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66996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iecisé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133812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ue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200808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eintidó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67660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iecinue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34656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ei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401472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at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468468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eintisi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535320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6021360"/>
            <a:ext cx="44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eintici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50:33Z</dcterms:modified>
  <cp:revision>99</cp:revision>
  <dc:subject/>
  <dc:title>TITLE</dc:title>
</cp:coreProperties>
</file>