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7D9C-C0BA-45DE-9878-7F791A098E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232-F32D-4B95-A3B9-AB83A8A8F8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383-5C29-417B-916E-076D0659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850-0616-4414-B9F1-F7F0C6E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0D-E32C-4DEB-BE33-323AB0B8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F27-2641-4EB3-A0A5-048B222E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E9E-D59D-4F51-9DC8-4CE32558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444-6556-4741-94D4-B230123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B1F-68B2-4D62-8509-8566046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07B-D8A4-4BF8-AC1C-C163D3C5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944-CA8D-4073-91D4-B103E813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04A-46A2-4B29-BB33-04CD367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507-0749-46FD-9AFB-AD8B1DD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F9E-EA2A-4961-A46E-B6CEDB4D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BD3C-7734-4210-A65A-6015D04053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interest.co.uk/pin/489696159482072806/" TargetMode="External"/><Relationship Id="rId2" Type="http://schemas.openxmlformats.org/officeDocument/2006/relationships/hyperlink" Target="https://www.pinterest.co.uk/pin/489696159482072806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eft Bracket 1"/>
          <p:cNvSpPr/>
          <p:nvPr/>
        </p:nvSpPr>
        <p:spPr>
          <a:xfrm rot="5400000">
            <a:off x="4166280" y="2899080"/>
            <a:ext cx="648000" cy="4011840"/>
          </a:xfrm>
          <a:custGeom>
            <a:avLst/>
            <a:gdLst>
              <a:gd name="textAreaLeft" fmla="*/ 190440 w 648000"/>
              <a:gd name="textAreaRight" fmla="*/ 648000 w 648000"/>
              <a:gd name="textAreaTop" fmla="*/ 27000 h 4011840"/>
              <a:gd name="textAreaBottom" fmla="*/ 3984840 h 401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6"/>
                  <a:pt x="0" y="291"/>
                </a:cubicBezTo>
                <a:lnTo>
                  <a:pt x="0" y="21309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traight Connector 3"/>
          <p:cNvSpPr/>
          <p:nvPr/>
        </p:nvSpPr>
        <p:spPr>
          <a:xfrm flipV="1">
            <a:off x="4643280" y="3212640"/>
            <a:ext cx="0" cy="1368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eft Bracket 7"/>
          <p:cNvSpPr/>
          <p:nvPr/>
        </p:nvSpPr>
        <p:spPr>
          <a:xfrm rot="5400000">
            <a:off x="665928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eft Bracket 8"/>
          <p:cNvSpPr/>
          <p:nvPr/>
        </p:nvSpPr>
        <p:spPr>
          <a:xfrm rot="5400000">
            <a:off x="1764360" y="764280"/>
            <a:ext cx="647640" cy="324000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3240000"/>
              <a:gd name="textAreaBottom" fmla="*/ 3213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traight Connector 9"/>
          <p:cNvSpPr/>
          <p:nvPr/>
        </p:nvSpPr>
        <p:spPr>
          <a:xfrm flipV="1">
            <a:off x="6983280" y="1125360"/>
            <a:ext cx="0" cy="9352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traight Connector 12"/>
          <p:cNvSpPr/>
          <p:nvPr/>
        </p:nvSpPr>
        <p:spPr>
          <a:xfrm flipV="1">
            <a:off x="2268360" y="1114200"/>
            <a:ext cx="0" cy="936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480" y="1268280"/>
            <a:ext cx="21430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a Sof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2411280" y="1268280"/>
            <a:ext cx="31654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y Juan Carlos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2728800" y="3500280"/>
            <a:ext cx="177192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lipe 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4788000" y="3500280"/>
            <a:ext cx="14396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tiz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1601640" y="5877000"/>
            <a:ext cx="17798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no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4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5597640" y="5877000"/>
            <a:ext cx="17780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f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2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7451640" y="4995720"/>
            <a:ext cx="154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a"/>
                </a:solidFill>
                <a:latin typeface="Comic Sans MS"/>
              </a:rPr>
              <a:t>Sofía, Infanta de Españ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6480" y="4995720"/>
            <a:ext cx="1546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a"/>
                </a:solidFill>
                <a:latin typeface="Comic Sans MS"/>
              </a:rPr>
              <a:t>Leonor, Princesa de Asturi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22320" y="3470400"/>
            <a:ext cx="110160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traight Connector 26"/>
          <p:cNvSpPr/>
          <p:nvPr/>
        </p:nvSpPr>
        <p:spPr>
          <a:xfrm>
            <a:off x="2050920" y="2060640"/>
            <a:ext cx="0" cy="28872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41"/>
          <p:cNvSpPr/>
          <p:nvPr/>
        </p:nvSpPr>
        <p:spPr>
          <a:xfrm>
            <a:off x="1230480" y="3470400"/>
            <a:ext cx="139680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ist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traight Connector 2048"/>
          <p:cNvSpPr/>
          <p:nvPr/>
        </p:nvSpPr>
        <p:spPr>
          <a:xfrm>
            <a:off x="2050920" y="1114560"/>
            <a:ext cx="433440" cy="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Straight Connector 2052"/>
          <p:cNvSpPr/>
          <p:nvPr/>
        </p:nvSpPr>
        <p:spPr>
          <a:xfrm>
            <a:off x="4319640" y="3213000"/>
            <a:ext cx="588960" cy="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230480" y="2060640"/>
            <a:ext cx="5540040" cy="100764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sert recent pictures of the members of the royal fami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50920" y="189000"/>
            <a:ext cx="871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This family tree is for information, as the children are always very interested in the Spanish royal fami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You may also want to show the children how Leonor and Sofía are descended from our Queen Victoria.  This family tree of the Borbón family is useful </a:t>
            </a:r>
            <a:r>
              <a:rPr b="0" lang="en-GB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s://www.pinterest.co.uk/pin/489696159482072806</a:t>
            </a:r>
            <a:r>
              <a:rPr b="0" lang="en-GB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/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 Victoria Eugenia of Battenberg was Queen Victoria’s grand-daughter (Princess Beatrice’s daughter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58:09Z</dcterms:modified>
  <cp:revision>168</cp:revision>
  <dc:subject/>
  <dc:title>TITLE</dc:title>
</cp:coreProperties>
</file>