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664F-7809-4011-8EFA-C56B120F2A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F213-3E21-4DCA-A101-F576A65412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D3F-CEBD-479F-A53E-0B8C0B09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CCF-DA2B-4720-B5B1-B5042EDE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29D-99F9-4122-AF82-3E6F4BE0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389-AD8A-4337-91CE-05EDAEDD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97F-1758-4661-AF56-44CA7390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D34-1007-41BB-BEFD-4B9FDBA6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6F8-EBD5-455B-ADD0-6BB5B08F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914-BAD4-4F0C-91D5-07D0B4E8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125-A5FD-408D-87E3-AFDC712B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D36-7DDD-45C2-BAC0-9BF72E25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5A7-D446-4892-8445-D0DE858A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258-1B74-4270-9FC9-8B0ABF8E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A092-78DA-4C18-9184-F43538EC2F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pinterest.co.uk/pin/489696159482072806/" TargetMode="External"/><Relationship Id="rId2" Type="http://schemas.openxmlformats.org/officeDocument/2006/relationships/hyperlink" Target="https://www.pinterest.co.uk/pin/489696159482072806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Left Bracket 1"/>
          <p:cNvSpPr/>
          <p:nvPr/>
        </p:nvSpPr>
        <p:spPr>
          <a:xfrm rot="5400000">
            <a:off x="4166280" y="2899080"/>
            <a:ext cx="648000" cy="4011840"/>
          </a:xfrm>
          <a:custGeom>
            <a:avLst/>
            <a:gdLst>
              <a:gd name="textAreaLeft" fmla="*/ 190440 w 648000"/>
              <a:gd name="textAreaRight" fmla="*/ 648000 w 648000"/>
              <a:gd name="textAreaTop" fmla="*/ 27000 h 4011840"/>
              <a:gd name="textAreaBottom" fmla="*/ 3984840 h 401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6"/>
                  <a:pt x="0" y="291"/>
                </a:cubicBezTo>
                <a:lnTo>
                  <a:pt x="0" y="21309"/>
                </a:lnTo>
                <a:cubicBezTo>
                  <a:pt x="0" y="2145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Straight Connector 3"/>
          <p:cNvSpPr/>
          <p:nvPr/>
        </p:nvSpPr>
        <p:spPr>
          <a:xfrm flipV="1">
            <a:off x="4643280" y="3212640"/>
            <a:ext cx="0" cy="136836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Left Bracket 7"/>
          <p:cNvSpPr/>
          <p:nvPr/>
        </p:nvSpPr>
        <p:spPr>
          <a:xfrm rot="5400000">
            <a:off x="6659280" y="907920"/>
            <a:ext cx="647640" cy="2952720"/>
          </a:xfrm>
          <a:custGeom>
            <a:avLst/>
            <a:gdLst>
              <a:gd name="textAreaLeft" fmla="*/ 190440 w 647640"/>
              <a:gd name="textAreaRight" fmla="*/ 648000 w 647640"/>
              <a:gd name="textAreaTop" fmla="*/ 27000 h 2952720"/>
              <a:gd name="textAreaBottom" fmla="*/ 29257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8"/>
                  <a:pt x="0" y="395"/>
                </a:cubicBezTo>
                <a:lnTo>
                  <a:pt x="0" y="21205"/>
                </a:lnTo>
                <a:cubicBezTo>
                  <a:pt x="0" y="21403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Left Bracket 8"/>
          <p:cNvSpPr/>
          <p:nvPr/>
        </p:nvSpPr>
        <p:spPr>
          <a:xfrm rot="5400000">
            <a:off x="1764360" y="764280"/>
            <a:ext cx="647640" cy="3240000"/>
          </a:xfrm>
          <a:custGeom>
            <a:avLst/>
            <a:gdLst>
              <a:gd name="textAreaLeft" fmla="*/ 190440 w 647640"/>
              <a:gd name="textAreaRight" fmla="*/ 648000 w 647640"/>
              <a:gd name="textAreaTop" fmla="*/ 27000 h 3240000"/>
              <a:gd name="textAreaBottom" fmla="*/ 321300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0"/>
                  <a:pt x="0" y="360"/>
                </a:cubicBezTo>
                <a:lnTo>
                  <a:pt x="0" y="21240"/>
                </a:lnTo>
                <a:cubicBezTo>
                  <a:pt x="0" y="2142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Straight Connector 9"/>
          <p:cNvSpPr/>
          <p:nvPr/>
        </p:nvSpPr>
        <p:spPr>
          <a:xfrm flipV="1">
            <a:off x="6983280" y="1125360"/>
            <a:ext cx="0" cy="93528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Straight Connector 12"/>
          <p:cNvSpPr/>
          <p:nvPr/>
        </p:nvSpPr>
        <p:spPr>
          <a:xfrm flipV="1">
            <a:off x="2268360" y="1114200"/>
            <a:ext cx="0" cy="93636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6480" y="1268280"/>
            <a:ext cx="2143080" cy="5205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ina Sofí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2411280" y="1268280"/>
            <a:ext cx="3165480" cy="5205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y Juan Carlos 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22"/>
          <p:cNvSpPr/>
          <p:nvPr/>
        </p:nvSpPr>
        <p:spPr>
          <a:xfrm>
            <a:off x="2728800" y="3500280"/>
            <a:ext cx="1771920" cy="9471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lipe V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23"/>
          <p:cNvSpPr/>
          <p:nvPr/>
        </p:nvSpPr>
        <p:spPr>
          <a:xfrm>
            <a:off x="4788000" y="3500280"/>
            <a:ext cx="1439640" cy="9471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ina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tiz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1601640" y="5877000"/>
            <a:ext cx="1779840" cy="9471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ono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4 añ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25"/>
          <p:cNvSpPr/>
          <p:nvPr/>
        </p:nvSpPr>
        <p:spPr>
          <a:xfrm>
            <a:off x="5597640" y="5877000"/>
            <a:ext cx="1778040" cy="9471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fí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2 añ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7451640" y="4995720"/>
            <a:ext cx="1548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a"/>
                </a:solidFill>
                <a:latin typeface="Comic Sans MS"/>
              </a:rPr>
              <a:t>Sofía, Infanta de Españ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9"/>
          <p:cNvSpPr/>
          <p:nvPr/>
        </p:nvSpPr>
        <p:spPr>
          <a:xfrm>
            <a:off x="6480" y="4995720"/>
            <a:ext cx="1546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a"/>
                </a:solidFill>
                <a:latin typeface="Comic Sans MS"/>
              </a:rPr>
              <a:t>Leonor, Princesa de Asturia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40"/>
          <p:cNvSpPr/>
          <p:nvPr/>
        </p:nvSpPr>
        <p:spPr>
          <a:xfrm>
            <a:off x="22320" y="3470400"/>
            <a:ext cx="1101600" cy="5205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Straight Connector 26"/>
          <p:cNvSpPr/>
          <p:nvPr/>
        </p:nvSpPr>
        <p:spPr>
          <a:xfrm>
            <a:off x="2050920" y="2060640"/>
            <a:ext cx="0" cy="28872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41"/>
          <p:cNvSpPr/>
          <p:nvPr/>
        </p:nvSpPr>
        <p:spPr>
          <a:xfrm>
            <a:off x="1230480" y="3470400"/>
            <a:ext cx="1396800" cy="5205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isti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Straight Connector 2048"/>
          <p:cNvSpPr/>
          <p:nvPr/>
        </p:nvSpPr>
        <p:spPr>
          <a:xfrm>
            <a:off x="2050920" y="1114560"/>
            <a:ext cx="433440" cy="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Straight Connector 2052"/>
          <p:cNvSpPr/>
          <p:nvPr/>
        </p:nvSpPr>
        <p:spPr>
          <a:xfrm>
            <a:off x="4319640" y="3213000"/>
            <a:ext cx="588960" cy="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230480" y="2060640"/>
            <a:ext cx="5540040" cy="100764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nsert recent pictures of the members of the royal famil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250920" y="189000"/>
            <a:ext cx="871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e9"/>
                </a:solidFill>
                <a:latin typeface="Arial"/>
              </a:rPr>
              <a:t>Notes for the teach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Due to copyright restrictions, this PowerPoint cannot be shared with photographs copied from the internet.</a:t>
            </a:r>
            <a:br>
              <a:rPr sz="2000"/>
            </a:b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This family tree is for information, as the children are always very interested in the Spanish royal fami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You may also want to show the children how Leonor and Sofía are descended from our Queen Victoria.  This family tree of the Borbón family is useful </a:t>
            </a:r>
            <a:r>
              <a:rPr b="0" lang="en-GB" sz="20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s://www.pinterest.co.uk/pin/489696159482072806</a:t>
            </a:r>
            <a:r>
              <a:rPr b="0" lang="en-GB" sz="20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/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 Victoria Eugenia of Battenberg was Queen Victoria’s grand-daughter (Princess Beatrice’s daughter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58:09Z</dcterms:modified>
  <cp:revision>168</cp:revision>
  <dc:subject/>
  <dc:title>TITLE</dc:title>
</cp:coreProperties>
</file>