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BC3-60EF-48E7-AE2B-CC929B7140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172-4B02-419B-A201-8E3734C947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D70-1C86-4D9D-93DC-971FB325EC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AA3-F4FA-42A8-9370-37FD8C58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C5F-90CA-4E82-8E14-4BB5035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A74-B76D-48EE-9D13-29443A9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F30-53A1-4771-BFB4-6068A315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F60-B79A-471D-90EA-4F27E9D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48A-537F-421D-9A83-843DE37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8E0-4D3E-4B9C-9F9D-2885A28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7A7-ABAA-426B-9854-357F0D3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804-DECF-4F00-9405-C5257FA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48E-44B0-4C37-864B-EC4A553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B67-1C4A-4D06-86EC-174CFB1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6A3-EFDD-42F6-A906-9993BF2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5B6-7FCB-42C8-805B-8A9D7D3D12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11592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1760" y="885960"/>
          <a:ext cx="8904240" cy="5856120"/>
        </p:xfrm>
        <a:graphic>
          <a:graphicData uri="http://schemas.openxmlformats.org/drawingml/2006/table">
            <a:tbl>
              <a:tblPr/>
              <a:tblGrid>
                <a:gridCol w="623880"/>
                <a:gridCol w="8280360"/>
              </a:tblGrid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Miguel es el veintinueve de septiem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Julio es el doce de abr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Amelia es el veintiuno de marz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Cecilia es el dieciséis de juni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Lucas es el dieciocho de octu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08000" y="11592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1760" y="885960"/>
          <a:ext cx="8904240" cy="5754600"/>
        </p:xfrm>
        <a:graphic>
          <a:graphicData uri="http://schemas.openxmlformats.org/drawingml/2006/table">
            <a:tbl>
              <a:tblPr/>
              <a:tblGrid>
                <a:gridCol w="623880"/>
                <a:gridCol w="8280360"/>
              </a:tblGrid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Miguel es el veintinueve de septiem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Julio es el doce de abr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Amelia es el veintiuno de marz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Cecilia es el dieciséis de juni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Lucas es el dieciocho de octu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2"/>
          <p:cNvSpPr/>
          <p:nvPr/>
        </p:nvSpPr>
        <p:spPr>
          <a:xfrm>
            <a:off x="440676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380360" y="16621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99556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700360" y="47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724120" y="5950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2-14T09:10:22Z</dcterms:modified>
  <cp:revision>103</cp:revision>
  <dc:subject/>
  <dc:title>TITLE</dc:title>
</cp:coreProperties>
</file>