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9033-99EF-458C-92A6-5446DA863F9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15B2-9CD4-412C-9995-3DF6BE35C72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heck written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ED60-AD50-40D4-B603-D4C9FEE26E3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5932-A6EA-4FE3-AAB0-4DCC6A0F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10F6-9E6B-4F6B-862C-D0E430B2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AA84-3BB8-4F5A-A697-6C0B3B86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150D-27DD-4305-B067-39C36222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894E-6D43-4C99-8F6F-AD77CE5C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A975-622A-4973-A49D-649CB07D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0D53-915B-4B24-AA06-B99C14C8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6DA8-C2A9-4708-A880-5F70160F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5A82-C8F8-43FE-BD6A-8A713BDB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362-AC09-40BE-A6FF-87297E73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B83B-D9B8-4C40-A0B5-A857F2B7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1A82-6E01-4856-8596-B97A4AE4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027E-3EF8-42A2-A1F5-BBF32046867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108000" y="115920"/>
            <a:ext cx="85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00"/>
                </a:solidFill>
                <a:latin typeface="Comic Sans MS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31760" y="885960"/>
          <a:ext cx="8904240" cy="5856120"/>
        </p:xfrm>
        <a:graphic>
          <a:graphicData uri="http://schemas.openxmlformats.org/drawingml/2006/table">
            <a:tbl>
              <a:tblPr/>
              <a:tblGrid>
                <a:gridCol w="623880"/>
                <a:gridCol w="8280360"/>
              </a:tblGrid>
              <a:tr h="1290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día de San Miguel es el veintinueve de septiembre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día de San Julio es el doce de abril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9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día de Santa Amelia es el veintiuno de marzo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0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día de Santa Cecilia es el dieciséis de junio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0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día de San Lucas es el dieciocho de octubre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108000" y="115920"/>
            <a:ext cx="85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cec00"/>
                </a:solidFill>
                <a:latin typeface="Comic Sans MS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31760" y="885960"/>
          <a:ext cx="8904240" cy="5754600"/>
        </p:xfrm>
        <a:graphic>
          <a:graphicData uri="http://schemas.openxmlformats.org/drawingml/2006/table">
            <a:tbl>
              <a:tblPr/>
              <a:tblGrid>
                <a:gridCol w="623880"/>
                <a:gridCol w="8280360"/>
              </a:tblGrid>
              <a:tr h="1290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día de San Miguel es el veintinueve de septiembre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3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día de San Julio es el doce de abril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0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día de Santa Amelia es el veintiuno de marzo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día de Santa Cecilia es el dieciséis de junio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0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 día de San Lucas es el dieciocho de octubre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2"/>
          <p:cNvSpPr/>
          <p:nvPr/>
        </p:nvSpPr>
        <p:spPr>
          <a:xfrm>
            <a:off x="4406760" y="148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ff00"/>
                </a:solidFill>
                <a:latin typeface="Comic Sans MS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7380360" y="16621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ff00"/>
                </a:solidFill>
                <a:latin typeface="Comic Sans MS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2995560" y="3429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ff00"/>
                </a:solidFill>
                <a:latin typeface="Comic Sans MS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2700360" y="472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ff00"/>
                </a:solidFill>
                <a:latin typeface="Comic Sans MS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2724120" y="59500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ff00"/>
                </a:solidFill>
                <a:latin typeface="Comic Sans MS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2-14T09:10:22Z</dcterms:modified>
  <cp:revision>103</cp:revision>
  <dc:subject/>
  <dc:title>TITLE</dc:title>
</cp:coreProperties>
</file>