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AAC7-AF3D-46E5-BEAE-83B0EC20861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D0D1-1186-4C07-9710-D84486AE0E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BCC-2507-4564-99A4-FE401015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8D1-DDC6-4E11-8016-D1A00A72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4F7-AC9C-48FD-8348-572338F9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AFC-8098-4D1C-906C-FC48CF54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FE4-BA58-4FEC-A976-E754DADC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CE2-EAE5-4DB5-B48F-5A3F58B3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6B1-1C64-48CB-9239-8286A7C8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AE8-355D-4669-8490-1144FA51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1D5-B1B4-4756-8702-6006FED1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E24-DB95-46AA-9335-596E3D90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F26-41B2-493E-8E25-FDE20EC6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424-1DE9-4613-AC60-8D2568D4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FDE8-A725-421F-B28C-014D46BA2A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84360" y="-27000"/>
            <a:ext cx="359244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rcRect l="0" t="16711" r="0" b="0"/>
          <a:stretch/>
        </p:blipFill>
        <p:spPr>
          <a:xfrm>
            <a:off x="684360" y="347760"/>
            <a:ext cx="3590640" cy="4268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943520" y="-27000"/>
            <a:ext cx="361476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2"/>
          <a:srcRect l="0" t="16750" r="0" b="0"/>
          <a:stretch/>
        </p:blipFill>
        <p:spPr>
          <a:xfrm>
            <a:off x="4932360" y="347760"/>
            <a:ext cx="3614760" cy="42577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611280" y="5006880"/>
            <a:ext cx="85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l día de </a:t>
            </a: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Santa Sofía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s el </a:t>
            </a: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treinta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de </a:t>
            </a: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septiembr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68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79280" y="620640"/>
            <a:ext cx="853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l día de </a:t>
            </a: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____  ______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es el </a:t>
            </a: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________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de </a:t>
            </a: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_________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611280" y="2349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cec00"/>
                </a:solidFill>
                <a:latin typeface="Comic Sans MS"/>
              </a:rPr>
              <a:t>(numb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4716360" y="2349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cec00"/>
                </a:solidFill>
                <a:latin typeface="Comic Sans MS"/>
              </a:rPr>
              <a:t>(mont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635280" y="10526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cec00"/>
                </a:solidFill>
                <a:latin typeface="Comic Sans MS"/>
              </a:rPr>
              <a:t>(sain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1-23T09:47:26Z</dcterms:modified>
  <cp:revision>147</cp:revision>
  <dc:subject/>
  <dc:title>TITLE</dc:title>
</cp:coreProperties>
</file>