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FACA-91C0-46EF-8BBA-3270B4C79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B7CE-DCCB-4993-BAE1-FA1E61C9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F4C3-2EF8-418B-AB2F-78525E303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B17B-05A2-4096-A517-443471098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D873-CD72-4102-B72F-A9D8FC7F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8DB6-1C66-4841-8D6D-E8B4384E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5870-E254-43B1-8EC4-A197B878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5073-49A3-4765-A335-F4329920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9720-723E-4B5E-855E-2448AC13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E05E-39E3-4D9C-9282-7E1AFC82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8820-CEA1-4341-947B-59A69DFE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E037-8F29-4B48-92D9-77039B9B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3A6E-7AD1-4084-99DC-8A666C2447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4.png"/><Relationship Id="rId9" Type="http://schemas.openxmlformats.org/officeDocument/2006/relationships/image" Target="../media/image1.pn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image" Target="../media/image8.jpeg"/><Relationship Id="rId13" Type="http://schemas.openxmlformats.org/officeDocument/2006/relationships/image" Target="../media/image8.jpeg"/><Relationship Id="rId14" Type="http://schemas.openxmlformats.org/officeDocument/2006/relationships/image" Target="../media/image8.jpeg"/><Relationship Id="rId15" Type="http://schemas.openxmlformats.org/officeDocument/2006/relationships/image" Target="../media/image8.jpeg"/><Relationship Id="rId16" Type="http://schemas.openxmlformats.org/officeDocument/2006/relationships/image" Target="../media/image8.jpeg"/><Relationship Id="rId17" Type="http://schemas.openxmlformats.org/officeDocument/2006/relationships/image" Target="../media/image8.jpeg"/><Relationship Id="rId18" Type="http://schemas.openxmlformats.org/officeDocument/2006/relationships/image" Target="../media/image8.jpeg"/><Relationship Id="rId1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835280" y="476280"/>
            <a:ext cx="5543280" cy="1955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51280" y="2924280"/>
            <a:ext cx="1701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2590920" cy="914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407280" y="1052640"/>
            <a:ext cx="2736720" cy="954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203640" y="1052640"/>
            <a:ext cx="2665440" cy="960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826920" y="3500280"/>
            <a:ext cx="1293840" cy="2737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7020000" y="3429000"/>
            <a:ext cx="1292040" cy="2736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3851280" y="3429000"/>
            <a:ext cx="13143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713800" cy="4441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332000" y="1773360"/>
            <a:ext cx="939600" cy="1989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771640" y="4724280"/>
            <a:ext cx="2232000" cy="777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11280" y="4005360"/>
            <a:ext cx="1728720" cy="609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6156360" y="3213000"/>
            <a:ext cx="577800" cy="1224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2411280" y="2492280"/>
            <a:ext cx="816120" cy="1728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3203640" y="3789360"/>
            <a:ext cx="194472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7" descr="Pictures of the Euro Coins and Notes"/>
          <p:cNvPicPr/>
          <p:nvPr/>
        </p:nvPicPr>
        <p:blipFill>
          <a:blip r:embed="rId1"/>
          <a:stretch/>
        </p:blipFill>
        <p:spPr>
          <a:xfrm>
            <a:off x="1763640" y="476280"/>
            <a:ext cx="1206720" cy="1224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293840" cy="273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" descr="Pictures of the Euro Coins and Notes"/>
          <p:cNvPicPr/>
          <p:nvPr/>
        </p:nvPicPr>
        <p:blipFill>
          <a:blip r:embed="rId3"/>
          <a:stretch/>
        </p:blipFill>
        <p:spPr>
          <a:xfrm>
            <a:off x="1403280" y="1628640"/>
            <a:ext cx="1206720" cy="1224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5943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¿Cuánto cuest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7667640" y="3429000"/>
            <a:ext cx="1314360" cy="2781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Pictures of the Euro Coins and Notes"/>
          <p:cNvPicPr/>
          <p:nvPr/>
        </p:nvPicPr>
        <p:blipFill>
          <a:blip r:embed="rId5"/>
          <a:stretch/>
        </p:blipFill>
        <p:spPr>
          <a:xfrm>
            <a:off x="6732720" y="4869000"/>
            <a:ext cx="1206360" cy="1224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Pictures of the Euro Coins and Notes"/>
          <p:cNvPicPr/>
          <p:nvPr/>
        </p:nvPicPr>
        <p:blipFill>
          <a:blip r:embed="rId6"/>
          <a:stretch/>
        </p:blipFill>
        <p:spPr>
          <a:xfrm>
            <a:off x="6443640" y="3645000"/>
            <a:ext cx="1206360" cy="1224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Pictures of the Euro Coins and Notes"/>
          <p:cNvPicPr/>
          <p:nvPr/>
        </p:nvPicPr>
        <p:blipFill>
          <a:blip r:embed="rId7"/>
          <a:stretch/>
        </p:blipFill>
        <p:spPr>
          <a:xfrm>
            <a:off x="5435640" y="4653000"/>
            <a:ext cx="1206360" cy="1224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4572000" y="260280"/>
            <a:ext cx="3745080" cy="1349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395280" y="3068640"/>
            <a:ext cx="3673440" cy="1295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7" descr="Pictures of the Euro Coins and Notes"/>
          <p:cNvPicPr/>
          <p:nvPr/>
        </p:nvPicPr>
        <p:blipFill>
          <a:blip r:embed="rId10"/>
          <a:stretch/>
        </p:blipFill>
        <p:spPr>
          <a:xfrm>
            <a:off x="5508720" y="1628640"/>
            <a:ext cx="1206360" cy="1224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Pictures of the Euro Coins and Notes"/>
          <p:cNvPicPr/>
          <p:nvPr/>
        </p:nvPicPr>
        <p:blipFill>
          <a:blip r:embed="rId11"/>
          <a:stretch/>
        </p:blipFill>
        <p:spPr>
          <a:xfrm>
            <a:off x="6732720" y="1628640"/>
            <a:ext cx="1206360" cy="1224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Pictures of the Euro Coins and Notes"/>
          <p:cNvPicPr/>
          <p:nvPr/>
        </p:nvPicPr>
        <p:blipFill>
          <a:blip r:embed="rId12"/>
          <a:stretch/>
        </p:blipFill>
        <p:spPr>
          <a:xfrm>
            <a:off x="7937640" y="1628640"/>
            <a:ext cx="1206360" cy="1224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7" descr="Pictures of the Euro Coins and Notes"/>
          <p:cNvPicPr/>
          <p:nvPr/>
        </p:nvPicPr>
        <p:blipFill>
          <a:blip r:embed="rId13"/>
          <a:stretch/>
        </p:blipFill>
        <p:spPr>
          <a:xfrm>
            <a:off x="4284720" y="1628640"/>
            <a:ext cx="1206360" cy="1224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7" descr="Pictures of the Euro Coins and Notes"/>
          <p:cNvPicPr/>
          <p:nvPr/>
        </p:nvPicPr>
        <p:blipFill>
          <a:blip r:embed="rId14"/>
          <a:stretch/>
        </p:blipFill>
        <p:spPr>
          <a:xfrm>
            <a:off x="611280" y="5634000"/>
            <a:ext cx="1206360" cy="1224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7" descr="Pictures of the Euro Coins and Notes"/>
          <p:cNvPicPr/>
          <p:nvPr/>
        </p:nvPicPr>
        <p:blipFill>
          <a:blip r:embed="rId15"/>
          <a:stretch/>
        </p:blipFill>
        <p:spPr>
          <a:xfrm>
            <a:off x="3564000" y="4365720"/>
            <a:ext cx="1206360" cy="1224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7" descr="Pictures of the Euro Coins and Notes"/>
          <p:cNvPicPr/>
          <p:nvPr/>
        </p:nvPicPr>
        <p:blipFill>
          <a:blip r:embed="rId16"/>
          <a:stretch/>
        </p:blipFill>
        <p:spPr>
          <a:xfrm>
            <a:off x="2411280" y="4365720"/>
            <a:ext cx="1206720" cy="1224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Pictures of the Euro Coins and Notes"/>
          <p:cNvPicPr/>
          <p:nvPr/>
        </p:nvPicPr>
        <p:blipFill>
          <a:blip r:embed="rId17"/>
          <a:stretch/>
        </p:blipFill>
        <p:spPr>
          <a:xfrm>
            <a:off x="1187280" y="4365720"/>
            <a:ext cx="1206720" cy="1224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7" descr="Pictures of the Euro Coins and Notes"/>
          <p:cNvPicPr/>
          <p:nvPr/>
        </p:nvPicPr>
        <p:blipFill>
          <a:blip r:embed="rId18"/>
          <a:stretch/>
        </p:blipFill>
        <p:spPr>
          <a:xfrm>
            <a:off x="0" y="4365720"/>
            <a:ext cx="12063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3-27T10:05:01Z</dcterms:modified>
  <cp:revision>69</cp:revision>
  <dc:subject/>
  <dc:title>TITLE</dc:title>
</cp:coreProperties>
</file>