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D61-0B3A-4CC4-AE40-CEB3D78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31D-B3D8-4426-8B37-2FD1C877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CA8-8C00-4471-840C-4EA2A42A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850-4CE2-45A9-B520-70327CF8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49B-9BAC-476D-9877-5D5D744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AD4-FABD-47C6-AC53-9C3B863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5FE-C91E-45FE-B935-D004F6E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521-6E5E-4573-A567-337D9A22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69B-593A-43F3-9BE3-4CDB043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13C-DC14-47F7-84CD-3F0F4E9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506-EC4D-496E-8683-969CB1E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641-8A09-445C-B474-624303A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57D1-87E5-4737-9A9B-3A85692C08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543280" cy="195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701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59092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7280" y="1052640"/>
            <a:ext cx="2736720" cy="95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03640" y="1052640"/>
            <a:ext cx="266544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293840" cy="2737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20000" y="3429000"/>
            <a:ext cx="129204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51280" y="3429000"/>
            <a:ext cx="131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4441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939600" cy="198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232000" cy="77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172872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156360" y="3213000"/>
            <a:ext cx="57780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411280" y="2492280"/>
            <a:ext cx="816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203640" y="3789360"/>
            <a:ext cx="19447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7" descr="Pictures of the Euro Coins and Notes"/>
          <p:cNvPicPr/>
          <p:nvPr/>
        </p:nvPicPr>
        <p:blipFill>
          <a:blip r:embed="rId1"/>
          <a:stretch/>
        </p:blipFill>
        <p:spPr>
          <a:xfrm>
            <a:off x="1763640" y="47628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93840" cy="27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Pictures of the Euro Coins and Notes"/>
          <p:cNvPicPr/>
          <p:nvPr/>
        </p:nvPicPr>
        <p:blipFill>
          <a:blip r:embed="rId3"/>
          <a:stretch/>
        </p:blipFill>
        <p:spPr>
          <a:xfrm>
            <a:off x="1403280" y="1628640"/>
            <a:ext cx="120672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¿Cuánto cues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667640" y="3429000"/>
            <a:ext cx="1314360" cy="278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ictures of the Euro Coins and Notes"/>
          <p:cNvPicPr/>
          <p:nvPr/>
        </p:nvPicPr>
        <p:blipFill>
          <a:blip r:embed="rId5"/>
          <a:stretch/>
        </p:blipFill>
        <p:spPr>
          <a:xfrm>
            <a:off x="6732720" y="4869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ictures of the Euro Coins and Notes"/>
          <p:cNvPicPr/>
          <p:nvPr/>
        </p:nvPicPr>
        <p:blipFill>
          <a:blip r:embed="rId6"/>
          <a:stretch/>
        </p:blipFill>
        <p:spPr>
          <a:xfrm>
            <a:off x="6443640" y="3645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Pictures of the Euro Coins and Notes"/>
          <p:cNvPicPr/>
          <p:nvPr/>
        </p:nvPicPr>
        <p:blipFill>
          <a:blip r:embed="rId7"/>
          <a:stretch/>
        </p:blipFill>
        <p:spPr>
          <a:xfrm>
            <a:off x="5435640" y="4653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4572000" y="260280"/>
            <a:ext cx="37450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95280" y="3068640"/>
            <a:ext cx="367344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Pictures of the Euro Coins and Notes"/>
          <p:cNvPicPr/>
          <p:nvPr/>
        </p:nvPicPr>
        <p:blipFill>
          <a:blip r:embed="rId10"/>
          <a:stretch/>
        </p:blipFill>
        <p:spPr>
          <a:xfrm>
            <a:off x="5508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Pictures of the Euro Coins and Notes"/>
          <p:cNvPicPr/>
          <p:nvPr/>
        </p:nvPicPr>
        <p:blipFill>
          <a:blip r:embed="rId11"/>
          <a:stretch/>
        </p:blipFill>
        <p:spPr>
          <a:xfrm>
            <a:off x="6732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ictures of the Euro Coins and Notes"/>
          <p:cNvPicPr/>
          <p:nvPr/>
        </p:nvPicPr>
        <p:blipFill>
          <a:blip r:embed="rId12"/>
          <a:stretch/>
        </p:blipFill>
        <p:spPr>
          <a:xfrm>
            <a:off x="793764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Pictures of the Euro Coins and Notes"/>
          <p:cNvPicPr/>
          <p:nvPr/>
        </p:nvPicPr>
        <p:blipFill>
          <a:blip r:embed="rId13"/>
          <a:stretch/>
        </p:blipFill>
        <p:spPr>
          <a:xfrm>
            <a:off x="4284720" y="162864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Pictures of the Euro Coins and Notes"/>
          <p:cNvPicPr/>
          <p:nvPr/>
        </p:nvPicPr>
        <p:blipFill>
          <a:blip r:embed="rId14"/>
          <a:stretch/>
        </p:blipFill>
        <p:spPr>
          <a:xfrm>
            <a:off x="611280" y="563400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Pictures of the Euro Coins and Notes"/>
          <p:cNvPicPr/>
          <p:nvPr/>
        </p:nvPicPr>
        <p:blipFill>
          <a:blip r:embed="rId15"/>
          <a:stretch/>
        </p:blipFill>
        <p:spPr>
          <a:xfrm>
            <a:off x="3564000" y="4365720"/>
            <a:ext cx="1206360" cy="12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Pictures of the Euro Coins and Notes"/>
          <p:cNvPicPr/>
          <p:nvPr/>
        </p:nvPicPr>
        <p:blipFill>
          <a:blip r:embed="rId16"/>
          <a:stretch/>
        </p:blipFill>
        <p:spPr>
          <a:xfrm>
            <a:off x="2411280" y="436572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Pictures of the Euro Coins and Notes"/>
          <p:cNvPicPr/>
          <p:nvPr/>
        </p:nvPicPr>
        <p:blipFill>
          <a:blip r:embed="rId17"/>
          <a:stretch/>
        </p:blipFill>
        <p:spPr>
          <a:xfrm>
            <a:off x="1187280" y="4365720"/>
            <a:ext cx="120672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Pictures of the Euro Coins and Notes"/>
          <p:cNvPicPr/>
          <p:nvPr/>
        </p:nvPicPr>
        <p:blipFill>
          <a:blip r:embed="rId18"/>
          <a:stretch/>
        </p:blipFill>
        <p:spPr>
          <a:xfrm>
            <a:off x="0" y="4365720"/>
            <a:ext cx="120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27T10:05:01Z</dcterms:modified>
  <cp:revision>69</cp:revision>
  <dc:subject/>
  <dc:title>TITLE</dc:title>
</cp:coreProperties>
</file>