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72A-DAC2-457E-8B17-39A63EA2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9E6-3D2B-40F2-B35A-775C9B71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1AB-8EAF-4773-A650-781E7AA2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D36-DB29-4F13-B5C5-1C32C233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6BB9-C4BA-4DDD-B5CD-2FD621FD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9C60-F583-469A-AD48-32D90BE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F825-4B98-499F-A023-7461131E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7F66-5AED-42DA-B23F-53D24925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F709-40F1-4560-B520-BDFE2ADB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9425-F60D-4604-8CE8-BEDC7391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C4F8-FE4B-4AD4-8AE4-F0456F4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A27-7981-4B71-8210-CB7F024B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324-2B48-468F-A2BA-1B55BF1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E6D2-8644-4102-8113-90B69922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87DE-7554-4ACB-AC56-9AA16A74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E648-DFDA-4479-B98B-69D0B7CC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6925-B66D-4005-A1B8-DA1989BC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124C-8D17-4C0A-9E51-79C94EA1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DE60-9934-454C-A198-0D0D8BE9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8AA0-0581-4DEB-BEBF-2E42FA6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A585-F047-4D58-8EF4-DA522E46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2D96-B2CB-43DE-B915-811EA13B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2F1-F797-4486-9C32-17994DBC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96B7-AD81-4078-BA2F-DEC81EA7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0D9F-1371-4606-B51D-8BA82168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E223-6634-4E11-B88C-05D65701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16ED-FAE9-45E9-8F86-5E7B058E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4C26-3177-4625-AC46-05A2D1E6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DFD7-6961-4E67-B515-A1E2F103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69387-DBE6-4BAB-B165-DA45D66C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ECE-FA54-4C49-8D14-5ED8510D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91C-90DE-44A5-A0AE-80D96B55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023-74FF-4205-BDB6-1A5F09C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FD9-E93B-401A-84F7-A96A717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781-19DD-4082-A202-E4B20F40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A5E-5CCF-48A7-8056-E1FF93C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D2B9-111D-4DB7-BA9C-E44CDD1CBD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138E-A684-4CE6-917F-0CDCD237ED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81D4-83EE-4313-963C-5066B214C22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176640" y="66420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50920" y="2133720"/>
            <a:ext cx="8642160" cy="431964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n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920" y="3213000"/>
            <a:ext cx="8642160" cy="324036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n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mos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4221000"/>
            <a:ext cx="8642160" cy="223236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n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mos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5229360"/>
            <a:ext cx="8642160" cy="122400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n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mos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s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20:44Z</dcterms:modified>
  <cp:revision>297</cp:revision>
  <dc:subject/>
  <dc:title>TITLE</dc:title>
</cp:coreProperties>
</file>