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C68-86E7-4DA4-9AA3-301FC6E5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AC6-3192-4884-8F59-81AB0C4D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C35-70C4-4E14-9B87-627DCF9C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60F-B176-4424-8441-0409687B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0C12-F595-4479-8A38-B1AC30B2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F296-DF4B-494F-9133-33D8FD66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E3F4-B1F7-4680-A981-16590B7C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553A-F80A-4F89-A39C-387472D2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574F-EBDB-4A66-80E5-D6F221B1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2934-F882-49ED-84EC-E0B7DD0E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F95F-A756-45D6-8B99-FEF5121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448-1688-48C2-A793-F930B829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FF40-867D-4999-9966-9994E41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51FF-9456-4C91-B929-29225CE1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AB0-F482-4CA8-9071-FEC38D4F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523A-8111-4CA6-B403-F41D81EE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B6D9-91DB-4293-A4F2-6625A6DF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311F-6AA3-4B9D-877E-3DDA97C6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BE4E-5848-4257-A2D3-F74990D6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BB24-B5E5-4129-B9B3-51A3BE76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6F17-2842-4021-938B-EED72504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F576-684D-4C66-AC6D-75C582C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034-DAE6-4B5E-86EB-F7182E57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CE21-DF55-4D81-B8DF-6EC124ED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C08E-4521-41AC-ACA4-89B80726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8119-FDAD-4233-92CB-BAA51DD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E01E-F625-4ACA-BFA5-A226DD0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F6D2-202D-49EF-A643-7B9C89DF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0E631-6D2B-4479-8B75-77BFB15F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8BAB-FA33-428B-A853-18531DE4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94E-F899-4C85-93C1-E8BCB4A9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F46-41F9-4FB4-B250-EF69A158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3B7-AFD8-4701-8942-23D13D76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195-23DE-4988-94A6-3497FCD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33D-F587-49D2-8642-D6025427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9DB-5B67-4268-B92F-3EA9C05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B7E5-1715-4E55-A6FF-75C63139BD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E70F-F221-419A-8726-38787DBD9D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307D-7823-4F76-AEFB-CE19CBF54BF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176640" y="66420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0920" y="2133720"/>
            <a:ext cx="8642160" cy="431964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n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920" y="3213000"/>
            <a:ext cx="8642160" cy="324036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n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mos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4221000"/>
            <a:ext cx="8642160" cy="223236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n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mos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5229360"/>
            <a:ext cx="8642160" cy="122400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n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mos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s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20:44Z</dcterms:modified>
  <cp:revision>297</cp:revision>
  <dc:subject/>
  <dc:title>TITLE</dc:title>
</cp:coreProperties>
</file>