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8C0-F7FD-4594-BC2C-FEC35120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366-7090-48CD-BF46-1B6CC417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218-E10F-48C2-9D5C-22CA3943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61B-28CD-4CA1-BF4E-7FAD57F6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96F0-7041-4B96-BBC3-DEA41A97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6348-202C-4DFE-9A52-0DE04E3E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2091-CCCF-4277-B70B-643844B2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5D0B-CB24-4081-8DCE-235FBB88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5144-5709-41EE-A914-36FD70B5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6E05-775A-4970-86B4-85ABD60B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E556-627C-4835-9CC8-780EA4BA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412-08F9-4751-8C90-745529FD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802C-609F-4391-AE54-761AE834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0F00-9225-46B4-BC24-B05F8FAD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0AD3-D72A-4AB8-9799-9F8DB3A7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AEAF-C977-41FD-80DA-0A7A5428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2102-2C73-4902-9994-896329F3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CA99-71BB-4388-BA03-8FFBFD75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9164-FD0C-44AF-94FC-89B6F36F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ED47-4B74-4AEB-9993-F7CEAA23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76712-54FF-42AA-B583-6B78F76B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717C-89E5-4A36-815B-94EF961E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953-5F03-415F-9A04-05604CEF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8ED2-7BD4-47CB-89F2-8825FA66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B7E4-0235-4AA1-BFDC-11F5F4B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0332-109C-4993-9346-A9BB16A8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6416-ED69-4F93-B598-7298714C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99497-6DB4-4563-AAE5-EB47CF11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C0B8B-8C59-4E0B-A842-388FDBF2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DC370-C6C3-43C8-AF86-037F5ED1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968-0126-4E02-8FE5-103B1955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DB2-A27C-4D1B-9EA4-1B580CA1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3AA-B383-4438-AED8-9C2EB2DE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DDE-1618-4E61-BE60-540C2BB4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772-395B-4112-A668-EF0C26BA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E4D-2478-4A1B-BE07-33567B6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8C24-D365-411E-B4C9-630A23E266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6F3B-8BA3-415F-B774-2072C55EDC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3C34-1255-4C5C-9BF1-B77D4402F27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170160" y="6643800"/>
            <a:ext cx="5967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50920" y="2133720"/>
            <a:ext cx="8642160" cy="431964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920" y="3213000"/>
            <a:ext cx="8642160" cy="324036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4221000"/>
            <a:ext cx="8642160" cy="223236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5229360"/>
            <a:ext cx="8642160" cy="1224000"/>
          </a:xfrm>
          <a:prstGeom prst="rect">
            <a:avLst/>
          </a:prstGeom>
          <a:solidFill>
            <a:srgbClr val="2db9b9"/>
          </a:solidFill>
          <a:ln w="25560">
            <a:solidFill>
              <a:srgbClr val="2d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7093080" y="6165720"/>
            <a:ext cx="2050920" cy="692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250920" y="66600"/>
            <a:ext cx="864216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250920" y="1052640"/>
            <a:ext cx="8642160" cy="51213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useo en co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río en bic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cafetería a pi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 la plaza en cohet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y al mercado en bar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1:21:57Z</dcterms:modified>
  <cp:revision>291</cp:revision>
  <dc:subject/>
  <dc:title>TITLE</dc:title>
</cp:coreProperties>
</file>