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796-0AE7-46C1-BE8C-3E5AA50B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5E5E-A02F-4980-BE3B-F22B948D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0C4-EF02-4DBC-A2E8-2EF7E80D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132C-AA3F-4ABA-9B44-156AF2EA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09EF-8278-451F-BF23-14B704FF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07B2-492C-4187-9FDA-F0BA1156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96BD-A971-429F-ACF7-B60F1647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7FC7-E4B6-4390-BA1D-B136F699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C111-BF24-4041-87C6-81862035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185E-974F-48F8-9DAE-337BAD0A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3FFD-EF1C-4BB1-8AAF-6AC12B4D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C7E4-2761-4F54-850E-B87493F4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A86B-DBD5-4995-BC70-C8C26EC1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00F4-5BB9-4A2D-9614-712EF6B5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0279-07E9-40CA-93C2-2B103B89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B423-A870-4628-8366-AE1917AE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D511-3E08-42CC-A3EE-945EB880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F52F5-C340-4B1A-9CA4-7AB8FDFD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BF08-056E-4BEE-909C-EC7853E2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F96B1-D6F4-4284-BEB1-99392BAD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BC31E-62F2-4952-AE36-D7FD25A5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0ECFC-BCC1-4CA7-A7A7-B7E44AD9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0ED-92E6-4F13-AC38-01A2DEA0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65B8A-C099-40ED-A6F9-49F6DBF8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37A44-272D-48FC-9998-2E8B57AF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AD936-76BC-43F0-AF94-D7F20FCC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15D2-C0CB-4EBA-B9CD-0AA1BB5A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27CCA-4CF2-456F-82DA-A21A19CF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441A9-6CB9-4D8E-8D19-C5005197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94F30-1EC1-4A82-8D7F-F90585ED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375-ADFC-43CB-8D7E-26885684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40C-2FF5-49D3-B144-737239E5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B7B-3564-49C8-83B2-FE958C77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73D0-2907-4430-9480-6C94E2AA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DD52-9DC6-4600-8F14-67E3E17F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64A-7909-4830-A995-6BF2471D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23CA-42AE-4845-973B-248334F497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37A9-CB86-49EF-8B11-1105A9D36B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FC77-22F9-4944-84A5-5D92F83380C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3170160" y="6643800"/>
            <a:ext cx="5967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50920" y="2133720"/>
            <a:ext cx="8642160" cy="431964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920" y="3213000"/>
            <a:ext cx="8642160" cy="324036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0920" y="4221000"/>
            <a:ext cx="8642160" cy="223236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5229360"/>
            <a:ext cx="8642160" cy="122400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1:21:57Z</dcterms:modified>
  <cp:revision>291</cp:revision>
  <dc:subject/>
  <dc:title>TITLE</dc:title>
</cp:coreProperties>
</file>