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3707-4CD7-4F4B-BF0A-C68DF11257B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9C13-BA1F-43F5-97AC-056833271A4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FBEF-40FD-4BFE-9CB7-A9A110F4ADA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9BC7-84A1-4B25-BD69-63CF86DF630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2B0E-9CE7-4C06-830B-CCF07A79F72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7E6B-678A-49D4-9F77-FE70B50FBFA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6A04-DC56-450B-AE97-89DE4F93C3C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1014-33EC-4658-9B42-9CBFD105D73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6F9C-6120-4EDE-9037-EC60FFF8D93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A9DC-A41D-416D-84B3-26D508BD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751D-D6DA-4A3E-A81A-201AC6BC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37B7-B552-4B65-968E-B8A370520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0C0E-2A65-4DDF-8043-E8414CCF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8787-D806-43A9-9A54-0896892F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F77F-E2AD-4BFE-A848-B7A0E172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F0B2-5681-4625-9DF5-45BDF92D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3C8B-0242-4A14-80B4-74FFAFE7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DDEB-4096-42D1-8622-A8085960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6A97-9E69-4D6F-A595-6E22D893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CA0E-2AEA-44D6-A99D-54BE468C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4AEB-E9D5-4232-940C-B5F7F860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6E50-1DB5-4D42-A9DE-37E2B0C6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2048-8630-4D40-9CE4-D914F603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CDC1-FE35-47FE-AFA4-87526E3E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6F15-8AEA-4B8A-9598-A34C836A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026B-22E5-48D8-A69B-B0A8336E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71DF9-AEE4-49FF-84EC-C8F68551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E1D3C-AA9C-4B7A-BAD9-B6B46E27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C63A6-00BD-4DAD-BA4E-00F7BFB5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DB3AB-0F9A-46F5-9AFB-24D07154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6A971-04D5-4B20-91F4-92BE5D54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E9AD-86B8-4173-85B1-C7EBB275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B422F-3E6F-49A5-8BD5-FF826DEE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81595-0A77-4CE3-8D4C-4CD289F7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AB5CD-CBE1-4638-BB5F-6945E8B4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C2D9E-812D-4DAF-970A-A5018857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89F82-5240-4250-93D9-1C8F2379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3D209-E45E-416E-80CA-92BFE1D7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7C1AD-39A2-4BB5-832D-A4560977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121D6-A68B-4E85-9E01-C62BF5F4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8A6DA-1CB7-4FCA-A8F6-5C1C856F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22B3F-7107-4FD1-AFB6-E13BE240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DBC6-6ECC-42EC-AFBB-5552A2E8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5325F-80D2-4086-9558-FDCC03C1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30B83-1B4A-4CA2-8D63-5B45625B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71B06-B146-4297-BEFC-9CB51453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3F472-F40E-444E-9353-8337B552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1CD68-44EC-4890-836E-1B93C05B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7CBB0-610B-41E6-B05E-A164A9AB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FF5E8-EF63-4C41-8147-775E22FD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24227-C849-4437-AC00-AF14B138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403D2-CE6C-4128-86CD-7CDD4A87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569D-4397-4165-86BF-EEF8E8D3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AE0C-8F42-498F-A7A5-6399D29F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5AC6-C6D1-4703-A257-255EF4C1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2DDE-9030-4580-9E50-CEC2138A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ED38-BFC2-4FD4-900E-33B39B03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C5B1-64D5-4E70-81E5-E0F6EF9674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F5CF-07FA-48C9-9FB3-65E84D6CEB9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B493-847B-43BF-8401-D6A51357FE2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272F-B4CB-4F8B-8D6C-9A62434CFD9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4444920" y="2567160"/>
            <a:ext cx="455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he/she speak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Box 14"/>
          <p:cNvSpPr/>
          <p:nvPr/>
        </p:nvSpPr>
        <p:spPr>
          <a:xfrm>
            <a:off x="179280" y="2147760"/>
            <a:ext cx="36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habl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a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4444920" y="4019400"/>
            <a:ext cx="455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one speaks /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is spoken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Box 16"/>
          <p:cNvSpPr/>
          <p:nvPr/>
        </p:nvSpPr>
        <p:spPr>
          <a:xfrm>
            <a:off x="179280" y="4078440"/>
            <a:ext cx="3614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Comic Sans MS"/>
              </a:rPr>
              <a:t>se habl</a:t>
            </a:r>
            <a:r>
              <a:rPr b="0" lang="en-GB" sz="6600" spc="-1" strike="noStrike" u="sng">
                <a:solidFill>
                  <a:srgbClr val="66ffff"/>
                </a:solidFill>
                <a:uFillTx/>
                <a:latin typeface="Comic Sans MS"/>
              </a:rPr>
              <a:t>a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Rounded Rectangular Callout 2"/>
          <p:cNvSpPr/>
          <p:nvPr/>
        </p:nvSpPr>
        <p:spPr>
          <a:xfrm>
            <a:off x="611280" y="1430280"/>
            <a:ext cx="4105080" cy="3097440"/>
          </a:xfrm>
          <a:prstGeom prst="wedgeRoundRectCallout">
            <a:avLst>
              <a:gd name="adj1" fmla="val -41254"/>
              <a:gd name="adj2" fmla="val 92032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e habla español?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1835280" y="5429160"/>
            <a:ext cx="70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Where is Spanish spoken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Rounded Rectangular Callout 10"/>
          <p:cNvSpPr/>
          <p:nvPr/>
        </p:nvSpPr>
        <p:spPr>
          <a:xfrm>
            <a:off x="108000" y="260280"/>
            <a:ext cx="216036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español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Rounded Rectangular Callout 14"/>
          <p:cNvSpPr/>
          <p:nvPr/>
        </p:nvSpPr>
        <p:spPr>
          <a:xfrm>
            <a:off x="2340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inglé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Rounded Rectangular Callout 15"/>
          <p:cNvSpPr/>
          <p:nvPr/>
        </p:nvSpPr>
        <p:spPr>
          <a:xfrm>
            <a:off x="4572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francé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Rounded Rectangular Callout 16"/>
          <p:cNvSpPr/>
          <p:nvPr/>
        </p:nvSpPr>
        <p:spPr>
          <a:xfrm>
            <a:off x="6804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alemá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1042920" y="2421000"/>
            <a:ext cx="3276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Aleman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Argentin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Austral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Austr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Bélgic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Burkina Fas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Canadá</a:t>
            </a:r>
            <a:br>
              <a:rPr sz="3200"/>
            </a:b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Chi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Box 17"/>
          <p:cNvSpPr/>
          <p:nvPr/>
        </p:nvSpPr>
        <p:spPr>
          <a:xfrm>
            <a:off x="4319640" y="2421000"/>
            <a:ext cx="3565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Españ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Estados Unido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Franc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Inglaterr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Luxemburg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éxic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ueva Zeland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Suiz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Rounded Rectangular Callout 10"/>
          <p:cNvSpPr/>
          <p:nvPr/>
        </p:nvSpPr>
        <p:spPr>
          <a:xfrm>
            <a:off x="108000" y="260280"/>
            <a:ext cx="216036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español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Rounded Rectangular Callout 14"/>
          <p:cNvSpPr/>
          <p:nvPr/>
        </p:nvSpPr>
        <p:spPr>
          <a:xfrm>
            <a:off x="2340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inglé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Rounded Rectangular Callout 15"/>
          <p:cNvSpPr/>
          <p:nvPr/>
        </p:nvSpPr>
        <p:spPr>
          <a:xfrm>
            <a:off x="4572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francé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Rounded Rectangular Callout 16"/>
          <p:cNvSpPr/>
          <p:nvPr/>
        </p:nvSpPr>
        <p:spPr>
          <a:xfrm>
            <a:off x="6804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alemá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TextBox 11"/>
          <p:cNvSpPr/>
          <p:nvPr/>
        </p:nvSpPr>
        <p:spPr>
          <a:xfrm>
            <a:off x="115920" y="2241720"/>
            <a:ext cx="186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Españ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Méxic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Rounded Rectangular Callout 10"/>
          <p:cNvSpPr/>
          <p:nvPr/>
        </p:nvSpPr>
        <p:spPr>
          <a:xfrm>
            <a:off x="108000" y="260280"/>
            <a:ext cx="216036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español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Rounded Rectangular Callout 14"/>
          <p:cNvSpPr/>
          <p:nvPr/>
        </p:nvSpPr>
        <p:spPr>
          <a:xfrm>
            <a:off x="2340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inglé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Rounded Rectangular Callout 15"/>
          <p:cNvSpPr/>
          <p:nvPr/>
        </p:nvSpPr>
        <p:spPr>
          <a:xfrm>
            <a:off x="4572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francé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Rounded Rectangular Callout 16"/>
          <p:cNvSpPr/>
          <p:nvPr/>
        </p:nvSpPr>
        <p:spPr>
          <a:xfrm>
            <a:off x="6804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alemá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2200320" y="2233440"/>
            <a:ext cx="2440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Australi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Inglaterr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Nueva Zeland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Estados Unido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TextBox 11"/>
          <p:cNvSpPr/>
          <p:nvPr/>
        </p:nvSpPr>
        <p:spPr>
          <a:xfrm>
            <a:off x="115920" y="2241720"/>
            <a:ext cx="186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Españ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Méxic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Rounded Rectangular Callout 10"/>
          <p:cNvSpPr/>
          <p:nvPr/>
        </p:nvSpPr>
        <p:spPr>
          <a:xfrm>
            <a:off x="108000" y="260280"/>
            <a:ext cx="216036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español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Rounded Rectangular Callout 14"/>
          <p:cNvSpPr/>
          <p:nvPr/>
        </p:nvSpPr>
        <p:spPr>
          <a:xfrm>
            <a:off x="2340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inglé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Rounded Rectangular Callout 15"/>
          <p:cNvSpPr/>
          <p:nvPr/>
        </p:nvSpPr>
        <p:spPr>
          <a:xfrm>
            <a:off x="4572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francé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Rounded Rectangular Callout 16"/>
          <p:cNvSpPr/>
          <p:nvPr/>
        </p:nvSpPr>
        <p:spPr>
          <a:xfrm>
            <a:off x="6804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alemá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2200320" y="2233440"/>
            <a:ext cx="2440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Australi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Inglaterr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Nueva Zeland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Estados Unido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TextBox 11"/>
          <p:cNvSpPr/>
          <p:nvPr/>
        </p:nvSpPr>
        <p:spPr>
          <a:xfrm>
            <a:off x="115920" y="2233440"/>
            <a:ext cx="186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Españ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Méxic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TextBox 12"/>
          <p:cNvSpPr/>
          <p:nvPr/>
        </p:nvSpPr>
        <p:spPr>
          <a:xfrm>
            <a:off x="4640400" y="2233440"/>
            <a:ext cx="209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Franci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Canadá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Bélgic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Burkina Fas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Rounded Rectangular Callout 10"/>
          <p:cNvSpPr/>
          <p:nvPr/>
        </p:nvSpPr>
        <p:spPr>
          <a:xfrm>
            <a:off x="108000" y="260280"/>
            <a:ext cx="216036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español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Rounded Rectangular Callout 14"/>
          <p:cNvSpPr/>
          <p:nvPr/>
        </p:nvSpPr>
        <p:spPr>
          <a:xfrm>
            <a:off x="2340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inglé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Rounded Rectangular Callout 15"/>
          <p:cNvSpPr/>
          <p:nvPr/>
        </p:nvSpPr>
        <p:spPr>
          <a:xfrm>
            <a:off x="4572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francé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Rounded Rectangular Callout 16"/>
          <p:cNvSpPr/>
          <p:nvPr/>
        </p:nvSpPr>
        <p:spPr>
          <a:xfrm>
            <a:off x="6804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alemá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200320" y="2233440"/>
            <a:ext cx="2440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Australi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Inglaterr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Nueva Zeland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Estados Unido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TextBox 11"/>
          <p:cNvSpPr/>
          <p:nvPr/>
        </p:nvSpPr>
        <p:spPr>
          <a:xfrm>
            <a:off x="115920" y="2233440"/>
            <a:ext cx="186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Españ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Méxic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TextBox 12"/>
          <p:cNvSpPr/>
          <p:nvPr/>
        </p:nvSpPr>
        <p:spPr>
          <a:xfrm>
            <a:off x="4640400" y="2233440"/>
            <a:ext cx="209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Franci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Canadá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Bélgic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Burkina Fas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6804000" y="2233440"/>
            <a:ext cx="208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Alemani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Austri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Suiz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Luxembur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Rounded Rectangular Callout 10"/>
          <p:cNvSpPr/>
          <p:nvPr/>
        </p:nvSpPr>
        <p:spPr>
          <a:xfrm>
            <a:off x="108000" y="260280"/>
            <a:ext cx="216036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español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Rounded Rectangular Callout 14"/>
          <p:cNvSpPr/>
          <p:nvPr/>
        </p:nvSpPr>
        <p:spPr>
          <a:xfrm>
            <a:off x="2340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inglé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Rounded Rectangular Callout 15"/>
          <p:cNvSpPr/>
          <p:nvPr/>
        </p:nvSpPr>
        <p:spPr>
          <a:xfrm>
            <a:off x="4572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francé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Rounded Rectangular Callout 16"/>
          <p:cNvSpPr/>
          <p:nvPr/>
        </p:nvSpPr>
        <p:spPr>
          <a:xfrm>
            <a:off x="6804000" y="260280"/>
            <a:ext cx="2160720" cy="1513080"/>
          </a:xfrm>
          <a:prstGeom prst="wedgeRoundRectCallout">
            <a:avLst>
              <a:gd name="adj1" fmla="val -46162"/>
              <a:gd name="adj2" fmla="val 70907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¿Dón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 habla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alemá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200320" y="2233440"/>
            <a:ext cx="2440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Australi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Inglaterr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Nueva Zeland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Estados Unido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Canadá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TextBox 11"/>
          <p:cNvSpPr/>
          <p:nvPr/>
        </p:nvSpPr>
        <p:spPr>
          <a:xfrm>
            <a:off x="115920" y="2233440"/>
            <a:ext cx="186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Españ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Méxic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TextBox 12"/>
          <p:cNvSpPr/>
          <p:nvPr/>
        </p:nvSpPr>
        <p:spPr>
          <a:xfrm>
            <a:off x="4640400" y="2233440"/>
            <a:ext cx="2092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Franci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Canadá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Bélgic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Burkina Fas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Suiz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Luxembur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TextBox 13"/>
          <p:cNvSpPr/>
          <p:nvPr/>
        </p:nvSpPr>
        <p:spPr>
          <a:xfrm>
            <a:off x="6804000" y="2233440"/>
            <a:ext cx="208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Alemani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Austri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Suiz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bf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fb00"/>
                </a:solidFill>
                <a:latin typeface="Comic Sans MS"/>
              </a:rPr>
              <a:t>Luxembur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3-02T13:24:20Z</dcterms:modified>
  <cp:revision>369</cp:revision>
  <dc:subject/>
  <dc:title>TITLE</dc:title>
</cp:coreProperties>
</file>