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629-A317-4001-8CCC-F3BFCBA8E0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037-4F21-41F8-8A8F-A0599ED074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419-1730-446C-B459-EC8042312E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7BE-F247-4B08-AA7E-BD7F04CC8D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949-169A-4A17-8666-22C46B8284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30CE-76BA-4943-9E05-FCB25477A1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3A3-9A87-4A56-A91B-DAA753C32B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128-77E1-43A0-8185-8012A0FD9C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8DE-C385-46DD-8755-19ECB6DE24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6F9-F892-450C-A203-25F11278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07-5482-4F7B-A0F9-33F435DB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A62-EB10-4ED7-859C-349636D2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FCD-8BB5-4FC2-BD11-CDE77FD7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3CA2-6C81-4AC4-9434-8F07486C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DCDD-62AE-45EF-9644-0037F95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467-8E23-428C-9323-24DEFF5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D78-CB90-472E-B1B9-74AFEBA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F70-B819-415A-954D-F222A18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29B-201D-4AD0-8DB5-8121C58F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F8F-53F6-4476-A4F8-5604E808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2A0-4D1E-424D-B9E7-771E776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6A1-8EC4-428A-B8AD-7F3F302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992-401F-41CD-8FF5-E5D9D7C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5C71-1F58-4C3D-9111-61B2B39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4EE-1B65-47E4-8472-4DE54E81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F6E5-85F4-4CA1-BFE3-9B931497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055B-1642-462F-8BE5-D245CB7D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2F73-5B3F-4DBB-BC52-8ADF197F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286E-D584-4969-A48A-C53DF95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BD5A-7C70-4564-A7B7-54588D9D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776C-98EC-45BD-A381-4DA68900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C0C-0111-4696-BB78-0EA0D76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F32D-7368-471F-9B5C-436AD59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C1B3-6455-456A-8A0B-02C8216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E9FE-4923-4B11-A8AD-ABD43F4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9CA4-9104-4705-9B65-FE6F3F0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4064-C72D-44B1-A44F-5F67EC5A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8A76-CDFB-41BE-BC0F-64DE6E6C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FD76-805D-47ED-8C31-2C5D608D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3CEA-827D-4BDF-BD5E-0666958E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3BF9-1262-4B83-96A1-222A2D89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36CF-6A3D-4C1F-911A-551EB1A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A21-BF3D-4A1E-BE6E-EFC70E8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5FFB-9DCB-477B-A471-8E804B80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AA99-D049-4B99-B8F2-929C65C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A62A-A20C-476A-A794-DFF356FF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2EF3-07DE-4DB8-8303-564E48C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27D8-87EE-4079-82CD-120C03C0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13A0-0BB7-48F7-B709-40E2836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9CFE8-EB93-40C7-B685-B102B15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E091-6068-432F-914E-1B512391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6C89-B6DA-44EB-8EB9-E071015C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A1C-6601-45C1-A90B-46A9800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88F-7BAB-4856-885C-ABD19DF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74F-0B66-4E16-B9D3-66F2CDF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1D6-BCCF-45B9-9EF1-96119E3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75C-6CB0-475C-ADE4-D95B7A6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5B4-CB62-47DD-8832-FD2B7F8743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5DC-AD06-4EA8-9839-2E475C77CF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ADA-D27B-4880-95DF-C82063950F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F7F-9BF0-44E8-88DB-D5605998B9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4444920" y="25671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179280" y="214776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4444920" y="4019400"/>
            <a:ext cx="455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one speaks /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s spoke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179280" y="4078440"/>
            <a:ext cx="361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se habl</a:t>
            </a:r>
            <a:r>
              <a:rPr b="0" lang="en-GB" sz="66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ounded Rectangular Callout 2"/>
          <p:cNvSpPr/>
          <p:nvPr/>
        </p:nvSpPr>
        <p:spPr>
          <a:xfrm>
            <a:off x="611280" y="1430280"/>
            <a:ext cx="4105080" cy="3097440"/>
          </a:xfrm>
          <a:prstGeom prst="wedgeRoundRectCallout">
            <a:avLst>
              <a:gd name="adj1" fmla="val -41254"/>
              <a:gd name="adj2" fmla="val 92032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e habla español?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835280" y="5429160"/>
            <a:ext cx="70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Where is Spanish spoken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042920" y="242100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Canadá</a:t>
            </a:r>
            <a:br>
              <a:rPr sz="3200"/>
            </a:b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19640" y="2421000"/>
            <a:ext cx="356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115920" y="224172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115920" y="224172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4640400" y="2233440"/>
            <a:ext cx="209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4640400" y="2233440"/>
            <a:ext cx="209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6804000" y="223344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200320" y="2233440"/>
            <a:ext cx="244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4640400" y="2233440"/>
            <a:ext cx="209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804000" y="223344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4:20Z</dcterms:modified>
  <cp:revision>369</cp:revision>
  <dc:subject/>
  <dc:title>TITLE</dc:title>
</cp:coreProperties>
</file>