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4186-A6B3-4171-8D10-0931127B36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F58A-AB01-4C90-8A42-584156F78B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E16-E5D7-43BD-9650-FC4FF87A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E8A-8FC9-4187-9137-374530E3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E8C-DD0E-420E-BEFE-AAC0E75B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836-6E8A-4F65-A15A-55517205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EE41-15BB-458E-A8C2-8DB93A12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559C-56DE-46ED-9CC7-B964F8AC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43D8-8F65-4327-AEF5-BE23B9E5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C6B9-535A-4588-A14F-E700B49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9274-8BBA-4EF1-B0E1-F7B24C1D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7893-51AA-4D47-B43F-C6727509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6D9F-8B46-4B95-9250-A3B238B0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774-A070-4AED-81CA-6650DAD2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8178-C5CC-4D94-BF1D-9C03C16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DAC8-9217-453D-A1BC-588083BD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0800-3B42-406F-9C3D-8C6F2363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4F32-D8BD-445C-8504-056D77E2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A0D-58C5-4B26-A33B-05E8715D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0BB7-94E6-4439-B726-E6B064BC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48E6-E4B6-445B-A58B-908BD03B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6BBF-D35F-4AD9-96AF-6E55338E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1609-AFEC-4DB7-AF2B-7C13AE36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0B60-B2CA-42BF-961F-08CB450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002-333A-4015-9C84-6F0299E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305F-85BF-4373-A86E-CCB0BD34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8514-9CAC-44DD-88CC-8CBDFCB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4562-A7DC-4864-88A1-F5D516F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63BB-2F95-486A-95EA-4BAE8B1E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5815-0DD3-4033-A946-A9276134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B0FD-0752-4FB5-8F9B-89C48D66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E0DB-8E90-4885-AF59-FC3F0D7C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74C-489F-450A-B545-D4720169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69C-EE19-41D1-9632-43DF16A8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767-F3EB-4DD1-B3D0-15D1543B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E8E-556D-466F-A631-08DE5F46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1E2-8FAC-40C8-95FA-FE224CBE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986-9C06-4B84-A206-3834B40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B8E-B51C-42F3-8A8E-272162EC99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1405-1613-4814-9BE0-6F3AF14C88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BCC0-8E0F-4D26-84FB-85356CE7A41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76364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5904" r="0" b="0"/>
          <a:stretch/>
        </p:blipFill>
        <p:spPr>
          <a:xfrm>
            <a:off x="1258920" y="0"/>
            <a:ext cx="65451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63640" y="26028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oy al parque en autobú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62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I go to the park by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413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mos a la iglesia en av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1773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We go to the church by 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2565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s al correos en c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292428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You (sg.) go to the Post Office by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3789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n al supermercado en coh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4076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They go to the supermarket by ro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4941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is a la biblioteca en b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5229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You (pl.) go to the library by b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6093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 a la cafetería a 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6381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He / she goes to the café on f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6:28Z</dcterms:modified>
  <cp:revision>287</cp:revision>
  <dc:subject/>
  <dc:title>TITLE</dc:title>
</cp:coreProperties>
</file>