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60117-9599-4341-968A-4545A1B5887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F616E-19D7-495A-9B8B-8B8468ADCF7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35F3-A7AF-4FD9-A781-2E0A2B479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F3C4-E7FC-44B4-8C73-3026C8155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4D70-2B1C-4121-8A3D-FE50D6896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1D21-AC55-4343-A85D-B4828DB8D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2A6D1-6A1D-4B11-92ED-F9631B88E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D5FDA-62AD-4FD8-9990-A5F70AC9E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03754-B073-4DB2-9ADB-FDF4B0A64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76AAD-3F0E-404C-A0F9-00FCE954B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B2D95-0D80-46BB-950A-8062048CC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8B8F7-A6E8-4F5E-842D-4E30823C0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91AD3-8AFF-4CA9-B578-44B85E46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7D11-7D7A-43D1-8741-03FF0622E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CD7DE-D48E-42ED-908C-B31A9BF6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75A23-8DA7-4A45-B03E-4681C42B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853FB-1D6F-4CA4-87AE-9663BE8BF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50170-F8AC-4B78-AB2B-D13775B6C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6AE0A-CB01-4D5B-94E8-F6C9860C9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0ABA7-C63E-4082-85B8-FC643CED1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6ECFA-B681-4BF4-9A0C-244809A9D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28BFE-E951-42EE-B86D-78245C733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9F116-207C-477E-AFAB-FAE55EBFC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540DD-CD9E-46BE-BF89-EF936A2A3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71E4-0C1E-44AC-922E-5EFE06EF7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EF6E7-C3A3-41BA-BE3F-0D4CE2382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C73F7-E3B6-47E2-B9E9-3E9CBC67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D831B-0BC8-46EC-B080-DC58309F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73611-CED1-41B9-9BF3-4C3A4FEB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69A61-5670-4E94-8396-FA8AB0FA7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19727-E878-49A5-921D-12DC21127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9C58F-741A-41B6-9411-FD53CDF73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38F4-A41B-46D7-ACF6-4BEBAA165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A33A-CCDB-491F-9F70-97D2EE8EA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5B4B-B405-4D2F-ADED-792C1B3CC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555E-871F-4560-897D-7C7886693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768E-09FE-4D60-ADEF-15E52AF2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4BC0-2C0A-4AF4-8FEA-9E99CF6C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FF1DE-D875-493A-BAB9-CB6E52A6E9E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0D5C7-1787-469D-8F24-4C85D5D6B8E9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56C40-06DB-4FF0-8079-13FB0ECEA615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176364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rcRect l="0" t="5904" r="0" b="0"/>
          <a:stretch/>
        </p:blipFill>
        <p:spPr>
          <a:xfrm>
            <a:off x="1258920" y="0"/>
            <a:ext cx="654516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763640" y="260280"/>
            <a:ext cx="53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cc"/>
                </a:solidFill>
                <a:latin typeface="Comic Sans MS"/>
              </a:rPr>
              <a:t>Voy al parque en autobú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63640" y="620640"/>
            <a:ext cx="53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000"/>
                </a:solidFill>
                <a:latin typeface="Comic Sans MS"/>
              </a:rPr>
              <a:t>I go to the park by b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1413000"/>
            <a:ext cx="53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cc"/>
                </a:solidFill>
                <a:latin typeface="Comic Sans MS"/>
              </a:rPr>
              <a:t>Vamos a la iglesia en av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63640" y="1773360"/>
            <a:ext cx="53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000"/>
                </a:solidFill>
                <a:latin typeface="Comic Sans MS"/>
              </a:rPr>
              <a:t>We go to the church by pla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63640" y="2565360"/>
            <a:ext cx="53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cc"/>
                </a:solidFill>
                <a:latin typeface="Comic Sans MS"/>
              </a:rPr>
              <a:t>Vas al correos en coch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63640" y="2924280"/>
            <a:ext cx="53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000"/>
                </a:solidFill>
                <a:latin typeface="Comic Sans MS"/>
              </a:rPr>
              <a:t>You (sg.) go to the Post Office by c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63640" y="3789360"/>
            <a:ext cx="53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cc"/>
                </a:solidFill>
                <a:latin typeface="Comic Sans MS"/>
              </a:rPr>
              <a:t>Van al supermercado en cohe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3640" y="4076640"/>
            <a:ext cx="53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000"/>
                </a:solidFill>
                <a:latin typeface="Comic Sans MS"/>
              </a:rPr>
              <a:t>They go to the supermarket by rock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63640" y="4941720"/>
            <a:ext cx="53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cc"/>
                </a:solidFill>
                <a:latin typeface="Comic Sans MS"/>
              </a:rPr>
              <a:t>Vais a la biblioteca en bic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3640" y="5229360"/>
            <a:ext cx="53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000"/>
                </a:solidFill>
                <a:latin typeface="Comic Sans MS"/>
              </a:rPr>
              <a:t>You (pl.) go to the library by bik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6093000"/>
            <a:ext cx="53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cc"/>
                </a:solidFill>
                <a:latin typeface="Comic Sans MS"/>
              </a:rPr>
              <a:t>Va a la cafetería a p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63640" y="6381720"/>
            <a:ext cx="53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000"/>
                </a:solidFill>
                <a:latin typeface="Comic Sans MS"/>
              </a:rPr>
              <a:t>He / she goes to the café on fo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3-02-15T09:16:28Z</dcterms:modified>
  <cp:revision>287</cp:revision>
  <dc:subject/>
  <dc:title>TITLE</dc:title>
</cp:coreProperties>
</file>