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5FD-F763-446F-8DF1-E2A6AB8B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C8F3-5E65-46BD-9559-9736DB14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99F4-10F4-4ACB-A0F3-5F5E28DF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60A-C44A-4506-8A46-220A4359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EFF6-D084-4B68-A3E1-5E0CEC34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C514-1BCA-41E8-89FB-76071C0D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3322-2730-4984-B977-AC6B7B6A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A08-17CA-42BD-9CD0-AE7AA965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85C-45D7-4574-9FFF-94613DC4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B1C4-E66E-4506-B6E1-B5D342C4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F2F-6405-4CCF-B24D-A6DF7129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19E-4991-4C5B-B02A-635C6E49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7EF7-4F3D-4EBE-B962-7BB4BBF8E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33360"/>
            <a:ext cx="2592360" cy="25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32000" y="3645000"/>
            <a:ext cx="2735280" cy="237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64000" y="476280"/>
            <a:ext cx="237492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32000" y="1628640"/>
            <a:ext cx="2376720" cy="230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449800">
            <a:off x="4932000" y="981000"/>
            <a:ext cx="936720" cy="1081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9594800">
            <a:off x="2916000" y="836280"/>
            <a:ext cx="936360" cy="1081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562000">
            <a:off x="5148000" y="1268280"/>
            <a:ext cx="360360" cy="64944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9778400">
            <a:off x="3276720" y="1125000"/>
            <a:ext cx="360360" cy="64944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2349360"/>
            <a:ext cx="287280" cy="287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00720" y="2349360"/>
            <a:ext cx="287280" cy="287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19640" y="3933720"/>
            <a:ext cx="1873080" cy="180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80000" y="573408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00720" y="573408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609300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3645600">
            <a:off x="4714920" y="436608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958600">
            <a:off x="3707640" y="429300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00720" y="609300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3645600">
            <a:off x="5002200" y="422136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7958600">
            <a:off x="3418560" y="4150080"/>
            <a:ext cx="36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40360" y="2781360"/>
            <a:ext cx="28728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2781360"/>
            <a:ext cx="1079280" cy="2872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2924280"/>
            <a:ext cx="10792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851280" y="2781000"/>
            <a:ext cx="865080" cy="360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084720" y="2492280"/>
            <a:ext cx="158436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67640" y="321300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72360" y="328464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93080" y="206064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93080" y="170028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36000" y="13413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77080" y="105264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48360" y="2924280"/>
            <a:ext cx="936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48000" y="2637000"/>
            <a:ext cx="1368360" cy="12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19280" y="2637000"/>
            <a:ext cx="1368360" cy="12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87640" y="3716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16360" y="371628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47640" y="386064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40000" y="386064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48000" y="386064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40360" y="3860640"/>
            <a:ext cx="576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00720" y="393372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164360" y="393372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386064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564000" y="2349360"/>
            <a:ext cx="1871640" cy="17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67280" y="1557360"/>
            <a:ext cx="792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21239400">
            <a:off x="5435280" y="2492280"/>
            <a:ext cx="358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21239400">
            <a:off x="5651280" y="2708280"/>
            <a:ext cx="358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21239400">
            <a:off x="5866920" y="2924280"/>
            <a:ext cx="3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003200">
            <a:off x="3203280" y="2421000"/>
            <a:ext cx="358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003200">
            <a:off x="2987280" y="2637000"/>
            <a:ext cx="3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003200">
            <a:off x="2771280" y="2852640"/>
            <a:ext cx="3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4076640"/>
            <a:ext cx="3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4437000"/>
            <a:ext cx="3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4797360"/>
            <a:ext cx="3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4076640"/>
            <a:ext cx="3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4797360"/>
            <a:ext cx="3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59280" y="4437000"/>
            <a:ext cx="3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95640" y="2852640"/>
            <a:ext cx="216000" cy="216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88000" y="2708280"/>
            <a:ext cx="215640" cy="216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27640" y="3357720"/>
            <a:ext cx="215640" cy="35856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59280" y="3141720"/>
            <a:ext cx="217440" cy="28728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03640" y="620640"/>
            <a:ext cx="287964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80000" y="765000"/>
            <a:ext cx="1655640" cy="1656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92360" y="2565360"/>
            <a:ext cx="648000" cy="64764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4720" y="2565360"/>
            <a:ext cx="647640" cy="64764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8360" y="2565360"/>
            <a:ext cx="647640" cy="64764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3640" y="3573360"/>
            <a:ext cx="287964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92360" y="3716280"/>
            <a:ext cx="648000" cy="64764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84720" y="3716280"/>
            <a:ext cx="647640" cy="64764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48360" y="3716280"/>
            <a:ext cx="647640" cy="64764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24360" y="4581360"/>
            <a:ext cx="503280" cy="79236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4581360"/>
            <a:ext cx="503280" cy="79236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0800000">
            <a:off x="4788000" y="5444640"/>
            <a:ext cx="503280" cy="79236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0800000">
            <a:off x="3924360" y="5444640"/>
            <a:ext cx="503280" cy="79236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260280"/>
            <a:ext cx="143964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80000" y="3213000"/>
            <a:ext cx="143964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3213000"/>
            <a:ext cx="14400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3213000"/>
            <a:ext cx="143964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27280" y="549360"/>
            <a:ext cx="2592360" cy="25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3141720"/>
            <a:ext cx="2592360" cy="25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3068640"/>
            <a:ext cx="2592360" cy="25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549360"/>
            <a:ext cx="2592720" cy="25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24360" y="5157720"/>
            <a:ext cx="1584360" cy="129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1197000"/>
            <a:ext cx="4176720" cy="410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2205000"/>
            <a:ext cx="792000" cy="792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32360" y="2205000"/>
            <a:ext cx="792000" cy="792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80000" y="2421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2421000"/>
            <a:ext cx="3585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0800000">
            <a:off x="4284720" y="3141360"/>
            <a:ext cx="792000" cy="64764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11640" y="4005360"/>
            <a:ext cx="936720" cy="936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4149720"/>
            <a:ext cx="6494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87640" y="3213000"/>
            <a:ext cx="1008000" cy="1079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08720" y="3213000"/>
            <a:ext cx="1008000" cy="1079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9166200">
            <a:off x="3491640" y="1412640"/>
            <a:ext cx="792360" cy="647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206600">
            <a:off x="4066920" y="1196640"/>
            <a:ext cx="792000" cy="647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1274000">
            <a:off x="4572000" y="1196640"/>
            <a:ext cx="792000" cy="647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2132000">
            <a:off x="5148360" y="1341000"/>
            <a:ext cx="792000" cy="647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7640" y="692280"/>
            <a:ext cx="576000" cy="57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3640" y="549360"/>
            <a:ext cx="792360" cy="86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549360"/>
            <a:ext cx="792360" cy="86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71640" y="1628640"/>
            <a:ext cx="792360" cy="720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2133720"/>
            <a:ext cx="792000" cy="720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8000" y="2781360"/>
            <a:ext cx="1008360" cy="1008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1557360"/>
            <a:ext cx="792360" cy="720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56360" y="2133720"/>
            <a:ext cx="792000" cy="720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43640" y="2708280"/>
            <a:ext cx="1008000" cy="1008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419640" y="3933720"/>
            <a:ext cx="2304720" cy="187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87640" y="620640"/>
            <a:ext cx="3311640" cy="338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80000" y="1484280"/>
            <a:ext cx="504720" cy="5047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9280" y="1484280"/>
            <a:ext cx="504720" cy="5047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0669200">
            <a:off x="4284360" y="2204640"/>
            <a:ext cx="574560" cy="50472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2852640"/>
            <a:ext cx="358920" cy="3603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2781360"/>
            <a:ext cx="289080" cy="28872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2781360"/>
            <a:ext cx="288720" cy="28872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404640"/>
            <a:ext cx="50472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1280" y="404640"/>
            <a:ext cx="50472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333360"/>
            <a:ext cx="647640" cy="647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4360" y="580536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6360" y="580536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6237360"/>
            <a:ext cx="431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16360" y="6237360"/>
            <a:ext cx="43200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3511800">
            <a:off x="4931640" y="422136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8187800">
            <a:off x="3779280" y="422100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19640" y="4005360"/>
            <a:ext cx="431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4005360"/>
            <a:ext cx="431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3640" y="692280"/>
            <a:ext cx="647640" cy="647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692280"/>
            <a:ext cx="648000" cy="647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1268280"/>
            <a:ext cx="647640" cy="648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197000"/>
            <a:ext cx="647640" cy="647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1916280"/>
            <a:ext cx="648000" cy="647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1844640"/>
            <a:ext cx="647640" cy="647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348000" y="620640"/>
            <a:ext cx="2448000" cy="237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2997360"/>
            <a:ext cx="2448000" cy="23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2286600">
            <a:off x="5508720" y="2565000"/>
            <a:ext cx="647640" cy="936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009200">
            <a:off x="2987280" y="2565000"/>
            <a:ext cx="647640" cy="936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27640" y="3429000"/>
            <a:ext cx="28872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27640" y="3933720"/>
            <a:ext cx="28872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27640" y="4437000"/>
            <a:ext cx="28872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4355640" y="1773360"/>
            <a:ext cx="358920" cy="50328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1268280"/>
            <a:ext cx="504720" cy="505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16360" y="1268280"/>
            <a:ext cx="505080" cy="505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1413000"/>
            <a:ext cx="216000" cy="21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1413000"/>
            <a:ext cx="216000" cy="21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1484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19640" y="1197000"/>
            <a:ext cx="360360" cy="21600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492000" y="1268280"/>
            <a:ext cx="358920" cy="1447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484360" y="2276640"/>
            <a:ext cx="4175280" cy="37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84360" y="1197000"/>
            <a:ext cx="1079640" cy="100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1197000"/>
            <a:ext cx="1079280" cy="100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08720" y="1197000"/>
            <a:ext cx="1079280" cy="100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00360" y="476280"/>
            <a:ext cx="6494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476280"/>
            <a:ext cx="6490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476280"/>
            <a:ext cx="6490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2565360"/>
            <a:ext cx="863640" cy="86364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2565360"/>
            <a:ext cx="863640" cy="86364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8720" y="2565360"/>
            <a:ext cx="863640" cy="86364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43280" y="270828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270828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51640" y="2708280"/>
            <a:ext cx="576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5084640"/>
            <a:ext cx="865080" cy="86544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4149720"/>
            <a:ext cx="865080" cy="86508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08360" y="2637000"/>
            <a:ext cx="792360" cy="79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08360" y="3429000"/>
            <a:ext cx="792360" cy="79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08360" y="4221000"/>
            <a:ext cx="792360" cy="7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08360" y="5013360"/>
            <a:ext cx="792360" cy="79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962600">
            <a:off x="4248360" y="5625360"/>
            <a:ext cx="719280" cy="936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7962600">
            <a:off x="3672720" y="5696280"/>
            <a:ext cx="719280" cy="936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00720" y="2924280"/>
            <a:ext cx="792000" cy="79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16360" y="2924280"/>
            <a:ext cx="792000" cy="79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5292720" y="2924280"/>
            <a:ext cx="720720" cy="720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2195640" y="2924280"/>
            <a:ext cx="720720" cy="720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92360" y="1484280"/>
            <a:ext cx="1150920" cy="1224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680200">
            <a:off x="3347640" y="333000"/>
            <a:ext cx="792360" cy="1366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115920"/>
            <a:ext cx="358920" cy="404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1916280"/>
            <a:ext cx="216000" cy="2174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40360" y="1844640"/>
            <a:ext cx="215640" cy="2174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95640" y="2133720"/>
            <a:ext cx="216000" cy="2174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95640" y="1125360"/>
            <a:ext cx="86364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67280" y="549360"/>
            <a:ext cx="57600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76500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59280" y="134136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184464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83664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1413000"/>
            <a:ext cx="57600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916280"/>
            <a:ext cx="57600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2133720"/>
            <a:ext cx="216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4720" y="2349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2708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4720" y="3068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3429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84720" y="3789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84720" y="41497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16360" y="2997360"/>
            <a:ext cx="71928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2360" y="3068640"/>
            <a:ext cx="71928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788000" y="3284280"/>
            <a:ext cx="504720" cy="144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64000" y="3429000"/>
            <a:ext cx="5032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4292640"/>
            <a:ext cx="358560" cy="1152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4292640"/>
            <a:ext cx="358920" cy="1152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4292640"/>
            <a:ext cx="358920" cy="1152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88000" y="4292640"/>
            <a:ext cx="358560" cy="1152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4292640"/>
            <a:ext cx="358920" cy="1152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22:18:15Z</dcterms:created>
  <dc:creator>Clare</dc:creator>
  <dc:description/>
  <dc:language>en-US</dc:language>
  <cp:lastModifiedBy>Clare</cp:lastModifiedBy>
  <dcterms:modified xsi:type="dcterms:W3CDTF">2011-01-31T09:26:05Z</dcterms:modified>
  <cp:revision>13</cp:revision>
  <dc:subject/>
  <dc:title>Slide 1</dc:title>
</cp:coreProperties>
</file>