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807-A631-4D0E-90E5-37F86BC8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E31-FB94-409D-AF0D-B3A3374F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F46-44DF-4554-82E1-93B524EF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57E-8713-4E2B-9C8D-A6A4A58E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607-F93F-4198-AB7F-AD0AB4A0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3E7-EDE0-42B2-A91B-7033711D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DEF-3DF0-4480-AA02-1565C222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2DA-6DCB-4EF7-9680-BA5043C1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E17-4CE3-4513-B634-C6DA2412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5D1-EFE0-4DC3-81B1-A27B9CD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8A2-849B-4B85-B884-8FF7EB9F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D3D-F65C-4E44-80D2-9FC3E79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73D6-F5BC-4FCE-8F80-F781084DA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33360"/>
            <a:ext cx="2592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3645000"/>
            <a:ext cx="2735280" cy="237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476280"/>
            <a:ext cx="237492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32000" y="1628640"/>
            <a:ext cx="2376720" cy="23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449800">
            <a:off x="4932000" y="981000"/>
            <a:ext cx="936720" cy="108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594800">
            <a:off x="2916000" y="836280"/>
            <a:ext cx="936360" cy="108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562000">
            <a:off x="5148000" y="1268280"/>
            <a:ext cx="360360" cy="649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778400">
            <a:off x="3276720" y="1125000"/>
            <a:ext cx="360360" cy="6494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2349360"/>
            <a:ext cx="287280" cy="287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2349360"/>
            <a:ext cx="287280" cy="287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3933720"/>
            <a:ext cx="1873080" cy="180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80000" y="573408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73408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609300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3645600">
            <a:off x="4714920" y="436608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958600">
            <a:off x="3707640" y="429300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609300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3645600">
            <a:off x="5002200" y="422136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7958600">
            <a:off x="3418560" y="415008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40360" y="278136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2781360"/>
            <a:ext cx="1079280" cy="2872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2924280"/>
            <a:ext cx="1079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851280" y="2781000"/>
            <a:ext cx="865080" cy="36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084720" y="2492280"/>
            <a:ext cx="158436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67640" y="3213000"/>
            <a:ext cx="503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32846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20606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17002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6000" y="1341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10526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2924280"/>
            <a:ext cx="936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48000" y="2637000"/>
            <a:ext cx="136836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2637000"/>
            <a:ext cx="136836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37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371628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3860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3860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3860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386064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39337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64360" y="39337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860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64000" y="2349360"/>
            <a:ext cx="187164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1557360"/>
            <a:ext cx="792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1239400">
            <a:off x="5435280" y="2492280"/>
            <a:ext cx="35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21239400">
            <a:off x="5651280" y="2708280"/>
            <a:ext cx="35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21239400">
            <a:off x="5866920" y="292428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03200">
            <a:off x="3203280" y="2421000"/>
            <a:ext cx="35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003200">
            <a:off x="2987280" y="263700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03200">
            <a:off x="2771280" y="285264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7664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443700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479736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407664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479736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443700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2852640"/>
            <a:ext cx="21600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88000" y="2708280"/>
            <a:ext cx="215640" cy="21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7640" y="3357720"/>
            <a:ext cx="215640" cy="3585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3141720"/>
            <a:ext cx="217440" cy="2872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03640" y="620640"/>
            <a:ext cx="287964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765000"/>
            <a:ext cx="1655640" cy="1656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2565360"/>
            <a:ext cx="64800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2565360"/>
            <a:ext cx="64764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2565360"/>
            <a:ext cx="64764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3573360"/>
            <a:ext cx="287964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3716280"/>
            <a:ext cx="64800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84720" y="3716280"/>
            <a:ext cx="64764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3716280"/>
            <a:ext cx="647640" cy="647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4581360"/>
            <a:ext cx="503280" cy="7923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581360"/>
            <a:ext cx="503280" cy="7923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4788000" y="5444640"/>
            <a:ext cx="503280" cy="7923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3924360" y="5444640"/>
            <a:ext cx="503280" cy="79236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60280"/>
            <a:ext cx="1439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3213000"/>
            <a:ext cx="1439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213000"/>
            <a:ext cx="1440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213000"/>
            <a:ext cx="14396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549360"/>
            <a:ext cx="2592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141720"/>
            <a:ext cx="2592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3068640"/>
            <a:ext cx="2592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549360"/>
            <a:ext cx="259272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24360" y="5157720"/>
            <a:ext cx="1584360" cy="129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1197000"/>
            <a:ext cx="4176720" cy="410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2205000"/>
            <a:ext cx="792000" cy="792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2205000"/>
            <a:ext cx="792000" cy="792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2421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2421000"/>
            <a:ext cx="3585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4284720" y="3141360"/>
            <a:ext cx="792000" cy="64764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4005360"/>
            <a:ext cx="936720" cy="936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4149720"/>
            <a:ext cx="6494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3213000"/>
            <a:ext cx="1008000" cy="1079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3213000"/>
            <a:ext cx="1008000" cy="1079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9166200">
            <a:off x="3491640" y="1412640"/>
            <a:ext cx="79236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206600">
            <a:off x="4066920" y="1196640"/>
            <a:ext cx="79200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1274000">
            <a:off x="4572000" y="1196640"/>
            <a:ext cx="79200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2132000">
            <a:off x="5148360" y="1341000"/>
            <a:ext cx="79200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692280"/>
            <a:ext cx="576000" cy="57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549360"/>
            <a:ext cx="79236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49360"/>
            <a:ext cx="79236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1628640"/>
            <a:ext cx="79236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133720"/>
            <a:ext cx="79200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2781360"/>
            <a:ext cx="1008360" cy="1008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1557360"/>
            <a:ext cx="79236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2133720"/>
            <a:ext cx="79200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43640" y="2708280"/>
            <a:ext cx="1008000" cy="1008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19640" y="3933720"/>
            <a:ext cx="2304720" cy="18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620640"/>
            <a:ext cx="3311640" cy="338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1484280"/>
            <a:ext cx="504720" cy="504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1484280"/>
            <a:ext cx="504720" cy="504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669200">
            <a:off x="4284360" y="2204640"/>
            <a:ext cx="574560" cy="50472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2852640"/>
            <a:ext cx="358920" cy="3603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2781360"/>
            <a:ext cx="289080" cy="28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781360"/>
            <a:ext cx="288720" cy="28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404640"/>
            <a:ext cx="504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404640"/>
            <a:ext cx="504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333360"/>
            <a:ext cx="64764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5805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58053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6237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623736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3511800">
            <a:off x="4931640" y="4221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187800">
            <a:off x="3779280" y="422100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4005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4005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692280"/>
            <a:ext cx="64764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692280"/>
            <a:ext cx="64800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1268280"/>
            <a:ext cx="647640" cy="648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197000"/>
            <a:ext cx="64764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1916280"/>
            <a:ext cx="64800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1844640"/>
            <a:ext cx="647640" cy="647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348000" y="620640"/>
            <a:ext cx="2448000" cy="237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997360"/>
            <a:ext cx="244800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286600">
            <a:off x="5508720" y="2565000"/>
            <a:ext cx="647640" cy="93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009200">
            <a:off x="2987280" y="2565000"/>
            <a:ext cx="647640" cy="93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3429000"/>
            <a:ext cx="28872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3933720"/>
            <a:ext cx="28872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4437000"/>
            <a:ext cx="28872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4355640" y="1773360"/>
            <a:ext cx="358920" cy="503280"/>
          </a:xfrm>
          <a:prstGeom prst="triangle">
            <a:avLst>
              <a:gd name="adj" fmla="val 500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1268280"/>
            <a:ext cx="504720" cy="505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1268280"/>
            <a:ext cx="505080" cy="505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1413000"/>
            <a:ext cx="216000" cy="21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1413000"/>
            <a:ext cx="216000" cy="21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19640" y="1197000"/>
            <a:ext cx="360360" cy="2160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492000" y="1268280"/>
            <a:ext cx="358920" cy="144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484360" y="2276640"/>
            <a:ext cx="4175280" cy="37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1197000"/>
            <a:ext cx="1079640" cy="10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1197000"/>
            <a:ext cx="1079280" cy="10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1197000"/>
            <a:ext cx="1079280" cy="10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476280"/>
            <a:ext cx="6494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476280"/>
            <a:ext cx="6490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476280"/>
            <a:ext cx="6490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2565360"/>
            <a:ext cx="863640" cy="863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2565360"/>
            <a:ext cx="863640" cy="863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2565360"/>
            <a:ext cx="863640" cy="86364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270828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270828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270828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5084640"/>
            <a:ext cx="865080" cy="86544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149720"/>
            <a:ext cx="865080" cy="8650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08360" y="2637000"/>
            <a:ext cx="79236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3429000"/>
            <a:ext cx="79236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4221000"/>
            <a:ext cx="79236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5013360"/>
            <a:ext cx="79236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962600">
            <a:off x="4248360" y="5625360"/>
            <a:ext cx="719280" cy="93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7962600">
            <a:off x="3672720" y="5696280"/>
            <a:ext cx="719280" cy="93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924280"/>
            <a:ext cx="7920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924280"/>
            <a:ext cx="7920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5292720" y="292428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2195640" y="292428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1484280"/>
            <a:ext cx="1150920" cy="1224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680200">
            <a:off x="3347640" y="333000"/>
            <a:ext cx="792360" cy="1366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115920"/>
            <a:ext cx="358920" cy="404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1916280"/>
            <a:ext cx="216000" cy="217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1844640"/>
            <a:ext cx="215640" cy="217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133720"/>
            <a:ext cx="216000" cy="217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95640" y="1125360"/>
            <a:ext cx="8636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54936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76500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34136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844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83664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141300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91628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2133720"/>
            <a:ext cx="216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2708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3429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3789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4149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2997360"/>
            <a:ext cx="7192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3068640"/>
            <a:ext cx="719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88000" y="3284280"/>
            <a:ext cx="504720" cy="14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64000" y="3429000"/>
            <a:ext cx="503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4292640"/>
            <a:ext cx="35856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4292640"/>
            <a:ext cx="35892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4292640"/>
            <a:ext cx="35892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4292640"/>
            <a:ext cx="35856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4292640"/>
            <a:ext cx="358920" cy="115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2:18:15Z</dcterms:created>
  <dc:creator>Clare</dc:creator>
  <dc:description/>
  <dc:language>en-US</dc:language>
  <cp:lastModifiedBy>Clare</cp:lastModifiedBy>
  <dcterms:modified xsi:type="dcterms:W3CDTF">2011-01-31T09:26:05Z</dcterms:modified>
  <cp:revision>13</cp:revision>
  <dc:subject/>
  <dc:title>Slide 1</dc:title>
</cp:coreProperties>
</file>