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CA0-3D42-4C76-A8BF-500CFAB1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86A-1ACE-4661-BDD8-515C378F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69B-2723-4B9D-89CA-A187F497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C51-0827-42E7-A1C5-96DE52B6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D27-EDA0-4C63-A2D6-5BB03314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8D3C-E2CD-4B75-8201-93EECE05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BEA-798B-4FE4-9635-19F0567B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C2A-3761-4708-B926-E4114CE8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4D5-74AF-48E1-AE78-A2E96F3B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711E-FC74-44C9-8F38-F54E82D0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0B5-CD96-4008-ADB5-C38266EE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422-4DA5-42A4-99A2-33D2E0CA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9BF4-514E-4880-ACBA-3C684A19AA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33360"/>
            <a:ext cx="2592360" cy="25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3645000"/>
            <a:ext cx="2735280" cy="23749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64000" y="476280"/>
            <a:ext cx="2374920" cy="2376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260280"/>
            <a:ext cx="1439640" cy="1368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80000" y="3213000"/>
            <a:ext cx="1439640" cy="1368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3213000"/>
            <a:ext cx="1440000" cy="1368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3213000"/>
            <a:ext cx="1439640" cy="1368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76720" y="620640"/>
            <a:ext cx="2592360" cy="25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3141720"/>
            <a:ext cx="2592360" cy="25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3068640"/>
            <a:ext cx="2592360" cy="25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04000" y="189000"/>
            <a:ext cx="2087640" cy="2087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333360"/>
            <a:ext cx="4176720" cy="23749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00360" y="2781360"/>
            <a:ext cx="3673440" cy="3816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3429000"/>
            <a:ext cx="1009440" cy="100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3429000"/>
            <a:ext cx="1009800" cy="100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67280" y="5589720"/>
            <a:ext cx="1009440" cy="100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4581360"/>
            <a:ext cx="1009440" cy="10083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2421000"/>
            <a:ext cx="2232000" cy="223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4653000"/>
            <a:ext cx="722520" cy="647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5300640"/>
            <a:ext cx="722520" cy="647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5950080"/>
            <a:ext cx="722520" cy="647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10800000">
            <a:off x="4500720" y="4292280"/>
            <a:ext cx="792000" cy="23763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2626920" y="4292280"/>
            <a:ext cx="792360" cy="23763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2997360"/>
            <a:ext cx="1582920" cy="1584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2997360"/>
            <a:ext cx="1582560" cy="1584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774800">
            <a:off x="5651280" y="1052280"/>
            <a:ext cx="792000" cy="23763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2987280" y="4292280"/>
            <a:ext cx="792360" cy="23763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800000">
            <a:off x="5003280" y="4292280"/>
            <a:ext cx="792360" cy="23763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1341360"/>
            <a:ext cx="1871640" cy="18734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1844640"/>
            <a:ext cx="360360" cy="36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155200">
            <a:off x="2627280" y="1052640"/>
            <a:ext cx="649440" cy="5760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988800">
            <a:off x="2123640" y="980640"/>
            <a:ext cx="649440" cy="5763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97160" y="2527200"/>
            <a:ext cx="546120" cy="201600"/>
          </a:xfrm>
          <a:custGeom>
            <a:avLst/>
            <a:gdLst/>
            <a:ahLst/>
            <a:rect l="l" t="t" r="r" b="b"/>
            <a:pathLst>
              <a:path w="344" h="127">
                <a:moveTo>
                  <a:pt x="0" y="72"/>
                </a:moveTo>
                <a:cubicBezTo>
                  <a:pt x="32" y="85"/>
                  <a:pt x="62" y="107"/>
                  <a:pt x="96" y="112"/>
                </a:cubicBezTo>
                <a:cubicBezTo>
                  <a:pt x="193" y="127"/>
                  <a:pt x="240" y="95"/>
                  <a:pt x="304" y="40"/>
                </a:cubicBezTo>
                <a:cubicBezTo>
                  <a:pt x="344" y="6"/>
                  <a:pt x="328" y="31"/>
                  <a:pt x="344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5373720"/>
            <a:ext cx="1081080" cy="1008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4360" y="5229360"/>
            <a:ext cx="360360" cy="360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96360" y="5229360"/>
            <a:ext cx="360360" cy="360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80360" y="5661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661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140680" y="6019920"/>
            <a:ext cx="765360" cy="493560"/>
          </a:xfrm>
          <a:custGeom>
            <a:avLst/>
            <a:gdLst/>
            <a:ahLst/>
            <a:rect l="l" t="t" r="r" b="b"/>
            <a:pathLst>
              <a:path w="482" h="311">
                <a:moveTo>
                  <a:pt x="0" y="0"/>
                </a:moveTo>
                <a:cubicBezTo>
                  <a:pt x="4" y="20"/>
                  <a:pt x="8" y="80"/>
                  <a:pt x="24" y="96"/>
                </a:cubicBezTo>
                <a:cubicBezTo>
                  <a:pt x="47" y="119"/>
                  <a:pt x="88" y="108"/>
                  <a:pt x="120" y="112"/>
                </a:cubicBezTo>
                <a:cubicBezTo>
                  <a:pt x="127" y="123"/>
                  <a:pt x="148" y="181"/>
                  <a:pt x="160" y="184"/>
                </a:cubicBezTo>
                <a:cubicBezTo>
                  <a:pt x="194" y="193"/>
                  <a:pt x="229" y="189"/>
                  <a:pt x="264" y="192"/>
                </a:cubicBezTo>
                <a:cubicBezTo>
                  <a:pt x="280" y="240"/>
                  <a:pt x="267" y="274"/>
                  <a:pt x="312" y="304"/>
                </a:cubicBezTo>
                <a:cubicBezTo>
                  <a:pt x="368" y="299"/>
                  <a:pt x="417" y="311"/>
                  <a:pt x="448" y="264"/>
                </a:cubicBezTo>
                <a:cubicBezTo>
                  <a:pt x="450" y="251"/>
                  <a:pt x="482" y="120"/>
                  <a:pt x="448" y="120"/>
                </a:cubicBezTo>
              </a:path>
            </a:pathLst>
          </a:custGeom>
          <a:noFill/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80360" y="5950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451640" y="587664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7451280" y="587664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22:18:15Z</dcterms:created>
  <dc:creator>Clare</dc:creator>
  <dc:description/>
  <dc:language>en-US</dc:language>
  <cp:lastModifiedBy>Clare</cp:lastModifiedBy>
  <dcterms:modified xsi:type="dcterms:W3CDTF">2011-01-31T09:23:17Z</dcterms:modified>
  <cp:revision>5</cp:revision>
  <dc:subject/>
  <dc:title>Slide 1</dc:title>
</cp:coreProperties>
</file>