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3046-796E-47A8-A902-098A693D2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47EF-AD02-46DB-B592-2A8F4BD8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F7FD-0561-435B-82DB-892724063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20A3-193B-4461-92CC-1A9C6D5D4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9231-07E8-4EBD-8684-16A755BE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91E9-E654-448D-A123-8793D6AF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D84C-4E9F-40E9-B525-6C0E3C35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CC19-BCF1-4F5D-9204-686ADBBD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CFFF-2391-4B77-90C1-D5CABF46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90E1-4B0B-437C-A87E-81E5BEDA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CFA0-3685-452F-BCC5-4E7C1667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61FE-C2EB-4A28-8682-727F47D1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AD75-F831-4BE6-9394-6F41130836C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333360"/>
            <a:ext cx="2592360" cy="25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32000" y="3645000"/>
            <a:ext cx="2735280" cy="237492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64000" y="476280"/>
            <a:ext cx="2374920" cy="2376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4000" y="260280"/>
            <a:ext cx="1439640" cy="1368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80000" y="3213000"/>
            <a:ext cx="1439640" cy="1368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0920" y="3213000"/>
            <a:ext cx="1440000" cy="1368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3213000"/>
            <a:ext cx="1439640" cy="1368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76720" y="620640"/>
            <a:ext cx="2592360" cy="25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3141720"/>
            <a:ext cx="2592360" cy="25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3068640"/>
            <a:ext cx="2592360" cy="25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04000" y="189000"/>
            <a:ext cx="2087640" cy="2087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11280" y="333360"/>
            <a:ext cx="4176720" cy="237492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00360" y="2781360"/>
            <a:ext cx="3673440" cy="3816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3429000"/>
            <a:ext cx="1009440" cy="1008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03640" y="3429000"/>
            <a:ext cx="1009800" cy="1008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67280" y="5589720"/>
            <a:ext cx="1009440" cy="1008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4581360"/>
            <a:ext cx="1009440" cy="100836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2421000"/>
            <a:ext cx="2232000" cy="2232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4653000"/>
            <a:ext cx="722520" cy="647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5300640"/>
            <a:ext cx="722520" cy="647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5950080"/>
            <a:ext cx="722520" cy="647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rot="10800000">
            <a:off x="4500720" y="4292280"/>
            <a:ext cx="792000" cy="237636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2626920" y="4292280"/>
            <a:ext cx="792360" cy="237636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27280" y="2997360"/>
            <a:ext cx="1582920" cy="1584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11640" y="2997360"/>
            <a:ext cx="1582560" cy="1584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774800">
            <a:off x="5651280" y="1052280"/>
            <a:ext cx="792000" cy="237636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0800000">
            <a:off x="2987280" y="4292280"/>
            <a:ext cx="792360" cy="237636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0800000">
            <a:off x="5003280" y="4292280"/>
            <a:ext cx="792360" cy="237636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32000" y="1341360"/>
            <a:ext cx="1871640" cy="18734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1844640"/>
            <a:ext cx="360360" cy="36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2155200">
            <a:off x="2627280" y="1052640"/>
            <a:ext cx="649440" cy="57600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988800">
            <a:off x="2123640" y="980640"/>
            <a:ext cx="649440" cy="57636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97160" y="2527200"/>
            <a:ext cx="546120" cy="201600"/>
          </a:xfrm>
          <a:custGeom>
            <a:avLst/>
            <a:gdLst/>
            <a:ahLst/>
            <a:rect l="l" t="t" r="r" b="b"/>
            <a:pathLst>
              <a:path w="344" h="127">
                <a:moveTo>
                  <a:pt x="0" y="72"/>
                </a:moveTo>
                <a:cubicBezTo>
                  <a:pt x="32" y="85"/>
                  <a:pt x="62" y="107"/>
                  <a:pt x="96" y="112"/>
                </a:cubicBezTo>
                <a:cubicBezTo>
                  <a:pt x="193" y="127"/>
                  <a:pt x="240" y="95"/>
                  <a:pt x="304" y="40"/>
                </a:cubicBezTo>
                <a:cubicBezTo>
                  <a:pt x="344" y="6"/>
                  <a:pt x="328" y="31"/>
                  <a:pt x="344" y="0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93080" y="5373720"/>
            <a:ext cx="1081080" cy="1008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64360" y="5229360"/>
            <a:ext cx="360360" cy="360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96360" y="5229360"/>
            <a:ext cx="360360" cy="360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80360" y="566100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66100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140680" y="6019920"/>
            <a:ext cx="765360" cy="493560"/>
          </a:xfrm>
          <a:custGeom>
            <a:avLst/>
            <a:gdLst/>
            <a:ahLst/>
            <a:rect l="l" t="t" r="r" b="b"/>
            <a:pathLst>
              <a:path w="482" h="311">
                <a:moveTo>
                  <a:pt x="0" y="0"/>
                </a:moveTo>
                <a:cubicBezTo>
                  <a:pt x="4" y="20"/>
                  <a:pt x="8" y="80"/>
                  <a:pt x="24" y="96"/>
                </a:cubicBezTo>
                <a:cubicBezTo>
                  <a:pt x="47" y="119"/>
                  <a:pt x="88" y="108"/>
                  <a:pt x="120" y="112"/>
                </a:cubicBezTo>
                <a:cubicBezTo>
                  <a:pt x="127" y="123"/>
                  <a:pt x="148" y="181"/>
                  <a:pt x="160" y="184"/>
                </a:cubicBezTo>
                <a:cubicBezTo>
                  <a:pt x="194" y="193"/>
                  <a:pt x="229" y="189"/>
                  <a:pt x="264" y="192"/>
                </a:cubicBezTo>
                <a:cubicBezTo>
                  <a:pt x="280" y="240"/>
                  <a:pt x="267" y="274"/>
                  <a:pt x="312" y="304"/>
                </a:cubicBezTo>
                <a:cubicBezTo>
                  <a:pt x="368" y="299"/>
                  <a:pt x="417" y="311"/>
                  <a:pt x="448" y="264"/>
                </a:cubicBezTo>
                <a:cubicBezTo>
                  <a:pt x="450" y="251"/>
                  <a:pt x="482" y="120"/>
                  <a:pt x="448" y="120"/>
                </a:cubicBezTo>
              </a:path>
            </a:pathLst>
          </a:custGeom>
          <a:noFill/>
          <a:ln w="381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80360" y="5950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7451640" y="5876640"/>
            <a:ext cx="289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7451280" y="5876640"/>
            <a:ext cx="289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22:18:15Z</dcterms:created>
  <dc:creator>Clare</dc:creator>
  <dc:description/>
  <dc:language>en-US</dc:language>
  <cp:lastModifiedBy>Clare</cp:lastModifiedBy>
  <dcterms:modified xsi:type="dcterms:W3CDTF">2011-01-31T09:23:17Z</dcterms:modified>
  <cp:revision>5</cp:revision>
  <dc:subject/>
  <dc:title>Slide 1</dc:title>
</cp:coreProperties>
</file>