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7DAE-CA5E-411C-A037-8D21CF7FB2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C71-7783-4147-9146-8CCA78B4CA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04E-6211-4CF7-B41B-65B9A99064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30B-F926-4E2E-98F0-1E8354C94B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D9A-BEEF-483C-B7E4-B422F76107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8DCF-3E7C-4522-B8F1-D71626C251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1237-3591-4880-8AE9-8AE678E1CF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C08-BA2E-4AAC-A0CC-430F9083D7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1D85-04D0-4C2A-A478-764DE4747E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440-1B2A-485C-B6CF-88B3A12022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07C-2AFE-4FD6-80F7-548657AB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094-918E-46D2-B767-733477B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033-DCB2-4EB5-95BA-09F0ABAF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05A-3A22-4CE1-8E0F-E08E6905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602-FE27-4841-9435-D55DF2E6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0CF-7651-4BDF-8731-0588C4AA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CA3-B72E-45A5-A014-9F28ABB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B7F-405F-4EE7-BC6B-2AFC071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787-D8F8-4902-857B-B1583E4F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DFA-584E-41A7-84FE-16DA186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604-E320-45C5-BC85-50C8489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B97-51A7-463C-8683-27BA8E3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788-28E0-4EFC-AC4C-B1D55E1D80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322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32846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 her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322640" cy="324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dos herman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132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05732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tres herman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10573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4360" y="4265640"/>
            <a:ext cx="1056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3672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a her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1254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6720" y="458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dos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1254240" cy="324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1254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35772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cuatro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892080" cy="230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79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42920" y="4552920"/>
            <a:ext cx="892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 ___  ____ 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un hermano y dos herm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4552920"/>
            <a:ext cx="89208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1280" y="1989000"/>
            <a:ext cx="10000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046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7"/>
                </a:solidFill>
                <a:latin typeface="Comic Sans MS"/>
              </a:rPr>
              <a:t>mi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Tengo ____  ______ ___  ____ 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36720" y="4581360"/>
            <a:ext cx="64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engo tres hermanos y una her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7280" y="4552920"/>
            <a:ext cx="89244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1000080" cy="244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1000440" cy="244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79280" y="4408560"/>
            <a:ext cx="1000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532720" y="14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3272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234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327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272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3272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3272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272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32720" y="537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2:22Z</dcterms:modified>
  <cp:revision>123</cp:revision>
  <dc:subject/>
  <dc:title>TITLE</dc:title>
</cp:coreProperties>
</file>