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F684-9A78-4D0D-8188-E5B38E05B3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11E2-8AB6-4CAA-881F-9E3E05ED79C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E6E4-012E-4953-AE41-FCF2136876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8836-F43F-4021-B239-6C90A236F0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A022-DA8D-4BDC-BBF8-9C26EA11295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03BD-EA16-46E1-A710-B56A1D0A66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17D0-5FD5-4385-B78E-8A642EA1EE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6E37-B9BE-47AB-B831-716D719F1D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DDBD-2A7C-4126-85EE-73932D2E612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E9AA-4744-4A2A-A48B-BF55D5D2F0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61B-6AEB-4DDE-89A3-A411A181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2373-B7F7-4C54-A598-C977C014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7EC-0161-4577-80BE-01800773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B65-56D3-4534-852C-7FB94C8A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6CBA-3EDB-405C-805E-8C785895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897-6B61-4862-A50A-9F4604EF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25D-D757-4E89-A5FE-03C9466C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A75-7BF9-49F7-8FBA-DEDDA9FC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FFB-800E-44C0-AD9F-9B5B06E4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2D2-8EBC-40E5-BABF-BF8CD255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F17-E3CF-4B38-A7DC-EDA62044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33E-BA5D-4206-8338-5875F758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167B-539B-417F-B90C-A601A17763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24360" y="404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7"/>
                </a:solidFill>
                <a:latin typeface="Comic Sans MS"/>
              </a:rPr>
              <a:t>mi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132228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68360" y="328464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Tengo ____  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458136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engo un herman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404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7"/>
                </a:solidFill>
                <a:latin typeface="Comic Sans MS"/>
              </a:rPr>
              <a:t>mi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1322640" cy="324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71640" y="335772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Tengo ____  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36720" y="4581360"/>
            <a:ext cx="64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engo dos herman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03280" y="2781360"/>
            <a:ext cx="1322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04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7"/>
                </a:solidFill>
                <a:latin typeface="Comic Sans MS"/>
              </a:rPr>
              <a:t>mi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1057320" cy="25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71640" y="335772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Tengo ____  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36720" y="4581360"/>
            <a:ext cx="64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engo tres herman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8920" y="2060640"/>
            <a:ext cx="105732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84360" y="4265640"/>
            <a:ext cx="1056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404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7"/>
                </a:solidFill>
                <a:latin typeface="Comic Sans MS"/>
              </a:rPr>
              <a:t>mi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335772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Tengo ____  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36720" y="458136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engo una herman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1254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24360" y="404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7"/>
                </a:solidFill>
                <a:latin typeface="Comic Sans MS"/>
              </a:rPr>
              <a:t>mi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335772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Tengo ____  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36720" y="458136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engo dos herman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1254240" cy="324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187280" y="2852640"/>
            <a:ext cx="1254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404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7"/>
                </a:solidFill>
                <a:latin typeface="Comic Sans MS"/>
              </a:rPr>
              <a:t>mi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335772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Tengo ____  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36720" y="4581360"/>
            <a:ext cx="64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engo cuatro herman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892440" cy="2305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892080" cy="2305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79280" y="4552920"/>
            <a:ext cx="892440" cy="230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042920" y="4552920"/>
            <a:ext cx="892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404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7"/>
                </a:solidFill>
                <a:latin typeface="Comic Sans MS"/>
              </a:rPr>
              <a:t>mi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2565360"/>
            <a:ext cx="65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Tengo ____  ______ ___  ____  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36720" y="4581360"/>
            <a:ext cx="64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engo un hermano y dos herman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4552920"/>
            <a:ext cx="892440" cy="2305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4552920"/>
            <a:ext cx="892080" cy="2305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11280" y="1989000"/>
            <a:ext cx="100008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404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7"/>
                </a:solidFill>
                <a:latin typeface="Comic Sans MS"/>
              </a:rPr>
              <a:t>mi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2565360"/>
            <a:ext cx="65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Tengo ____  ______ ___  ____  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36720" y="4581360"/>
            <a:ext cx="64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engo tres hermanos y una herman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7280" y="4552920"/>
            <a:ext cx="892440" cy="2305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79280" y="1989000"/>
            <a:ext cx="1000080" cy="244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1989000"/>
            <a:ext cx="1000440" cy="244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79280" y="4408560"/>
            <a:ext cx="10000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43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532720" y="14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32720" y="184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32720" y="234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532720" y="292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532720" y="3357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32720" y="3716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532720" y="414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53272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32720" y="4941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532720" y="5373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02:22Z</dcterms:modified>
  <cp:revision>123</cp:revision>
  <dc:subject/>
  <dc:title>TITLE</dc:title>
</cp:coreProperties>
</file>