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AA0D-8D30-4432-9169-2B8984BF725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F93C-B247-45B9-B19A-E853617D57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4B03-3466-4D2B-B8E6-16C2049D3D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C7F1-3A98-4DDA-8651-8917D035A19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D487-C9CF-41AB-9A35-AE8737B57E5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C1AA-866D-41E8-B9CB-3FC6D98161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591A-7180-4AAB-94A9-04D3C87A848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91B3-00BA-43F8-9D55-865A3CAD52C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7ADB-50F9-4A2E-AC15-1FD4C103AA1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83A7-00AA-4896-B1F5-508FFDEDC32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2FB1-293A-408A-8DD1-28A56B63A1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7076-36F6-4B9E-AC40-FFA633CF2F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30F4-6C72-4C36-B333-A5737F84D4B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7182-81AE-40BB-86F2-BB7E6F7787F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83CE-49DF-4E47-B633-59B31C7D4E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62C8-9269-4B36-992A-6077FEC3830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A3B8-2295-4FF4-9EE5-5502A1DEFE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0AB8-9AE1-4C39-B5AD-EC3DA50D60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BC0D-C340-4528-8FB8-C9C7BD5FF0D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C1CC-280D-484B-A012-76F76ABB4A2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DC5-F123-4CFE-9747-1E61D916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FFD6-31A2-4B50-B670-369ED636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078-A5B5-4C69-BD1E-896B8A72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6697-7F87-455C-8898-C9F3F185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2E1-8A36-489A-BA35-7F51FD8E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A86A-4BF8-4E3F-A46B-C7860FD0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1F3-2CEF-4B24-A49F-47879C86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CC1-1610-411D-8A95-01B1CC2D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F5CC-E807-4B2E-8E4C-927996A5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A299-DBCD-4051-99A0-9DFE5B21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F714-6EE4-44AB-91FF-CC0312C8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DB3F-0EFA-43C2-80D7-1429A82E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733B-2148-4EDD-9B28-11D0611658D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66ffff"/>
                </a:solidFill>
                <a:latin typeface="Comic Sans MS"/>
              </a:rPr>
              <a:t>el anill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66ffff"/>
                </a:solidFill>
                <a:latin typeface="Comic Sans MS"/>
              </a:rPr>
              <a:t>el saló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ff"/>
                </a:solidFill>
                <a:latin typeface="Comic Sans MS"/>
              </a:rPr>
              <a:t>las estrell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66ffff"/>
                </a:solidFill>
                <a:latin typeface="Comic Sans MS"/>
              </a:rPr>
              <a:t>el conej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ff"/>
                </a:solidFill>
                <a:latin typeface="Comic Sans MS"/>
              </a:rPr>
              <a:t>las sill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66ffff"/>
                </a:solidFill>
                <a:latin typeface="Comic Sans MS"/>
              </a:rPr>
              <a:t>el cuerp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ff"/>
                </a:solidFill>
                <a:latin typeface="Comic Sans MS"/>
              </a:rPr>
              <a:t>las television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371628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ff"/>
                </a:solidFill>
                <a:latin typeface="Comic Sans MS"/>
              </a:rPr>
              <a:t>la chaquet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66ffff"/>
                </a:solidFill>
                <a:latin typeface="Comic Sans MS"/>
              </a:rPr>
              <a:t>el pel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66ffff"/>
                </a:solidFill>
                <a:latin typeface="Comic Sans MS"/>
              </a:rPr>
              <a:t>los oj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ff"/>
                </a:solidFill>
                <a:latin typeface="Comic Sans MS"/>
              </a:rPr>
              <a:t>las camiset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66ffff"/>
                </a:solidFill>
                <a:latin typeface="Comic Sans MS"/>
              </a:rPr>
              <a:t>los colegi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371628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ff"/>
                </a:solidFill>
                <a:latin typeface="Comic Sans MS"/>
              </a:rPr>
              <a:t>la alfombr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ff"/>
                </a:solidFill>
                <a:latin typeface="Comic Sans MS"/>
              </a:rPr>
              <a:t>la bols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ff"/>
                </a:solidFill>
                <a:latin typeface="Comic Sans MS"/>
              </a:rPr>
              <a:t>las flor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66ffff"/>
                </a:solidFill>
                <a:latin typeface="Comic Sans MS"/>
              </a:rPr>
              <a:t>los tenedor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ff"/>
                </a:solidFill>
                <a:latin typeface="Comic Sans MS"/>
              </a:rPr>
              <a:t>la lámpar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66ffff"/>
                </a:solidFill>
                <a:latin typeface="Comic Sans MS"/>
              </a:rPr>
              <a:t>el teatr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66ffff"/>
                </a:solidFill>
                <a:latin typeface="Comic Sans MS"/>
              </a:rPr>
              <a:t>los océan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6-21T13:32:46Z</dcterms:modified>
  <cp:revision>185</cp:revision>
  <dc:subject/>
  <dc:title>TITLE</dc:title>
</cp:coreProperties>
</file>