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631-5E9D-4E3A-96C8-652C062FF2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5F4-30A2-47DB-8B53-8A85C7849C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6096-E181-4A90-B3C5-AD58AF7749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9E2-985B-4BCB-BD1C-39E289D897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EAA1-B642-4BE1-AF5D-8C496860D7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2F5-7437-4D55-8224-2A0A2268EC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2EA9-8422-4871-AFD8-678D0F5EE7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45E-475F-4483-A298-6FD422CE0F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ADDB-1BEA-44FF-8F87-08B9AD0A26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DEC8-2B40-4710-AD2A-40C2057DB9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2298-0990-4651-A8AD-0FF4BFE745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6A1-BD61-4165-8587-75DB1F8E40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006E-8E05-47BC-BE1C-AF7B20C424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BE8-61BF-41D8-B6DB-1AFE43658B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8997-5A1A-4B01-A878-F72627008D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3F5-7AF9-4474-BE2E-E0B4F35BE4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54D-02C0-4D8B-9E1A-B500B0A8F3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3C41-B488-411E-BF2D-5DD2AE4A9C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C9C1-1B77-4F93-A846-7C0C6E5D95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49DC-387A-4CAA-AB43-B6DA0D16D6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1D0-D1FA-496A-9D8C-45FF5580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5F6-761E-4385-8549-6CCE8C2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B5B-9C1C-41C3-9298-0D52693C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7E4-EC1E-429A-95C5-EBD3F5DE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E4B-A1CB-4216-8B67-1517BAC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531-0FBE-4735-B9AB-FEC11BA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6C8-3CA5-41C4-A3AB-6B921B1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B9D-D9F2-404C-9187-49DCB737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91-69D7-4061-911B-17597A2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E34-E78B-4841-B29C-E4A256A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BF3-F3E5-4954-A3F7-E61E50A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806-E75B-4F2A-BF7A-2FACA00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225-0851-4CD9-9C64-7EE561ED3D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an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sal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estrel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conej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sil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cuer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televisio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371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chaqu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pe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oj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camise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coleg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716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alfomb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bol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s flo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tenedo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ff"/>
                </a:solidFill>
                <a:latin typeface="Comic Sans MS"/>
              </a:rPr>
              <a:t>la lámpa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el teat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Singular </a:t>
            </a:r>
            <a:br>
              <a:rPr sz="7200"/>
            </a:b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or plural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66ffff"/>
                </a:solidFill>
                <a:latin typeface="Comic Sans MS"/>
              </a:rPr>
              <a:t>los océa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2:46Z</dcterms:modified>
  <cp:revision>185</cp:revision>
  <dc:subject/>
  <dc:title>TITLE</dc:title>
</cp:coreProperties>
</file>