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0BAF-553E-423C-A63E-D9FBAD18CF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wo woodpigeo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F5C0-844E-4890-A655-70F8AD8A78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823-E9BD-47C8-9169-81AAD25E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0A5-D46E-4733-A46E-AB44C345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D95-FF55-4BF8-94F0-20984A4C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E62-9F6B-4511-B5B8-72961913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C05-5F41-4F95-8D44-15EB7E91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1B0-BECF-40A0-8F9F-7323E317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4A06-136A-4B99-9B33-E08B3887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DB95-784E-4793-8C53-7D2656F8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727-08C6-4491-A0A9-B596ACE4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82B-4411-4E43-823C-15D3AC18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FE0-385B-4074-804B-0695866E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A10-86CF-4B87-BE7C-19699D24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78CA-E50E-4228-ACBB-E56EF34B66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903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95640" y="40464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¡ Cantamos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1916280"/>
            <a:ext cx="489600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1, 2,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1, 2,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4, 5,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4, 5,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1, 2, 3, 4, 5,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09-29T07:39:07Z</dcterms:modified>
  <cp:revision>63</cp:revision>
  <dc:subject/>
  <dc:title>TITLE</dc:title>
</cp:coreProperties>
</file>