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B81-ACF5-4AD1-9A68-D869A30B1C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wo woodpigeo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5B8-4C0F-48BA-A6A1-F9478A31E3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D69-4C77-40C5-AC05-7D6FD21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A1E-DD4D-46FE-B1E2-816E5B0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321-0DD1-46C2-A5AD-FDE54614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B7D-425D-45B6-A739-480480F9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252-6D4F-407B-B523-5FE2F7D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50B-0D56-4B04-8CF4-F150A27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B18-0A2D-4149-B7B4-CB5D44B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694-8D70-4C04-896A-949B4E1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61F-6666-4159-986F-3E536D6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12B-E64E-4601-8C74-4FC75DB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12D-5E0C-49E5-BC76-9B6352E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EFE-2E58-498D-ABB9-2C8FD0E1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4DF-E75F-464D-BDE0-14D739363B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40464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¡ Cantamo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916280"/>
            <a:ext cx="489600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1, 2, 3, 4, 5,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9:07Z</dcterms:modified>
  <cp:revision>63</cp:revision>
  <dc:subject/>
  <dc:title>TITLE</dc:title>
</cp:coreProperties>
</file>