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22E-252B-47FD-B221-C884E181B3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14D-3EC5-4930-8C8C-8B8F7B977A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AA1-7C27-42CE-9DCB-C6047811F9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9755-E810-4791-8094-39DB6921A7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B60C-2F54-4BB4-8E04-5F26F1B3CB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D4B-AAD2-4666-B403-75B53FDECE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CAC-C174-40B6-9B8E-08CD9E9112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88E-169B-484D-BB77-9D1B4D7216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5383-8695-4ADC-83E9-68026962F2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70F3-A032-4DB1-BDFF-F27BAEED39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0E9-09A8-4FCA-A340-FC699892DA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4A02-C2C7-4854-AA72-31659ABFA7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604-0A01-4487-9DF3-1C68D2CE56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E86-4683-4BB8-ADE1-6A2EE697E9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EB9-FD90-41F6-9D77-531BD2BCA8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AA35-CB36-4086-9B26-CBE3EA1AEB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106-5AB9-4D5E-8386-FE05399724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105-DA93-4081-BE02-BA9FB56D5B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33F-9116-4E3E-81A6-9F6B734E03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2D5-9979-4AC4-8C11-D17161E791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C858-0544-4B0E-873F-C0A29F6575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C92-E711-467E-A6D3-A768C421FC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5964-E19C-4067-9E47-004306AD05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0E0-4498-4400-B619-BC41C29442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CB3-1415-410A-8366-D212FF41BB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B5F-9607-4CE3-8A82-7FE8E4DD11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B42-CBFA-496C-B674-990F41266A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4BA-C350-4A10-90DB-160229A6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4AC-A0E3-4C6C-956E-75EA89F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432-13E5-464D-BB88-A4F0ECAB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062-D3FE-438D-ADA5-2C3680F9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57F-8080-4B31-9122-C410D292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CA2-29CA-4D22-86E7-2CDE8773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E42-EA43-43A1-9CA2-1534C332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FB2-360D-4C49-AED4-49386ABE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4C1-BCED-4895-83B3-6A58C7CB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D69-C965-417D-9F4B-4AA1320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52C-595B-43FA-B7FC-066E296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7EB-3B77-48A7-9E13-9E9E3AC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B997-837E-4FF1-9E54-812D333233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44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or drink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95400" y="836640"/>
            <a:ext cx="5256000" cy="642600"/>
            <a:chOff x="95400" y="836640"/>
            <a:chExt cx="5256000" cy="642600"/>
          </a:xfrm>
        </p:grpSpPr>
        <p:sp>
          <p:nvSpPr>
            <p:cNvPr id="51" name="TextBox 2"/>
            <p:cNvSpPr/>
            <p:nvPr/>
          </p:nvSpPr>
          <p:spPr>
            <a:xfrm>
              <a:off x="95400" y="83664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95400" y="908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" name="Group 5"/>
          <p:cNvGrpSpPr/>
          <p:nvPr/>
        </p:nvGrpSpPr>
        <p:grpSpPr>
          <a:xfrm>
            <a:off x="95400" y="1598760"/>
            <a:ext cx="5256000" cy="642600"/>
            <a:chOff x="95400" y="1598760"/>
            <a:chExt cx="5256000" cy="642600"/>
          </a:xfrm>
        </p:grpSpPr>
        <p:sp>
          <p:nvSpPr>
            <p:cNvPr id="54" name="TextBox 11"/>
            <p:cNvSpPr/>
            <p:nvPr/>
          </p:nvSpPr>
          <p:spPr>
            <a:xfrm>
              <a:off x="95400" y="1598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TextBox 19"/>
            <p:cNvSpPr/>
            <p:nvPr/>
          </p:nvSpPr>
          <p:spPr>
            <a:xfrm>
              <a:off x="95400" y="1598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95400" y="2359080"/>
            <a:ext cx="5256000" cy="642600"/>
            <a:chOff x="95400" y="2359080"/>
            <a:chExt cx="5256000" cy="642600"/>
          </a:xfrm>
        </p:grpSpPr>
        <p:sp>
          <p:nvSpPr>
            <p:cNvPr id="57" name="TextBox 12"/>
            <p:cNvSpPr/>
            <p:nvPr/>
          </p:nvSpPr>
          <p:spPr>
            <a:xfrm>
              <a:off x="95400" y="23590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TextBox 20"/>
            <p:cNvSpPr/>
            <p:nvPr/>
          </p:nvSpPr>
          <p:spPr>
            <a:xfrm>
              <a:off x="95400" y="23590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95400" y="3121200"/>
            <a:ext cx="5256000" cy="642600"/>
            <a:chOff x="95400" y="3121200"/>
            <a:chExt cx="5256000" cy="642600"/>
          </a:xfrm>
        </p:grpSpPr>
        <p:sp>
          <p:nvSpPr>
            <p:cNvPr id="60" name="TextBox 17"/>
            <p:cNvSpPr/>
            <p:nvPr/>
          </p:nvSpPr>
          <p:spPr>
            <a:xfrm>
              <a:off x="95400" y="31212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TextBox 21"/>
            <p:cNvSpPr/>
            <p:nvPr/>
          </p:nvSpPr>
          <p:spPr>
            <a:xfrm>
              <a:off x="95400" y="31212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95400" y="3882960"/>
            <a:ext cx="5256000" cy="642600"/>
            <a:chOff x="95400" y="3882960"/>
            <a:chExt cx="5256000" cy="642600"/>
          </a:xfrm>
        </p:grpSpPr>
        <p:sp>
          <p:nvSpPr>
            <p:cNvPr id="63" name="TextBox 13"/>
            <p:cNvSpPr/>
            <p:nvPr/>
          </p:nvSpPr>
          <p:spPr>
            <a:xfrm>
              <a:off x="95400" y="3882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TextBox 22"/>
            <p:cNvSpPr/>
            <p:nvPr/>
          </p:nvSpPr>
          <p:spPr>
            <a:xfrm>
              <a:off x="95400" y="3882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95400" y="4643280"/>
            <a:ext cx="5256000" cy="642600"/>
            <a:chOff x="95400" y="4643280"/>
            <a:chExt cx="5256000" cy="642600"/>
          </a:xfrm>
        </p:grpSpPr>
        <p:sp>
          <p:nvSpPr>
            <p:cNvPr id="66" name="TextBox 14"/>
            <p:cNvSpPr/>
            <p:nvPr/>
          </p:nvSpPr>
          <p:spPr>
            <a:xfrm>
              <a:off x="95400" y="4643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TextBox 23"/>
            <p:cNvSpPr/>
            <p:nvPr/>
          </p:nvSpPr>
          <p:spPr>
            <a:xfrm>
              <a:off x="95400" y="4643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" name="Group 27"/>
          <p:cNvGrpSpPr/>
          <p:nvPr/>
        </p:nvGrpSpPr>
        <p:grpSpPr>
          <a:xfrm>
            <a:off x="95400" y="5405400"/>
            <a:ext cx="5256000" cy="642600"/>
            <a:chOff x="95400" y="5405400"/>
            <a:chExt cx="5256000" cy="642600"/>
          </a:xfrm>
        </p:grpSpPr>
        <p:sp>
          <p:nvSpPr>
            <p:cNvPr id="69" name="TextBox 15"/>
            <p:cNvSpPr/>
            <p:nvPr/>
          </p:nvSpPr>
          <p:spPr>
            <a:xfrm>
              <a:off x="95400" y="54054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Box 24"/>
            <p:cNvSpPr/>
            <p:nvPr/>
          </p:nvSpPr>
          <p:spPr>
            <a:xfrm>
              <a:off x="95400" y="5413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72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27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28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8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8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03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0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0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1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1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1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2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2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3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3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3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4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4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53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5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5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6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6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</a:t>
              </a:r>
              <a:r>
                <a:rPr b="0" lang="en-GB" sz="3200" spc="-1" strike="noStrike">
                  <a:solidFill>
                    <a:srgbClr val="00cc00"/>
                  </a:solidFill>
                  <a:latin typeface="Comic Sans MS"/>
                </a:rPr>
                <a:t>beb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</a:t>
            </a:r>
            <a:r>
              <a:rPr b="0" lang="en-GB" sz="3200" spc="-1" strike="noStrike">
                <a:solidFill>
                  <a:srgbClr val="00cc00"/>
                </a:solidFill>
                <a:latin typeface="Comic Sans MS"/>
              </a:rPr>
              <a:t>beb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7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8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8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</a:t>
              </a:r>
              <a:r>
                <a:rPr b="0" lang="en-GB" sz="3200" spc="-1" strike="noStrike">
                  <a:solidFill>
                    <a:srgbClr val="663300"/>
                  </a:solidFill>
                  <a:latin typeface="Comic Sans MS"/>
                </a:rPr>
                <a:t> sed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8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663300"/>
                  </a:solidFill>
                  <a:latin typeface="Comic Sans MS"/>
                </a:rPr>
                <a:t>sed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</a:t>
              </a:r>
              <a:r>
                <a:rPr b="0" lang="en-GB" sz="3200" spc="-1" strike="noStrike">
                  <a:solidFill>
                    <a:srgbClr val="00cc00"/>
                  </a:solidFill>
                  <a:latin typeface="Comic Sans MS"/>
                </a:rPr>
                <a:t>beb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</a:t>
            </a:r>
            <a:r>
              <a:rPr b="0" lang="en-GB" sz="3200" spc="-1" strike="noStrike">
                <a:solidFill>
                  <a:srgbClr val="00cc00"/>
                </a:solidFill>
                <a:latin typeface="Comic Sans MS"/>
              </a:rPr>
              <a:t>beb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108000" y="44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, you or he/sh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"/>
          <p:cNvGrpSpPr/>
          <p:nvPr/>
        </p:nvGrpSpPr>
        <p:grpSpPr>
          <a:xfrm>
            <a:off x="95400" y="836640"/>
            <a:ext cx="5256000" cy="642600"/>
            <a:chOff x="95400" y="836640"/>
            <a:chExt cx="5256000" cy="642600"/>
          </a:xfrm>
        </p:grpSpPr>
        <p:sp>
          <p:nvSpPr>
            <p:cNvPr id="403" name="TextBox 2"/>
            <p:cNvSpPr/>
            <p:nvPr/>
          </p:nvSpPr>
          <p:spPr>
            <a:xfrm>
              <a:off x="95400" y="83664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TextBox 3"/>
            <p:cNvSpPr/>
            <p:nvPr/>
          </p:nvSpPr>
          <p:spPr>
            <a:xfrm>
              <a:off x="95400" y="908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5" name="Group 5"/>
          <p:cNvGrpSpPr/>
          <p:nvPr/>
        </p:nvGrpSpPr>
        <p:grpSpPr>
          <a:xfrm>
            <a:off x="95400" y="1598760"/>
            <a:ext cx="5256000" cy="642600"/>
            <a:chOff x="95400" y="1598760"/>
            <a:chExt cx="5256000" cy="642600"/>
          </a:xfrm>
        </p:grpSpPr>
        <p:sp>
          <p:nvSpPr>
            <p:cNvPr id="406" name="TextBox 11"/>
            <p:cNvSpPr/>
            <p:nvPr/>
          </p:nvSpPr>
          <p:spPr>
            <a:xfrm>
              <a:off x="95400" y="1598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TextBox 19"/>
            <p:cNvSpPr/>
            <p:nvPr/>
          </p:nvSpPr>
          <p:spPr>
            <a:xfrm>
              <a:off x="95400" y="1598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8" name="Group 6"/>
          <p:cNvGrpSpPr/>
          <p:nvPr/>
        </p:nvGrpSpPr>
        <p:grpSpPr>
          <a:xfrm>
            <a:off x="95400" y="2359080"/>
            <a:ext cx="5256000" cy="642600"/>
            <a:chOff x="95400" y="2359080"/>
            <a:chExt cx="5256000" cy="642600"/>
          </a:xfrm>
        </p:grpSpPr>
        <p:sp>
          <p:nvSpPr>
            <p:cNvPr id="409" name="TextBox 12"/>
            <p:cNvSpPr/>
            <p:nvPr/>
          </p:nvSpPr>
          <p:spPr>
            <a:xfrm>
              <a:off x="95400" y="23590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Box 20"/>
            <p:cNvSpPr/>
            <p:nvPr/>
          </p:nvSpPr>
          <p:spPr>
            <a:xfrm>
              <a:off x="95400" y="23590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1" name="Group 7"/>
          <p:cNvGrpSpPr/>
          <p:nvPr/>
        </p:nvGrpSpPr>
        <p:grpSpPr>
          <a:xfrm>
            <a:off x="95400" y="3121200"/>
            <a:ext cx="5256000" cy="642600"/>
            <a:chOff x="95400" y="3121200"/>
            <a:chExt cx="5256000" cy="642600"/>
          </a:xfrm>
        </p:grpSpPr>
        <p:sp>
          <p:nvSpPr>
            <p:cNvPr id="412" name="TextBox 17"/>
            <p:cNvSpPr/>
            <p:nvPr/>
          </p:nvSpPr>
          <p:spPr>
            <a:xfrm>
              <a:off x="95400" y="31212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Box 21"/>
            <p:cNvSpPr/>
            <p:nvPr/>
          </p:nvSpPr>
          <p:spPr>
            <a:xfrm>
              <a:off x="95400" y="31212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4" name="Group 9"/>
          <p:cNvGrpSpPr/>
          <p:nvPr/>
        </p:nvGrpSpPr>
        <p:grpSpPr>
          <a:xfrm>
            <a:off x="95400" y="3882960"/>
            <a:ext cx="5256000" cy="642600"/>
            <a:chOff x="95400" y="3882960"/>
            <a:chExt cx="5256000" cy="642600"/>
          </a:xfrm>
        </p:grpSpPr>
        <p:sp>
          <p:nvSpPr>
            <p:cNvPr id="415" name="TextBox 13"/>
            <p:cNvSpPr/>
            <p:nvPr/>
          </p:nvSpPr>
          <p:spPr>
            <a:xfrm>
              <a:off x="95400" y="3882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TextBox 22"/>
            <p:cNvSpPr/>
            <p:nvPr/>
          </p:nvSpPr>
          <p:spPr>
            <a:xfrm>
              <a:off x="95400" y="3882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Group 26"/>
          <p:cNvGrpSpPr/>
          <p:nvPr/>
        </p:nvGrpSpPr>
        <p:grpSpPr>
          <a:xfrm>
            <a:off x="95400" y="4643280"/>
            <a:ext cx="5256000" cy="642600"/>
            <a:chOff x="95400" y="4643280"/>
            <a:chExt cx="5256000" cy="642600"/>
          </a:xfrm>
        </p:grpSpPr>
        <p:sp>
          <p:nvSpPr>
            <p:cNvPr id="418" name="TextBox 14"/>
            <p:cNvSpPr/>
            <p:nvPr/>
          </p:nvSpPr>
          <p:spPr>
            <a:xfrm>
              <a:off x="95400" y="4643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TextBox 23"/>
            <p:cNvSpPr/>
            <p:nvPr/>
          </p:nvSpPr>
          <p:spPr>
            <a:xfrm>
              <a:off x="95400" y="4643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95400" y="5405400"/>
            <a:ext cx="5256000" cy="642600"/>
            <a:chOff x="95400" y="5405400"/>
            <a:chExt cx="5256000" cy="642600"/>
          </a:xfrm>
        </p:grpSpPr>
        <p:sp>
          <p:nvSpPr>
            <p:cNvPr id="421" name="TextBox 15"/>
            <p:cNvSpPr/>
            <p:nvPr/>
          </p:nvSpPr>
          <p:spPr>
            <a:xfrm>
              <a:off x="95400" y="54054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TextBox 24"/>
            <p:cNvSpPr/>
            <p:nvPr/>
          </p:nvSpPr>
          <p:spPr>
            <a:xfrm>
              <a:off x="95400" y="5413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3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424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29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32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35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7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38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41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3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44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6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447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450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4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55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7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58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0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61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3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64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6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67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9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70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473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5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476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81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3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84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6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87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9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90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2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93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96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8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499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1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02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07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10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13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5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516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519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22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25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7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28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77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80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83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86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89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92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95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98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3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3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3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54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45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7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48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0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51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54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59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1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62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4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65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7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568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0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71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3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74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77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9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80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85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7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88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0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591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594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6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97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9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00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2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03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06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611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3" name="Group 5"/>
          <p:cNvGrpSpPr/>
          <p:nvPr/>
        </p:nvGrpSpPr>
        <p:grpSpPr>
          <a:xfrm>
            <a:off x="1674720" y="5416560"/>
            <a:ext cx="5257800" cy="642600"/>
            <a:chOff x="1674720" y="5416560"/>
            <a:chExt cx="5257800" cy="642600"/>
          </a:xfrm>
        </p:grpSpPr>
        <p:sp>
          <p:nvSpPr>
            <p:cNvPr id="614" name="TextBox 11"/>
            <p:cNvSpPr/>
            <p:nvPr/>
          </p:nvSpPr>
          <p:spPr>
            <a:xfrm>
              <a:off x="1674720" y="541656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TextBox 19"/>
            <p:cNvSpPr/>
            <p:nvPr/>
          </p:nvSpPr>
          <p:spPr>
            <a:xfrm>
              <a:off x="1674720" y="5416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6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17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20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2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23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5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26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8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29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1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32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6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37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40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2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43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5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46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8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49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52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4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55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7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58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63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5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66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8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69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1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72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4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75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7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78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0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81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3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84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89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1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92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4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95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7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98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0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701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3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704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707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9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710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0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0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0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1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15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118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121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2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3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34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37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40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143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5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5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5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6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65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1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7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8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84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6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87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1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1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0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20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20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1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1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1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2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2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23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3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3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4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4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5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25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5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6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6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4:01Z</dcterms:modified>
  <cp:revision>189</cp:revision>
  <dc:subject/>
  <dc:title>TITLE</dc:title>
</cp:coreProperties>
</file>