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5AF6-A89E-4583-984A-77DFBD16E91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What are these word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2AD4-353E-458E-A1B7-BF1F456A5ED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CCC8-61FD-495E-A2A2-99FFFC774D4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0C7A-EC7A-4AE6-8FBE-B703891FCA9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99C3-E940-4F0C-A6A0-E7B250FB9AD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EC7D-0AC6-4C2A-A9BA-FCBE0F82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77FB-0A2C-408C-A54F-FC9AF2D5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76AA-EC40-4D8C-9B86-4FE5829D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7DC9-ED66-4AB1-862F-D6E2F234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862F-7111-463B-8A4F-7536CEB0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425D-5835-47B0-9D23-AB6F2D91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91E3-173C-43E6-8813-2DF34CFD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5D76-8126-4B1F-AD33-5CB9D8B9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38E5-D4A2-49FF-B57B-C2945B68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3157-A55C-4556-B50D-0D4034A4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F115-FB4A-4144-ABAC-C6BB2C17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079B-5451-433C-948D-9639110A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BAF3-8889-4B67-8390-C1CB4FBD90D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404640"/>
            <a:ext cx="6769440" cy="6186240"/>
          </a:xfrm>
          <a:prstGeom prst="rect">
            <a:avLst/>
          </a:prstGeom>
          <a:solidFill>
            <a:srgbClr val="ff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ero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se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uno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sie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dos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och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tres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uatro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inco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5734080"/>
            <a:ext cx="792000" cy="7920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96000" y="4724280"/>
            <a:ext cx="792000" cy="79236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476280"/>
            <a:ext cx="792000" cy="7920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3573360"/>
            <a:ext cx="792000" cy="79236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58920" y="4653000"/>
            <a:ext cx="792000" cy="792000"/>
          </a:xfrm>
          <a:prstGeom prst="ellipse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198900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voca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42920" y="3645000"/>
            <a:ext cx="7274160" cy="13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Comic Sans MS"/>
              </a:rPr>
              <a:t>a e i o u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7640" y="0"/>
            <a:ext cx="73454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7"/>
                </a:solidFill>
                <a:latin typeface="Comic Sans MS"/>
              </a:rPr>
              <a:t>a, a, a,</a:t>
            </a:r>
            <a:r>
              <a:rPr b="0" lang="it-IT" sz="4400" spc="-1" strike="noStrike">
                <a:solidFill>
                  <a:srgbClr val="fffff7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Comic Sans MS"/>
              </a:rPr>
              <a:t>Gran Ca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7"/>
                </a:solidFill>
                <a:latin typeface="Comic Sans MS"/>
              </a:rPr>
              <a:t>e, e, 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Comic Sans MS"/>
              </a:rPr>
              <a:t>Té en el caf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7"/>
                </a:solidFill>
                <a:latin typeface="Comic Sans MS"/>
              </a:rPr>
              <a:t>i, i, i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Comic Sans MS"/>
              </a:rPr>
              <a:t>Lidi y P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7"/>
                </a:solidFill>
                <a:latin typeface="Comic Sans MS"/>
              </a:rPr>
              <a:t>o, o, o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Comic Sans MS"/>
              </a:rPr>
              <a:t>¿Loro o lob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7"/>
                </a:solidFill>
                <a:latin typeface="Comic Sans MS"/>
              </a:rPr>
              <a:t>u, u, u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Comic Sans MS"/>
              </a:rPr>
              <a:t>Purucú, Per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0226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El obispo vasco de Vizcaya busca el obispo vasco de Guipúzcoa.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Cilicia, Cecilia, Sicilia, Silecia y Seleuc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205000"/>
            <a:ext cx="9144000" cy="158436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00000" y="2421000"/>
            <a:ext cx="7201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adley Hand ITC"/>
              </a:rPr>
              <a:t>trabalengua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adley Hand ITC"/>
              <a:ea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Clare</dc:creator>
  <dc:description/>
  <dc:language>en-US</dc:language>
  <cp:lastModifiedBy>Clare</cp:lastModifiedBy>
  <dcterms:modified xsi:type="dcterms:W3CDTF">2009-10-20T08:14:29Z</dcterms:modified>
  <cp:revision>77</cp:revision>
  <dc:subject/>
  <dc:title>TITLE</dc:title>
</cp:coreProperties>
</file>