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4BB1-4ABA-4A86-8ED6-2D964D6C79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What are these word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9549-630D-4D6F-98DC-A7C9242179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9390-BC2A-4612-BB31-87AE002FF9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02E-64BE-46F7-9ED9-C9DE224EA8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82F-1422-4C52-9AA4-A2A517B51D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0C9-0245-482B-A797-AB4E860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9ED-4D03-4090-A974-8A5C55B4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972-64A0-40BF-B6A5-749B1F64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CF5-5D34-4CA0-AFC2-97884A35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76A-99B4-4A86-A481-AC35DC93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64E-7972-447C-8D11-92A6506B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CE1-63FA-4DE8-9D2C-FC10721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80D-D609-499A-A2C3-9B8AD4DC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78A-0D3C-4053-84DB-4BB1C4CF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7BE-4A86-4AA8-A2C9-BC46BF2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ED7-E497-447D-AE6A-74F64B1C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706-3658-468C-B412-A598D11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5DF7-1F0C-4972-B7E5-DF0E966ADB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6769440" cy="61862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c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734080"/>
            <a:ext cx="792000" cy="79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4724280"/>
            <a:ext cx="792000" cy="79236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476280"/>
            <a:ext cx="792000" cy="79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73360"/>
            <a:ext cx="792000" cy="792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4653000"/>
            <a:ext cx="792000" cy="792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0"/>
            <a:ext cx="734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a, a, a,</a:t>
            </a:r>
            <a:r>
              <a:rPr b="0" lang="it-IT" sz="4400" spc="-1" strike="noStrike">
                <a:solidFill>
                  <a:srgbClr val="fffff7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Gran Ca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e, e, 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Té en el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i, i, 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Lidi y P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o, o, 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¿Loro o lo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u, u, u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Purucú,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22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l obispo vasco de Vizcaya busca el obispo vasco de Guipúzco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ilicia, Cecilia, Sicilia, Silecia y Seleu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05000"/>
            <a:ext cx="9144000" cy="158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2421000"/>
            <a:ext cx="720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trabalengua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Clare</dc:creator>
  <dc:description/>
  <dc:language>en-US</dc:language>
  <cp:lastModifiedBy>Clare</cp:lastModifiedBy>
  <dcterms:modified xsi:type="dcterms:W3CDTF">2009-10-20T08:14:29Z</dcterms:modified>
  <cp:revision>77</cp:revision>
  <dc:subject/>
  <dc:title>TITLE</dc:title>
</cp:coreProperties>
</file>