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C30E6-9A53-458B-9073-567CD2BCE22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What are these words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E118C-292E-4035-8DBB-FA8CA268D9A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Check written w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28CBF-7296-4E5F-9539-DBB75297576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How many th sou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094E5-F99B-404C-BF86-60A1AD61CCD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How many th sou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79A10-C776-47EA-A36F-149641EAA7F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How many b sou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DDCE4-21E2-46C4-9217-56507DFF20D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How many b sou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2DA36-002F-4516-B3FA-6795D19E46E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How many cu sou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084EC-9B4A-46D8-BAFE-D416C15594E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How many cu sou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57621-7A3B-43B6-A09D-617C034DF01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Check written w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19E76-28A2-4E8B-B7EB-FCBFA16EDC9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Check written w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30B26-F8D0-4EB2-851B-66FDB7BC61E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CFE1-A65A-46AA-A0EE-A798643FC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2C78-32A8-425D-9FEC-7C189E05C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5C38-DD6A-4023-A1D8-81C7A12A8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8111-4F8A-4F60-8636-EC83EB784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DED3-F8E2-4025-B2D2-B503BCE60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A35D-17DC-43E6-8C0C-0D7F3031E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80FF-DE9D-4F4B-9C7A-04E261A9F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9CDF-60A5-429F-A206-FFC8DBF2E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CDD1-5A19-4EA0-98DD-58F0E8B3F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FF8B-7340-45FB-8EAB-729EF544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36E2-C294-4309-A17B-FC65546A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89C1-5E52-4095-897E-9DBD7BB79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D621D-D52C-4A01-B409-6CFA4625066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87280" y="404640"/>
            <a:ext cx="6769440" cy="6186240"/>
          </a:xfrm>
          <a:prstGeom prst="rect">
            <a:avLst/>
          </a:prstGeom>
          <a:solidFill>
            <a:srgbClr val="ffff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cero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sei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uno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sie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dos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och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tres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nuev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cuatro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diez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cinco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16000" y="5734080"/>
            <a:ext cx="792000" cy="792000"/>
          </a:xfrm>
          <a:prstGeom prst="ellipse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796000" y="4724280"/>
            <a:ext cx="792000" cy="792360"/>
          </a:xfrm>
          <a:prstGeom prst="ellipse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58920" y="476280"/>
            <a:ext cx="792000" cy="792000"/>
          </a:xfrm>
          <a:prstGeom prst="ellipse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3573360"/>
            <a:ext cx="792000" cy="792360"/>
          </a:xfrm>
          <a:prstGeom prst="ellipse">
            <a:avLst/>
          </a:prstGeom>
          <a:noFill/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258920" y="4653000"/>
            <a:ext cx="792000" cy="792000"/>
          </a:xfrm>
          <a:prstGeom prst="ellipse">
            <a:avLst/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5280" y="2492280"/>
            <a:ext cx="874872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Bolivia</a:t>
            </a: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	</a:t>
            </a: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	</a:t>
            </a: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	</a:t>
            </a: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Venezuel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Cuba</a:t>
            </a: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	</a:t>
            </a: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	</a:t>
            </a: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	</a:t>
            </a: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	</a:t>
            </a: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Panam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Chile</a:t>
            </a: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	</a:t>
            </a: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	</a:t>
            </a: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	</a:t>
            </a: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	</a:t>
            </a: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Ecuad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9280" y="18900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cervez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80000" y="3573360"/>
            <a:ext cx="35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gracia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300720" y="227664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libr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5373720"/>
            <a:ext cx="21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azul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422100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francé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177336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veint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03640" y="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febrer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32000" y="566892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vecin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112536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escribi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050920" y="2852640"/>
            <a:ext cx="324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cuerp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32360" y="472428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cuand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9280" y="18900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0066"/>
                </a:solidFill>
                <a:latin typeface="Comic Sans MS"/>
              </a:rPr>
              <a:t>ce</a:t>
            </a: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rve</a:t>
            </a:r>
            <a:r>
              <a:rPr b="1" lang="en-GB" sz="7200" spc="-1" strike="noStrike">
                <a:solidFill>
                  <a:srgbClr val="ff0066"/>
                </a:solidFill>
                <a:latin typeface="Comic Sans MS"/>
              </a:rPr>
              <a:t>z</a:t>
            </a: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80000" y="3573360"/>
            <a:ext cx="35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gra</a:t>
            </a:r>
            <a:r>
              <a:rPr b="1" lang="en-GB" sz="7200" spc="-1" strike="noStrike">
                <a:solidFill>
                  <a:srgbClr val="ff0066"/>
                </a:solidFill>
                <a:latin typeface="Comic Sans MS"/>
              </a:rPr>
              <a:t>ci</a:t>
            </a: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a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300720" y="227664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libr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9640" y="5373720"/>
            <a:ext cx="21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7200" spc="-1" strike="noStrike">
                <a:solidFill>
                  <a:srgbClr val="ff0066"/>
                </a:solidFill>
                <a:latin typeface="Comic Sans MS"/>
              </a:rPr>
              <a:t>z</a:t>
            </a: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ul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422100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fran</a:t>
            </a:r>
            <a:r>
              <a:rPr b="1" lang="en-GB" sz="7200" spc="-1" strike="noStrike">
                <a:solidFill>
                  <a:srgbClr val="ff0066"/>
                </a:solidFill>
                <a:latin typeface="Comic Sans MS"/>
              </a:rPr>
              <a:t>cé</a:t>
            </a: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177336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veint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003640" y="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febrer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132000" y="566892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ve</a:t>
            </a:r>
            <a:r>
              <a:rPr b="1" lang="en-GB" sz="7200" spc="-1" strike="noStrike">
                <a:solidFill>
                  <a:srgbClr val="ff0066"/>
                </a:solidFill>
                <a:latin typeface="Comic Sans MS"/>
              </a:rPr>
              <a:t>ci</a:t>
            </a: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n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76720" y="112536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escribi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050920" y="2852640"/>
            <a:ext cx="324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cuerp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932360" y="472428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cuand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9280" y="18900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cervez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80000" y="3573360"/>
            <a:ext cx="35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gracia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300720" y="227664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libr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9640" y="5373720"/>
            <a:ext cx="21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azul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422100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francé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177336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veint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003640" y="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febrer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132000" y="566892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vecin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112536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escribi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050920" y="2852640"/>
            <a:ext cx="324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cuerp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932360" y="472428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cuand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9280" y="18900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cer</a:t>
            </a:r>
            <a:r>
              <a:rPr b="1" lang="en-GB" sz="7200" spc="-1" strike="noStrike">
                <a:solidFill>
                  <a:srgbClr val="33cccc"/>
                </a:solidFill>
                <a:latin typeface="Comic Sans MS"/>
              </a:rPr>
              <a:t>v</a:t>
            </a: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ez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580000" y="3573360"/>
            <a:ext cx="35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gracia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00720" y="227664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li</a:t>
            </a:r>
            <a:r>
              <a:rPr b="1" lang="en-GB" sz="7200" spc="-1" strike="noStrike">
                <a:solidFill>
                  <a:srgbClr val="33cccc"/>
                </a:solidFill>
                <a:latin typeface="Comic Sans MS"/>
              </a:rPr>
              <a:t>b</a:t>
            </a: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r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9640" y="5373720"/>
            <a:ext cx="21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azul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422100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francé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177336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33cccc"/>
                </a:solidFill>
                <a:latin typeface="Comic Sans MS"/>
              </a:rPr>
              <a:t>v</a:t>
            </a: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eint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003640" y="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fe</a:t>
            </a:r>
            <a:r>
              <a:rPr b="1" lang="en-GB" sz="7200" spc="-1" strike="noStrike">
                <a:solidFill>
                  <a:srgbClr val="33cccc"/>
                </a:solidFill>
                <a:latin typeface="Comic Sans MS"/>
              </a:rPr>
              <a:t>b</a:t>
            </a: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rer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132000" y="566892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33cccc"/>
                </a:solidFill>
                <a:latin typeface="Comic Sans MS"/>
              </a:rPr>
              <a:t>v</a:t>
            </a: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ecin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76720" y="112536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escri</a:t>
            </a:r>
            <a:r>
              <a:rPr b="1" lang="en-GB" sz="7200" spc="-1" strike="noStrike">
                <a:solidFill>
                  <a:srgbClr val="33cccc"/>
                </a:solidFill>
                <a:latin typeface="Comic Sans MS"/>
              </a:rPr>
              <a:t>b</a:t>
            </a: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i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50920" y="2852640"/>
            <a:ext cx="324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cuerp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932360" y="472428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cuand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9280" y="18900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cervez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580000" y="3573360"/>
            <a:ext cx="35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gracia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00720" y="227664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libr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9640" y="5373720"/>
            <a:ext cx="21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azul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422100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francé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177336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veint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febrer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32000" y="566892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vecin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76720" y="112536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escribi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050920" y="2852640"/>
            <a:ext cx="324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cuerp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2428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cuand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9280" y="18900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cervez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80000" y="3573360"/>
            <a:ext cx="35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gracia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00720" y="227664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libr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9640" y="5373720"/>
            <a:ext cx="21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azul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5280" y="422100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francé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177336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veint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003640" y="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febrer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132000" y="566892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vecin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76720" y="112536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escribi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050920" y="2852640"/>
            <a:ext cx="324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33cc33"/>
                </a:solidFill>
                <a:latin typeface="Comic Sans MS"/>
              </a:rPr>
              <a:t>cu</a:t>
            </a: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erp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932360" y="472428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33cc33"/>
                </a:solidFill>
                <a:latin typeface="Comic Sans MS"/>
              </a:rPr>
              <a:t>cu</a:t>
            </a: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and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340000" y="1989000"/>
            <a:ext cx="50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vocal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042920" y="3645000"/>
            <a:ext cx="7274160" cy="13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ecff"/>
                </a:solidFill>
                <a:latin typeface="Comic Sans MS"/>
              </a:rPr>
              <a:t>a e i o u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ec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47640" y="0"/>
            <a:ext cx="734544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f7"/>
                </a:solidFill>
                <a:latin typeface="Comic Sans MS"/>
              </a:rPr>
              <a:t>a, a, a,</a:t>
            </a:r>
            <a:r>
              <a:rPr b="0" lang="it-IT" sz="4400" spc="-1" strike="noStrike">
                <a:solidFill>
                  <a:srgbClr val="fffff7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00"/>
                </a:solidFill>
                <a:latin typeface="Comic Sans MS"/>
              </a:rPr>
              <a:t>Gran Can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f7"/>
                </a:solidFill>
                <a:latin typeface="Comic Sans MS"/>
              </a:rPr>
              <a:t>e, e, e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00"/>
                </a:solidFill>
                <a:latin typeface="Comic Sans MS"/>
              </a:rPr>
              <a:t>Té en el caf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f7"/>
                </a:solidFill>
                <a:latin typeface="Comic Sans MS"/>
              </a:rPr>
              <a:t>i, i, i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00"/>
                </a:solidFill>
                <a:latin typeface="Comic Sans MS"/>
              </a:rPr>
              <a:t>Lidi y Pi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f7"/>
                </a:solidFill>
                <a:latin typeface="Comic Sans MS"/>
              </a:rPr>
              <a:t>o, o, o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00"/>
                </a:solidFill>
                <a:latin typeface="Comic Sans MS"/>
              </a:rPr>
              <a:t>¿Loro o lob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f7"/>
                </a:solidFill>
                <a:latin typeface="Comic Sans MS"/>
              </a:rPr>
              <a:t>u, u, u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00"/>
                </a:solidFill>
                <a:latin typeface="Comic Sans MS"/>
              </a:rPr>
              <a:t>Purucú, Per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Clare</dc:creator>
  <dc:description/>
  <dc:language>en-US</dc:language>
  <cp:lastModifiedBy>Clare</cp:lastModifiedBy>
  <dcterms:modified xsi:type="dcterms:W3CDTF">2009-10-20T08:17:48Z</dcterms:modified>
  <cp:revision>95</cp:revision>
  <dc:subject/>
  <dc:title>TITLE</dc:title>
</cp:coreProperties>
</file>