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897C-EB63-4D1B-A72D-154DA6731D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What are these word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659-52AA-4B28-9DD3-2B7A3076DC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871-9DF8-41F1-985E-C5D472ECA3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03D-94E7-40AA-AF2A-5C6D9A1C53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63D4-39C7-484C-9674-B1B40E0BE2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b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F3C-B0B5-4D79-93F9-536C2E5AD3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b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59F-E617-4B5C-8639-CCB725277D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cu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F6D-778A-4417-B57B-A40A9445F8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cu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7F2-5655-40BD-B929-64520BB4F3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CBA-B208-4F99-B93C-5B1F8D6F34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5D4-8440-4DD8-AC10-E641151C60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241-17B2-4CC9-A093-C79CBB0B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056-07E5-45CA-BE7A-1CAF2BB2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667-9E11-4893-886D-765E1D31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5E4-B00F-4775-9C60-28AD4AB1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FE9-AF51-4991-BFB1-CAC7F69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85D-BE6A-4DAB-9CBE-CF55410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10A-B7C0-49A3-B664-C2213E22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DF2-24E1-4B2B-B303-2A4C745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F99-14D8-45FF-8FC5-55D8513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B28-3395-4F7E-885E-D29084D6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C53-CD17-4D15-B518-E5F96E4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FC2-18AE-456D-9E42-CA583E8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08ED-FBF7-45A4-BE2C-FCC0ADF9EA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6769440" cy="61862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c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734080"/>
            <a:ext cx="792000" cy="792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4724280"/>
            <a:ext cx="792000" cy="7923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476280"/>
            <a:ext cx="792000" cy="792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73360"/>
            <a:ext cx="792000" cy="792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4653000"/>
            <a:ext cx="792000" cy="792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492280"/>
            <a:ext cx="8748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Bolivia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uba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hile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e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ve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z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i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z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é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i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33"/>
                </a:solidFill>
                <a:latin typeface="Comic Sans MS"/>
              </a:rPr>
              <a:t>cu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33"/>
                </a:solidFill>
                <a:latin typeface="Comic Sans MS"/>
              </a:rPr>
              <a:t>cu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0"/>
            <a:ext cx="734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a, a, a,</a:t>
            </a:r>
            <a:r>
              <a:rPr b="0" lang="it-IT" sz="4400" spc="-1" strike="noStrike">
                <a:solidFill>
                  <a:srgbClr val="fffff7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Gran Ca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e, e, 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Té en el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i, i, 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Lidi y P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o, o, 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¿Loro o lo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u, u, u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Purucú,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Clare</dc:creator>
  <dc:description/>
  <dc:language>en-US</dc:language>
  <cp:lastModifiedBy>Clare</cp:lastModifiedBy>
  <dcterms:modified xsi:type="dcterms:W3CDTF">2009-10-20T08:17:48Z</dcterms:modified>
  <cp:revision>95</cp:revision>
  <dc:subject/>
  <dc:title>TITLE</dc:title>
</cp:coreProperties>
</file>