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C71-2769-4653-89EB-3093ED81A9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2C2C-78A6-41C4-9767-A1371771D9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9B0E-A63F-46AB-9937-90194D489B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F12-FF85-429A-8A41-A2DE247FF8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1D4-1CF7-4205-AFF6-A0A22C2499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E60-0CFD-48FA-89CA-C75FED6C27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D17-F006-4CCA-B47A-F0428932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D3B-C848-4BB7-A6BA-0E03E65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E7B-B5CC-4DF7-AF59-496D598A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837-7A02-41DD-951A-4C31CB56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54F-3340-4FB4-AF76-00544143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40C-8C79-4A72-9320-4BDAEC67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55E-E2D0-412B-8B6C-CC1610F8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05F-2129-4521-8C1A-B929E9B4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683-8FA2-441D-A13E-56FED63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EF5-970D-4568-B719-C4F6AF9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BA5-447F-4B65-A15E-266228E9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5AF-5E00-4D63-8A81-2BAF8364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DA1A-9B9A-49A0-89C2-B71E1063F2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2771640" y="2637000"/>
            <a:ext cx="17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de co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106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2771640" y="2637000"/>
            <a:ext cx="17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de co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1908000" y="313704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amarill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2771640" y="2637000"/>
            <a:ext cx="17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de co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1908000" y="313704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amarill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2035080" y="4076640"/>
            <a:ext cx="23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 color gr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2050920" y="543564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</a:t>
            </a:r>
            <a:br>
              <a:rPr sz="3200"/>
            </a:b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color ver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6284880" y="4048200"/>
            <a:ext cx="260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 color multicol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6284880" y="5407200"/>
            <a:ext cx="285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</a:t>
            </a:r>
            <a:br>
              <a:rPr sz="3200"/>
            </a:b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color naranj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6284880" y="2676600"/>
            <a:ext cx="260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 color viole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34:10Z</dcterms:modified>
  <cp:revision>187</cp:revision>
  <dc:subject/>
  <dc:title>TITLE</dc:title>
</cp:coreProperties>
</file>