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7522-994A-4BD2-8A8F-E3FD1D52D7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1084-BC56-4F63-BB40-B89FE61712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6D87-8917-4F77-9F3F-3BC5F03259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55FE-BA1B-4F8B-BE14-B7023F3BD1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2DA0-6D3D-469F-A760-7DFBBC62CC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29F3-9425-4FDE-9493-28C08382AA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CB7-5B52-48D6-BCE3-E602EFDA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67A-C609-44C1-AAAC-BAF4CF86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F36-EE7F-4EBC-94F2-53945AD1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93A-372B-4B41-AAA9-1C2F8A6E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F83-3BD8-438E-81CF-F6BF4CEB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71D-0CFA-415B-B7EB-79394C90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2E1-C8BC-45B3-8C59-0784BC26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E3A-8802-45D4-B1AE-1E81F09C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D73-9B6C-490E-8FCD-692C3CD5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283-4270-4DA8-B6BF-958A8A9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07A-948B-4725-8EDA-F4CC5DE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8CA-EFA7-4942-9B75-D2DA70C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D566-AE70-4973-8F3C-7CD3403ABE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73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908000" y="2646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1908000" y="2646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2771640" y="2637000"/>
            <a:ext cx="17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de co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106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908000" y="2646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2771640" y="2637000"/>
            <a:ext cx="17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de co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1908000" y="313704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amarill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4424" t="19017" r="0" b="3422"/>
          <a:stretch/>
        </p:blipFill>
        <p:spPr>
          <a:xfrm>
            <a:off x="108000" y="115920"/>
            <a:ext cx="777888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08000" y="2492280"/>
          <a:ext cx="8856720" cy="4176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9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9" descr=""/>
          <p:cNvPicPr/>
          <p:nvPr/>
        </p:nvPicPr>
        <p:blipFill>
          <a:blip r:embed="rId2"/>
          <a:srcRect l="0" t="0" r="0" b="5582"/>
          <a:stretch/>
        </p:blipFill>
        <p:spPr>
          <a:xfrm>
            <a:off x="566640" y="2568600"/>
            <a:ext cx="1052640" cy="1292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5072040" y="3916440"/>
            <a:ext cx="1084320" cy="13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480960" y="3916440"/>
            <a:ext cx="1225440" cy="1341360"/>
          </a:xfrm>
          <a:prstGeom prst="rect">
            <a:avLst/>
          </a:prstGeom>
          <a:ln w="0">
            <a:noFill/>
          </a:ln>
        </p:spPr>
      </p:pic>
      <p:sp>
        <p:nvSpPr>
          <p:cNvPr id="120" name="Rounded Rectangular Callout 13"/>
          <p:cNvSpPr/>
          <p:nvPr/>
        </p:nvSpPr>
        <p:spPr>
          <a:xfrm>
            <a:off x="1835280" y="3981600"/>
            <a:ext cx="2606400" cy="1218960"/>
          </a:xfrm>
          <a:prstGeom prst="wedgeRoundRectCallout">
            <a:avLst>
              <a:gd name="adj1" fmla="val -58356"/>
              <a:gd name="adj2" fmla="val -20138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5"/>
          <a:stretch/>
        </p:blipFill>
        <p:spPr>
          <a:xfrm>
            <a:off x="5051520" y="2478240"/>
            <a:ext cx="960480" cy="147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6"/>
          <a:stretch/>
        </p:blipFill>
        <p:spPr>
          <a:xfrm>
            <a:off x="4917960" y="5300640"/>
            <a:ext cx="1314720" cy="104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7"/>
          <a:stretch/>
        </p:blipFill>
        <p:spPr>
          <a:xfrm>
            <a:off x="399960" y="5300640"/>
            <a:ext cx="1795680" cy="134784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ular Callout 17"/>
          <p:cNvSpPr/>
          <p:nvPr/>
        </p:nvSpPr>
        <p:spPr>
          <a:xfrm>
            <a:off x="1835280" y="2583000"/>
            <a:ext cx="2606400" cy="1220760"/>
          </a:xfrm>
          <a:prstGeom prst="wedgeRoundRectCallout">
            <a:avLst>
              <a:gd name="adj1" fmla="val -68425"/>
              <a:gd name="adj2" fmla="val -3350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ounded Rectangular Callout 18"/>
          <p:cNvSpPr/>
          <p:nvPr/>
        </p:nvSpPr>
        <p:spPr>
          <a:xfrm>
            <a:off x="2124000" y="5353200"/>
            <a:ext cx="2317680" cy="1220760"/>
          </a:xfrm>
          <a:prstGeom prst="wedgeRoundRectCallout">
            <a:avLst>
              <a:gd name="adj1" fmla="val -62259"/>
              <a:gd name="adj2" fmla="val -381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ounded Rectangular Callout 19"/>
          <p:cNvSpPr/>
          <p:nvPr/>
        </p:nvSpPr>
        <p:spPr>
          <a:xfrm>
            <a:off x="6284880" y="3981600"/>
            <a:ext cx="2608200" cy="1218960"/>
          </a:xfrm>
          <a:prstGeom prst="wedgeRoundRectCallout">
            <a:avLst>
              <a:gd name="adj1" fmla="val -64953"/>
              <a:gd name="adj2" fmla="val -25333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ounded Rectangular Callout 20"/>
          <p:cNvSpPr/>
          <p:nvPr/>
        </p:nvSpPr>
        <p:spPr>
          <a:xfrm>
            <a:off x="6284880" y="2583000"/>
            <a:ext cx="2608200" cy="1220760"/>
          </a:xfrm>
          <a:prstGeom prst="wedgeRoundRectCallout">
            <a:avLst>
              <a:gd name="adj1" fmla="val -65300"/>
              <a:gd name="adj2" fmla="val -5296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ounded Rectangular Callout 21"/>
          <p:cNvSpPr/>
          <p:nvPr/>
        </p:nvSpPr>
        <p:spPr>
          <a:xfrm>
            <a:off x="6284880" y="5353200"/>
            <a:ext cx="2608200" cy="1220760"/>
          </a:xfrm>
          <a:prstGeom prst="wedgeRoundRectCallout">
            <a:avLst>
              <a:gd name="adj1" fmla="val -56300"/>
              <a:gd name="adj2" fmla="val 9550"/>
              <a:gd name="adj3" fmla="val 16667"/>
            </a:avLst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908000" y="2646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2771640" y="2637000"/>
            <a:ext cx="17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de co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1908000" y="313704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amarill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2035080" y="4076640"/>
            <a:ext cx="232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 color gr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2050920" y="543564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</a:t>
            </a:r>
            <a:br>
              <a:rPr sz="3200"/>
            </a:b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color ver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6284880" y="4048200"/>
            <a:ext cx="260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 color multicol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7"/>
          <p:cNvSpPr/>
          <p:nvPr/>
        </p:nvSpPr>
        <p:spPr>
          <a:xfrm>
            <a:off x="6284880" y="5407200"/>
            <a:ext cx="285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</a:t>
            </a:r>
            <a:br>
              <a:rPr sz="3200"/>
            </a:b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color naranj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6284880" y="2676600"/>
            <a:ext cx="260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Soy de color viole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34:10Z</dcterms:modified>
  <cp:revision>187</cp:revision>
  <dc:subject/>
  <dc:title>TITLE</dc:title>
</cp:coreProperties>
</file>