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B6EE-7489-4468-A3BC-DBF9283262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0FC8-1406-4917-AD44-1371AA6D67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D8B-A4CD-486A-9458-BE1949EDFD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334-3DC4-4675-918D-ABE3E0A5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AD9-1C50-4786-B69B-BBA5266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D36-A7F3-4555-8061-F19991DD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3C3-8541-4F69-A0FF-5C66F196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4944-CBBA-4A31-8D1B-BEBEE0BA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9E28-69B5-4521-9059-593FA42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062D-FE61-4150-A4A2-72E4781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71F1-C799-48F4-B12C-C2E1A051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2696-3F7F-47E4-BD6E-4724E719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023-9352-43EC-8C7B-2FAB3A92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8690-E55B-4918-B2E1-0CEC705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0B9-46D5-47AF-BE13-90FD43C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DD67-9CEC-4D89-8658-3E903239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DCEA-60C0-471D-BECF-8B3A585A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045-756C-4145-9014-748E9667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2A5C-8B23-4124-9D18-E7EBC5D5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9774-AF5E-46C5-B944-F051B1CD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FC60-F54D-4B1E-84A6-74A57ACC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DE37-E617-4D80-A0E9-19E5F03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E8A4-454A-40F7-9290-C9C1C0E0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8E58-E5DC-4311-B8F2-15613EB2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E80B-2063-43BA-9A18-7A720782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819-F75F-40CE-B244-AC9C463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531A-9369-4307-8E69-9EDF0EB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D050-63EC-4E0A-B2C5-02F60C88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FA8A-DDF6-4A85-86A6-9C811E7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FF08-815D-400D-9BF3-649CF30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9356-FE02-48A6-B5CC-9CDECBDA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6A0C-6382-489A-8428-F9C9D3C6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0576-41B9-48F9-A678-513079D1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B65-7344-405C-866E-F0B56D29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0DB-8901-4D62-95CC-7E22339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BD7-672A-4A06-995A-A1F8EF4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70D-AD61-45FA-960E-EB7B987E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6B9-F153-40AC-B7ED-65DF35A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76E-5ACD-4EF6-B8DA-6050526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2E88-6BFC-46B1-BF6E-5B97EBC89C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BF0-4531-49B9-A828-054DD28A8F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22F4-C038-4094-B3A6-F09920C941B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ular Callout 3"/>
          <p:cNvSpPr/>
          <p:nvPr/>
        </p:nvSpPr>
        <p:spPr>
          <a:xfrm>
            <a:off x="2124000" y="836640"/>
            <a:ext cx="4608720" cy="3097080"/>
          </a:xfrm>
          <a:prstGeom prst="wedgeRoundRectCallout">
            <a:avLst>
              <a:gd name="adj1" fmla="val -1379"/>
              <a:gd name="adj2" fmla="val 8797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¿De dónde ere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324000" y="260280"/>
            <a:ext cx="8496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de = 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I am fro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397160"/>
          <a:ext cx="8297640" cy="4911480"/>
        </p:xfrm>
        <a:graphic>
          <a:graphicData uri="http://schemas.openxmlformats.org/drawingml/2006/table">
            <a:tbl>
              <a:tblPr/>
              <a:tblGrid>
                <a:gridCol w="4149720"/>
                <a:gridCol w="4147920"/>
              </a:tblGrid>
              <a:tr h="81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glaterr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coc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9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rland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añ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3"/>
          <p:cNvSpPr/>
          <p:nvPr/>
        </p:nvSpPr>
        <p:spPr>
          <a:xfrm>
            <a:off x="4500720" y="142560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Engla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500720" y="228600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Scotla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4500720" y="306864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Wa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500720" y="393372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Irela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4500720" y="472428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4500720" y="551664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2" descr="Napoleon Bonaparte - Quotes, Death &amp; Facts - Biography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4" descr="Saoirse Ronan - IMDb"/>
          <p:cNvPicPr/>
          <p:nvPr/>
        </p:nvPicPr>
        <p:blipFill>
          <a:blip r:embed="rId2"/>
          <a:srcRect l="0" t="0" r="0" b="26978"/>
          <a:stretch/>
        </p:blipFill>
        <p:spPr>
          <a:xfrm>
            <a:off x="291960" y="2530440"/>
            <a:ext cx="1687680" cy="18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6" descr="Tom Jones (@RealSirTomJones) | Twitter"/>
          <p:cNvPicPr/>
          <p:nvPr/>
        </p:nvPicPr>
        <p:blipFill>
          <a:blip r:embed="rId3"/>
          <a:stretch/>
        </p:blipFill>
        <p:spPr>
          <a:xfrm>
            <a:off x="128520" y="4687920"/>
            <a:ext cx="201636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8" descr="Princess Leonor of Spain Celebrates 15th Birthday | PEOPLE.com"/>
          <p:cNvPicPr/>
          <p:nvPr/>
        </p:nvPicPr>
        <p:blipFill>
          <a:blip r:embed="rId4"/>
          <a:stretch/>
        </p:blipFill>
        <p:spPr>
          <a:xfrm>
            <a:off x="7524720" y="257040"/>
            <a:ext cx="1440000" cy="18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Picture 10" descr="Andy Murray gives positive fitness update as he prepares for the Battle of  the Brits | Tennis News | Sky Sports"/>
          <p:cNvPicPr/>
          <p:nvPr/>
        </p:nvPicPr>
        <p:blipFill>
          <a:blip r:embed="rId5"/>
          <a:srcRect l="16185" t="0" r="0" b="0"/>
          <a:stretch/>
        </p:blipFill>
        <p:spPr>
          <a:xfrm>
            <a:off x="6783480" y="2421000"/>
            <a:ext cx="236052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2" descr="Queen Victoria - Wikipedia"/>
          <p:cNvPicPr/>
          <p:nvPr/>
        </p:nvPicPr>
        <p:blipFill>
          <a:blip r:embed="rId6"/>
          <a:stretch/>
        </p:blipFill>
        <p:spPr>
          <a:xfrm>
            <a:off x="7064280" y="4187880"/>
            <a:ext cx="180036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Rounded Rectangular Callout 2"/>
          <p:cNvSpPr/>
          <p:nvPr/>
        </p:nvSpPr>
        <p:spPr>
          <a:xfrm>
            <a:off x="1692360" y="115920"/>
            <a:ext cx="3024000" cy="50472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Napolé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ounded Rectangular Callout 9"/>
          <p:cNvSpPr/>
          <p:nvPr/>
        </p:nvSpPr>
        <p:spPr>
          <a:xfrm>
            <a:off x="1689120" y="2278080"/>
            <a:ext cx="2882880" cy="504720"/>
          </a:xfrm>
          <a:prstGeom prst="wedgeRoundRectCallout">
            <a:avLst>
              <a:gd name="adj1" fmla="val -55902"/>
              <a:gd name="adj2" fmla="val 19057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Saoirs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ounded Rectangular Callout 10"/>
          <p:cNvSpPr/>
          <p:nvPr/>
        </p:nvSpPr>
        <p:spPr>
          <a:xfrm>
            <a:off x="1822320" y="4581360"/>
            <a:ext cx="2318040" cy="50328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To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ounded Rectangular Callout 11"/>
          <p:cNvSpPr/>
          <p:nvPr/>
        </p:nvSpPr>
        <p:spPr>
          <a:xfrm>
            <a:off x="4932360" y="372960"/>
            <a:ext cx="2735280" cy="505080"/>
          </a:xfrm>
          <a:prstGeom prst="wedgeRoundRectCallout">
            <a:avLst>
              <a:gd name="adj1" fmla="val 55662"/>
              <a:gd name="adj2" fmla="val 76287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Leon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ounded Rectangular Callout 12"/>
          <p:cNvSpPr/>
          <p:nvPr/>
        </p:nvSpPr>
        <p:spPr>
          <a:xfrm>
            <a:off x="4788000" y="2421000"/>
            <a:ext cx="2520720" cy="503280"/>
          </a:xfrm>
          <a:prstGeom prst="wedgeRoundRectCallout">
            <a:avLst>
              <a:gd name="adj1" fmla="val 55662"/>
              <a:gd name="adj2" fmla="val 9261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And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ounded Rectangular Callout 13"/>
          <p:cNvSpPr/>
          <p:nvPr/>
        </p:nvSpPr>
        <p:spPr>
          <a:xfrm>
            <a:off x="4268880" y="4435560"/>
            <a:ext cx="3024000" cy="504720"/>
          </a:xfrm>
          <a:prstGeom prst="wedgeRoundRectCallout">
            <a:avLst>
              <a:gd name="adj1" fmla="val 52939"/>
              <a:gd name="adj2" fmla="val 13070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Victo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ounded Rectangular Callout 14"/>
          <p:cNvSpPr/>
          <p:nvPr/>
        </p:nvSpPr>
        <p:spPr>
          <a:xfrm>
            <a:off x="2050920" y="1052640"/>
            <a:ext cx="2521080" cy="504720"/>
          </a:xfrm>
          <a:prstGeom prst="wedgeRoundRectCallout">
            <a:avLst>
              <a:gd name="adj1" fmla="val -64412"/>
              <a:gd name="adj2" fmla="val -4344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Fran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ounded Rectangular Callout 15"/>
          <p:cNvSpPr/>
          <p:nvPr/>
        </p:nvSpPr>
        <p:spPr>
          <a:xfrm>
            <a:off x="1987560" y="3573360"/>
            <a:ext cx="2521080" cy="503280"/>
          </a:xfrm>
          <a:prstGeom prst="wedgeRoundRectCallout">
            <a:avLst>
              <a:gd name="adj1" fmla="val -64412"/>
              <a:gd name="adj2" fmla="val -4344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rland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ounded Rectangular Callout 16"/>
          <p:cNvSpPr/>
          <p:nvPr/>
        </p:nvSpPr>
        <p:spPr>
          <a:xfrm>
            <a:off x="1938240" y="5589720"/>
            <a:ext cx="2224080" cy="503280"/>
          </a:xfrm>
          <a:prstGeom prst="wedgeRoundRectCallout">
            <a:avLst>
              <a:gd name="adj1" fmla="val -64412"/>
              <a:gd name="adj2" fmla="val -3256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Gales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ounded Rectangular Callout 17"/>
          <p:cNvSpPr/>
          <p:nvPr/>
        </p:nvSpPr>
        <p:spPr>
          <a:xfrm>
            <a:off x="5003640" y="1060560"/>
            <a:ext cx="2521080" cy="504720"/>
          </a:xfrm>
          <a:prstGeom prst="wedgeRoundRectCallout">
            <a:avLst>
              <a:gd name="adj1" fmla="val 61125"/>
              <a:gd name="adj2" fmla="val -3618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pañ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ounded Rectangular Callout 18"/>
          <p:cNvSpPr/>
          <p:nvPr/>
        </p:nvSpPr>
        <p:spPr>
          <a:xfrm>
            <a:off x="4572000" y="3205080"/>
            <a:ext cx="2492280" cy="505080"/>
          </a:xfrm>
          <a:prstGeom prst="wedgeRoundRectCallout">
            <a:avLst>
              <a:gd name="adj1" fmla="val 61486"/>
              <a:gd name="adj2" fmla="val -4162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co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ounded Rectangular Callout 19"/>
          <p:cNvSpPr/>
          <p:nvPr/>
        </p:nvSpPr>
        <p:spPr>
          <a:xfrm>
            <a:off x="4140360" y="5443560"/>
            <a:ext cx="3090600" cy="503280"/>
          </a:xfrm>
          <a:prstGeom prst="wedgeRoundRectCallout">
            <a:avLst>
              <a:gd name="adj1" fmla="val 58949"/>
              <a:gd name="adj2" fmla="val -4344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nglaterr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195640" y="623736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De dónde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0:32Z</dcterms:modified>
  <cp:revision>396</cp:revision>
  <dc:subject/>
  <dc:title>TITLE</dc:title>
</cp:coreProperties>
</file>