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6F1-2186-48D2-B5BC-D7D260F2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595-DACB-4ACE-9A1E-72DB36C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B87-171F-409B-A946-8155BFFD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00F-0958-4AE1-B86C-E040A9C8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B70-D7EC-4174-9453-BE2EC504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742-3E16-4AB2-B3D4-B3D95149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E6B-408B-49C7-B714-2912963B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092-4829-4C39-BDD1-B394C6BE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AD0-4090-414D-A73F-D8D57C3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19A-BC98-4DEA-91B0-CDA3AF7E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B64-6313-402A-905E-AA43F206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BCD-4851-4133-A64F-855845B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E2E5-EE81-4ED7-BAFB-E7E954AC80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124000" y="28440"/>
            <a:ext cx="475164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6-01-03T17:33:59Z</dcterms:modified>
  <cp:revision>118</cp:revision>
  <dc:subject/>
  <dc:title>TITLE</dc:title>
</cp:coreProperties>
</file>