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310-0375-4931-A1B1-9D7AE91B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E98-C496-4DC6-9170-E6F3F43E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350-5086-48BE-8215-23FF6B89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1C0-52D7-4708-B592-21A92EB3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7A1-996C-44E4-950B-E1BB467A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1BE-F809-4539-9824-D686CD49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9BD-1FA5-44DD-B875-1D36AF02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699-2E2D-442F-B1D5-3B5A7B32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35C-7012-400B-8D4F-D64F0B44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C8F-27B5-4242-AFA0-8794817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3D1-FBF9-4BA3-BDD9-C22CDF1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C26-C8B7-4499-BEAF-23079BD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8FCD-60B6-4BDA-9C2E-B384DFA476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2124000" y="28440"/>
            <a:ext cx="475164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6-01-03T17:33:59Z</dcterms:modified>
  <cp:revision>118</cp:revision>
  <dc:subject/>
  <dc:title>TITLE</dc:title>
</cp:coreProperties>
</file>