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05A-BAD5-4578-9C63-D0A30BF3F0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3C9C-9057-4A13-B1EA-E661921C4C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3031-1F5D-4621-B00E-689E426168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1B5-4F52-4A9D-B85A-92328CF733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6E09-8DE9-4EF3-8BA3-A667F51D74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D964-2A3F-4044-8A0C-013736306A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C2A7-E829-49ED-9E18-E6466D2743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5C67-8F82-4DEC-8543-CFA87873FF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806-D194-4148-A70F-D658DD162B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DE0-E5FA-42A8-8647-08685AF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080-481F-40F7-9415-7B5B57E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C9A-8DF8-4596-A36F-9815085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615-5BEE-4773-8DD3-3035B084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70F-FA48-472A-A180-23A33D0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DAE-49B7-4659-B3D8-AE85F48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134-0132-41CC-831A-7D3FEC6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23E-5327-46E8-95F9-E6EF084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25C-E7C1-410A-AF86-84527F5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44B-018B-4CFC-AC75-027AB2B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B59-71F0-44B8-9855-334F85B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F51-50A1-44A0-A4E2-1A6EF8E6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A9B-C2C4-4B2E-8BE3-451A048C2C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veintisé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cas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cas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2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iecioch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 sombrer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o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 sombrer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0"/>
          <p:cNvSpPr/>
          <p:nvPr/>
        </p:nvSpPr>
        <p:spPr>
          <a:xfrm>
            <a:off x="1187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plum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Cuántas hay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________________ plum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36"/>
          <p:cNvSpPr/>
          <p:nvPr/>
        </p:nvSpPr>
        <p:spPr>
          <a:xfrm>
            <a:off x="154764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reinta y 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7T15:27:51Z</dcterms:modified>
  <cp:revision>104</cp:revision>
  <dc:subject/>
  <dc:title>TITLE</dc:title>
</cp:coreProperties>
</file>