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5C7-6F93-4E42-BF92-001B4300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771-0A5D-4B53-A364-279A2290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1D6-88D3-46C4-A44B-5DC303A0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44F-1F1B-4D61-BC25-AEF80F91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C36-9C3C-4934-B16D-0A94E07E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07D-5FD3-4B5C-996E-E368EBA4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153-F1F8-4216-A3D8-1F20EF83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7D4-EA91-4FF2-9A5E-B50E0E34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655-D16A-4952-8E53-FABF457D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CD8-D532-473D-8E21-6F263990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39C-6206-472C-BD38-2E08B0A0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E76-6A89-470E-AD3F-17BC2971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2299-5876-4756-855A-B3BF4580C4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076720" y="404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39640" y="333360"/>
            <a:ext cx="403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ffff"/>
                </a:solidFill>
                <a:latin typeface="Arial"/>
              </a:rPr>
              <a:t>Los cuatro amigo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4284720" y="6308640"/>
            <a:ext cx="47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Light Bulb Languages/KLowe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 rot="16200000">
            <a:off x="1384920" y="2149920"/>
            <a:ext cx="2376360" cy="2628720"/>
          </a:xfrm>
          <a:prstGeom prst="cloudCallout">
            <a:avLst>
              <a:gd name="adj1" fmla="val -76523"/>
              <a:gd name="adj2" fmla="val 61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manzana tan roja y boni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1"/>
          <p:cNvGrpSpPr/>
          <p:nvPr/>
        </p:nvGrpSpPr>
        <p:grpSpPr>
          <a:xfrm>
            <a:off x="0" y="4865760"/>
            <a:ext cx="2514600" cy="1992240"/>
            <a:chOff x="0" y="4865760"/>
            <a:chExt cx="2514600" cy="1992240"/>
          </a:xfrm>
        </p:grpSpPr>
        <p:pic>
          <p:nvPicPr>
            <p:cNvPr id="104" name="Picture 10" descr="MCj04241380000[1]"/>
            <p:cNvPicPr/>
            <p:nvPr/>
          </p:nvPicPr>
          <p:blipFill>
            <a:blip r:embed="rId3"/>
            <a:stretch/>
          </p:blipFill>
          <p:spPr>
            <a:xfrm>
              <a:off x="0" y="5805360"/>
              <a:ext cx="192420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7" descr="MCj04174440000[1]"/>
            <p:cNvPicPr/>
            <p:nvPr/>
          </p:nvPicPr>
          <p:blipFill>
            <a:blip r:embed="rId4"/>
            <a:stretch/>
          </p:blipFill>
          <p:spPr>
            <a:xfrm>
              <a:off x="900000" y="4865760"/>
              <a:ext cx="1614600" cy="199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8" descr="MCj04174520000[1]"/>
          <p:cNvPicPr/>
          <p:nvPr/>
        </p:nvPicPr>
        <p:blipFill>
          <a:blip r:embed="rId5"/>
          <a:stretch/>
        </p:blipFill>
        <p:spPr>
          <a:xfrm>
            <a:off x="5003640" y="486900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MCj04174740000[1]"/>
          <p:cNvPicPr/>
          <p:nvPr/>
        </p:nvPicPr>
        <p:blipFill>
          <a:blip r:embed="rId6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58 -1.6185E-006 C 0.04653 -0.003 0.0474 -0.00601 0.05069 -0.0148 C 0.05122 -0.02543 0.05052 -0.03607 0.05226 -0.04647 C 0.0526 -0.04902 0.05538 -0.04925 0.05694 -0.05087 C 0.06701 -0.06173 0.06528 -0.05919 0.08247 -0.06127 C 0.08472 -0.07052 0.08611 -0.08023 0.09201 -0.0867 C 0.0941 -0.08878 0.09601 -0.09133 0.09826 -0.09295 C 0.10122 -0.09503 0.10781 -0.09734 0.10781 -0.09711 C 0.10903 -0.11422 0.10694 -0.12416 0.11736 -0.13318 C 0.12101 -0.13248 0.12743 -0.13595 0.12847 -0.1311 C 0.13559 -0.09988 0.13299 -0.0985 0.12361 -0.0867 C 0.12413 -0.08115 0.12378 -0.07514 0.12535 -0.06982 C 0.12604 -0.06751 0.12865 -0.06728 0.13003 -0.06566 C 0.13281 -0.06266 0.13455 -0.05873 0.13646 -0.05503 C 0.13889 -0.04509 0.13767 -0.03746 0.13003 -0.03376 C 0.12326 -0.02497 0.11736 -0.02081 0.11424 -0.00855 C 0.11476 0.00208 0.1151 0.01249 0.1158 0.02312 C 0.11615 0.0289 0.11337 0.03815 0.11736 0.04023 C 0.12569 0.04463 0.13524 0.03861 0.14427 0.03792 C 0.15122 0.03491 0.1566 0.03052 0.16337 0.02752 C 0.1684 0.02266 0.17326 0.01942 0.17917 0.01688 C 0.18021 0.01549 0.18177 0.01457 0.18247 0.01272 C 0.18403 0.00879 0.18559 -1.61850000000001E-006 0.18559 0.00023 C 0.18264 -0.00624 0.17917 -0.01087 0.17604 -0.01688 C 0.17882 -0.02821 0.18125 -0.02774 0.19028 -0.03167 C 0.19184 -0.03237 0.19514 -0.03376 0.19514 -0.03352 C 0.20191 -0.04601 0.20747 -0.05618 0.2125 -0.06982 C 0.21372 -0.07329 0.21441 -0.07699 0.2158 -0.08046 C 0.21753 -0.08485 0.22205 -0.09295 0.22205 -0.09272 C 0.22292 -0.09641 0.225 -0.10474 0.22517 -0.10774 C 0.22639 -0.11561 0.22483 -0.12485 0.22847 -0.1311 C 0.23056 -0.13456 0.23403 -0.13641 0.23646 -0.13965 C 0.23889 -0.14913 0.24201 -0.14982 0.24913 -0.15214 C 0.26042 -0.14959 0.26406 -0.14728 0.25868 -0.12902 C 0.25729 -0.12416 0.25434 -0.12046 0.25226 -0.1163 C 0.25122 -0.11422 0.24913 -0.11006 0.24913 -0.10982 C 0.24722 -0.10196 0.24306 -0.09896 0.24115 -0.09087 C 0.24167 -0.08878 0.24115 -0.08578 0.24271 -0.08462 C 0.24653 -0.08115 0.25538 -0.07815 0.25538 -0.07792 C 0.26563 -0.0652 0.27847 -0.05665 0.29201 -0.05087 C 0.29306 -0.04948 0.29375 -0.0474 0.29514 -0.04647 C 0.29705 -0.04509 0.30069 -0.04717 0.30139 -0.04439 C 0.30382 -0.03537 0.29983 -0.02798 0.29514 -0.02335 C 0.2842 -0.01295 0.27431 -0.00994 0.26979 0.00833 C 0.27031 0.01549 0.2691 0.02312 0.27135 0.0296 C 0.27222 0.03214 0.27552 0.03075 0.2776 0.03168 C 0.28628 0.03584 0.29531 0.03977 0.30313 0.04648 C 0.3184 0.04393 0.31719 0.04393 0.32691 0.03168 C 0.32813 0.06104 0.32188 0.06705 0.33802 0.07399 C 0.34757 0.07214 0.3559 0.06937 0.36493 0.06544 C 0.36545 0.06335 0.36563 0.06104 0.36649 0.05919 C 0.36736 0.05757 0.36962 0.05711 0.36979 0.05503 C 0.37014 0.05018 0.36962 0.04486 0.36806 0.04023 C 0.36736 0.03792 0.36476 0.03746 0.36337 0.03584 C 0.35781 0.02937 0.35313 0.02289 0.34913 0.0148 C 0.34566 0.000699999999999999 0.34531 0.00208 0.35069 -0.02127 C 0.35174 -0.02566 0.35625 -0.02659 0.35868 -0.02959 C 0.35903 -0.03769 0.35625 -0.07214 0.36979 -0.07399 C 0.37344 -0.07445 0.37726 -0.07399 0.3809 -0.07399 E">
                                      <p:cBhvr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MCj04241380000[1]"/>
          <p:cNvPicPr/>
          <p:nvPr/>
        </p:nvPicPr>
        <p:blipFill>
          <a:blip r:embed="rId3"/>
          <a:stretch/>
        </p:blipFill>
        <p:spPr>
          <a:xfrm>
            <a:off x="3008160" y="5805360"/>
            <a:ext cx="1924200" cy="86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MCj04174440000[1]"/>
          <p:cNvPicPr/>
          <p:nvPr/>
        </p:nvPicPr>
        <p:blipFill>
          <a:blip r:embed="rId4"/>
          <a:stretch/>
        </p:blipFill>
        <p:spPr>
          <a:xfrm>
            <a:off x="4067280" y="4653000"/>
            <a:ext cx="1614240" cy="199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MCj04174520000[1]"/>
          <p:cNvPicPr/>
          <p:nvPr/>
        </p:nvPicPr>
        <p:blipFill>
          <a:blip r:embed="rId5"/>
          <a:stretch/>
        </p:blipFill>
        <p:spPr>
          <a:xfrm>
            <a:off x="5003640" y="492120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MCj04174740000[1]"/>
          <p:cNvPicPr/>
          <p:nvPr/>
        </p:nvPicPr>
        <p:blipFill>
          <a:blip r:embed="rId6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1163 C 0.02656 -0.21827 0.0533 -0.32046 0.07448 -0.32717 C 0.09566 -0.3341 0.11823 -0.18636 0.12691 -0.15815 E">
                                      <p:cBhvr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7 -0.06243 C 0.08107 -0.26197 0.13368 -0.4615 0.16805 -0.49734 C 0.20243 -0.53295 0.22361 -0.31445 0.23472 -0.27769 E">
                                      <p:cBhvr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7122 C 0.07934 -0.41411 0.15886 -0.75723 0.21597 -0.82937 C 0.27309 -0.90174 0.3217 -0.55861 0.34288 -0.50428 E">
                                      <p:cBhvr>
                                        <p:cTn id="10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MCj04241380000[1]"/>
          <p:cNvPicPr/>
          <p:nvPr/>
        </p:nvPicPr>
        <p:blipFill>
          <a:blip r:embed="rId3"/>
          <a:stretch/>
        </p:blipFill>
        <p:spPr>
          <a:xfrm>
            <a:off x="6227640" y="2281320"/>
            <a:ext cx="1924200" cy="86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MCj04174440000[1]"/>
          <p:cNvPicPr/>
          <p:nvPr/>
        </p:nvPicPr>
        <p:blipFill>
          <a:blip r:embed="rId4"/>
          <a:stretch/>
        </p:blipFill>
        <p:spPr>
          <a:xfrm>
            <a:off x="6270480" y="2492280"/>
            <a:ext cx="1614600" cy="1992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MCj04174520000[1]"/>
          <p:cNvPicPr/>
          <p:nvPr/>
        </p:nvPicPr>
        <p:blipFill>
          <a:blip r:embed="rId5"/>
          <a:stretch/>
        </p:blipFill>
        <p:spPr>
          <a:xfrm>
            <a:off x="6084720" y="384192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MCj04174740000[1]"/>
          <p:cNvPicPr/>
          <p:nvPr/>
        </p:nvPicPr>
        <p:blipFill>
          <a:blip r:embed="rId6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9"/>
          <p:cNvSpPr/>
          <p:nvPr/>
        </p:nvSpPr>
        <p:spPr>
          <a:xfrm rot="14821200">
            <a:off x="2373120" y="1365120"/>
            <a:ext cx="3168720" cy="2879640"/>
          </a:xfrm>
          <a:prstGeom prst="wedgeEllipseCallout">
            <a:avLst>
              <a:gd name="adj1" fmla="val -45388"/>
              <a:gd name="adj2" fmla="val 57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Yupi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076720" y="404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MCj04348230000[1]"/>
          <p:cNvPicPr/>
          <p:nvPr/>
        </p:nvPicPr>
        <p:blipFill>
          <a:blip r:embed="rId7"/>
          <a:stretch/>
        </p:blipFill>
        <p:spPr>
          <a:xfrm>
            <a:off x="6156360" y="836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3.87283E-006 C -0.03367 -0.13965 -0.06718 -0.27931 -0.12534 -0.19237 C -0.1835 -0.10543 -0.3118 0.40301 -0.34913 0.52185 E">
                                      <p:cBhvr>
                                        <p:cTn id="11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04046E-006 L 0.00086 0.28717 E">
                                      <p:cBhvr>
                                        <p:cTn id="11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8647 C -0.01701 -0.22774 -0.03403 -0.36879 -0.07309 -0.29803 C -0.11215 -0.22728 -0.20799 0.23214 -0.23489 0.33827 E">
                                      <p:cBhvr>
                                        <p:cTn id="12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00243 0.41225 E">
                                      <p:cBhvr>
                                        <p:cTn id="127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7006 C -0.02552 -0.20209 -0.05104 -0.33411 -0.07621 -0.28972 C -0.10139 -0.24532 -0.13837 0.11537 -0.15069 0.1963 E">
                                      <p:cBhvr>
                                        <p:cTn id="13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-0.00555 0.60092 E">
                                      <p:cBhvr>
                                        <p:cTn id="13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MCj04241380000[1]"/>
          <p:cNvPicPr/>
          <p:nvPr/>
        </p:nvPicPr>
        <p:blipFill>
          <a:blip r:embed="rId3"/>
          <a:stretch/>
        </p:blipFill>
        <p:spPr>
          <a:xfrm>
            <a:off x="3224160" y="5661000"/>
            <a:ext cx="1924200" cy="86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MCj04174440000[1]"/>
          <p:cNvPicPr/>
          <p:nvPr/>
        </p:nvPicPr>
        <p:blipFill>
          <a:blip r:embed="rId4"/>
          <a:stretch/>
        </p:blipFill>
        <p:spPr>
          <a:xfrm>
            <a:off x="4284720" y="4581360"/>
            <a:ext cx="1614600" cy="1992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MCj04174520000[1]"/>
          <p:cNvPicPr/>
          <p:nvPr/>
        </p:nvPicPr>
        <p:blipFill>
          <a:blip r:embed="rId5"/>
          <a:stretch/>
        </p:blipFill>
        <p:spPr>
          <a:xfrm>
            <a:off x="5076720" y="486900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4174740000[1]"/>
          <p:cNvPicPr/>
          <p:nvPr/>
        </p:nvPicPr>
        <p:blipFill>
          <a:blip r:embed="rId6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5076720" y="404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4 1.84971E-006 L -0.84722 0.00971 E">
                                      <p:cBhvr>
                                        <p:cTn id="14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00832 C -0.07379 -0.04624 -0.10052 -0.10081 -0.12934 -0.09017 C -0.15834 -0.07931 -0.19063 0.05988 -0.22049 0.07237 C -0.25052 0.08486 -0.27205 -0.02196 -0.30972 -0.01457 C -0.3474 -0.00717 -0.41094 0.11861 -0.4474 0.11815 C -0.48386 0.11769 -0.47917 -0.02936 -0.52986 -0.01711 C -0.58038 -0.00485 -0.71354 0.15306 -0.75122 0.19121 C -0.78906 0.22936 -0.77275 0.22058 -0.7566 0.21202 E">
                                      <p:cBhvr>
                                        <p:cTn id="149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11 -4.33526E-006 C -0.05521 -0.05803 -0.0743 -0.11583 -0.09167 -0.15213 C -0.10903 -0.18843 -0.12205 -0.27352 -0.14062 -0.2178 C -0.1592 -0.16208 -0.18003 0.18521 -0.20278 0.18174 C -0.22535 0.17827 -0.25087 -0.23861 -0.27587 -0.23884 C -0.30052 -0.23907 -0.32708 0.17896 -0.35174 0.17966 C -0.37656 0.18035 -0.40347 -0.23375 -0.42483 -0.23468 C -0.44618 -0.2356 -0.4566 0.16995 -0.48055 0.17341 C -0.50434 0.17688 -0.53854 -0.15237 -0.56771 -0.21341 C -0.5967 -0.27445 -0.63646 -0.19768 -0.65503 -0.19237 C -0.67361 -0.18705 -0.67483 -0.18358 -0.67882 -0.18173 E">
                                      <p:cBhvr>
                                        <p:cTn id="153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7052E-006 C -0.0059 0.00786 -0.00902 0.01687 -0.01579 0.02335 C -0.02014 0.04069 -0.03264 0.04184 -0.04288 0.05063 C -0.04704 0.04994 -0.05156 0.05063 -0.05555 0.04855 C -0.06041 0.04601 -0.0618 0.02959 -0.0618 0.02959 C -0.05989 -0.01134 -0.06232 0.00554 -0.05399 -0.01688 C -0.0526 -0.03446 -0.04757 -0.06683 -0.03958 -0.08255 C -0.03645 -0.09503 -0.04045 -0.08324 -0.03333 -0.09295 C -0.03194 -0.0948 -0.03142 -0.09735 -0.0302 -0.09943 C -0.02934 -0.10105 -0.02795 -0.1022 -0.02691 -0.10359 C -0.03125 -0.12717 -0.04184 -0.12856 -0.05711 -0.1311 C -0.07517 -0.12972 -0.08264 -0.13735 -0.08732 -0.11839 C -0.08472 -0.10636 -0.08489 -0.09943 -0.07621 -0.09503 C -0.07725 -0.0696 -0.07257 -0.04879 -0.09201 -0.04024 C -0.09566 -0.04093 -0.09982 -0.04001 -0.10312 -0.04232 C -0.1052 -0.04371 -0.10503 -0.0481 -0.10625 -0.05064 C -0.10816 -0.05434 -0.11163 -0.05688 -0.11423 -0.0592 C -0.11736 -0.06544 -0.12066 -0.06891 -0.12222 -0.07608 C -0.12066 -0.09041 -0.12014 -0.0955 -0.11111 -0.10359 C -0.11163 -0.10844 -0.11041 -0.11446 -0.11267 -0.11839 C -0.11475 -0.12186 -0.12222 -0.12255 -0.12222 -0.12255 C -0.1276 -0.12972 -0.13177 -0.13596 -0.13645 -0.14382 C -0.13767 -0.1459 -0.13802 -0.14844 -0.13975 -0.15006 C -0.14097 -0.15145 -0.14288 -0.15145 -0.14444 -0.15214 C -0.14652 -0.15168 -0.15677 -0.15076 -0.16024 -0.14798 C -0.17118 -0.13943 -0.1552 -0.14752 -0.1684 -0.14174 C -0.17395 -0.11816 -0.16979 -0.09573 -0.16666 -0.07191 C -0.16649 -0.07053 -0.16423 -0.04694 -0.16198 -0.04648 C -0.15764 -0.04579 -0.15347 -0.04508 -0.1493 -0.0444 C -0.14305 -0.03631 -0.1401 -0.03608 -0.13177 -0.03376 C -0.1217 -0.02081 -0.12656 -0.00116 -0.12847 0.01687 C -0.12899 0.02011 -0.13767 0.02843 -0.13975 0.02959 C -0.14288 0.03144 -0.1493 0.03375 -0.1493 0.03375 C -0.15486 0.04485 -0.15625 0.04624 -0.16666 0.04855 C -0.17725 0.04786 -0.18802 0.04901 -0.19843 0.04647 C -0.20173 0.04577 -0.2026 0.03953 -0.20468 0.03583 C -0.20694 0.0319 -0.21111 0.02335 -0.21111 0.02335 C -0.21076 -0.0155 -0.21111 -0.05434 -0.20972 -0.09295 C -0.20937 -0.0992 -0.19704 -0.10151 -0.19704 -0.10151 C -0.19652 -0.10266 -0.19375 -0.11307 -0.19375 -0.11423 C -0.19375 -0.12579 -0.19739 -0.12879 -0.20329 -0.13527 C -0.21597 -0.14937 -0.22014 -0.14613 -0.23802 -0.14798 C -0.24427 -0.15053 -0.24531 -0.15584 -0.25069 -0.1607 C -0.26093 -0.15816 -0.27361 -0.16255 -0.28107 -0.15214 C -0.28802 -0.12347 -0.26857 -0.11261 -0.26024 -0.09087 C -0.26145 -0.06498 -0.25868 -0.05712 -0.27309 -0.0444 C -0.28628 -0.04694 -0.2868 -0.0474 -0.29375 -0.06128 C -0.29531 -0.07469 -0.29427 -0.08856 -0.29687 -0.10151 C -0.29826 -0.10844 -0.30295 -0.11353 -0.30486 -0.12047 C -0.30347 -0.13064 -0.30173 -0.13573 -0.30486 -0.1459 C -0.30642 -0.15168 -0.31736 -0.15423 -0.31736 -0.15423 C -0.32691 -0.15353 -0.33698 -0.15631 -0.346 -0.15214 C -0.3493 -0.15076 -0.3493 -0.13943 -0.3493 -0.13943 C -0.34878 -0.12671 -0.3493 -0.11399 -0.34774 -0.10151 C -0.34722 -0.09804 -0.34427 -0.09619 -0.34288 -0.09295 C -0.33784 -0.07977 -0.33489 -0.06521 -0.32847 -0.05295 C -0.32708 -0.04694 -0.32656 -0.04371 -0.32395 -0.03816 C -0.32031 -0.03076 -0.31666 -0.0333 -0.31128 -0.02544 C -0.30764 -0.02035 -0.30451 -0.01642 -0.30173 -0.01064 C -0.28993 0.03745 -0.35781 0.02913 -0.3684 0.02959 C -0.37691 0.03352 -0.37639 0.04138 -0.3809 0.05063 C -0.38281 0.05826 -0.38593 0.0608 -0.38889 0.06774 C -0.39079 0.07213 -0.39253 0.07861 -0.39514 0.08254 C -0.39809 0.08693 -0.40468 0.09502 -0.40468 0.09502 C -0.40798 0.11306 -0.40833 0.13248 -0.41267 0.15005 C -0.41284 0.15075 -0.41649 0.16554 -0.41736 0.16901 C -0.41788 0.17109 -0.41909 0.17549 -0.41909 0.17549 C -0.42083 0.19028 -0.42378 0.20277 -0.43177 0.2134 E">
                                      <p:cBhvr>
                                        <p:cTn id="157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5076720" y="404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539640" y="620640"/>
            <a:ext cx="30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ffff"/>
                </a:solidFill>
                <a:latin typeface="Arial"/>
              </a:rPr>
              <a:t>El f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assoonPrimaryType"/>
              </a:rPr>
              <a:t>LI: To create your own Spanish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j0088542"/>
          <p:cNvPicPr/>
          <p:nvPr/>
        </p:nvPicPr>
        <p:blipFill>
          <a:blip r:embed="rId1"/>
          <a:stretch/>
        </p:blipFill>
        <p:spPr>
          <a:xfrm>
            <a:off x="0" y="5702400"/>
            <a:ext cx="9144000" cy="1155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468360" y="1413000"/>
            <a:ext cx="7991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El caballo – horse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galopa - gal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La oveja – sheep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corre -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SassoonPrimaryType"/>
              </a:rPr>
              <a:t>El conejo – rabbit</a:t>
            </a:r>
            <a:r>
              <a:rPr b="0" lang="en-GB" sz="2800" spc="-1" strike="noStrike">
                <a:solidFill>
                  <a:srgbClr val="0066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6600"/>
                </a:solidFill>
                <a:latin typeface="SassoonPrimaryType"/>
              </a:rPr>
              <a:t>salta - j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SassoonPrimaryType"/>
              </a:rPr>
              <a:t>El ratón – mouse</a:t>
            </a:r>
            <a:r>
              <a:rPr b="0" lang="en-GB" sz="2800" spc="-1" strike="noStrike">
                <a:solidFill>
                  <a:srgbClr val="cc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SassoonPrimaryType"/>
              </a:rPr>
              <a:t>corretea - scu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La manzana – apple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Lucida Handwriting"/>
              </a:rPr>
              <a:t>¡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Es imposible! It’s 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assoonPrimaryType"/>
              </a:rPr>
              <a:t>im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Bonito/a – pretty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SassoonPrimaryType"/>
              </a:rPr>
              <a:t>Dice – he / she 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MCj03914060000[1]"/>
          <p:cNvPicPr/>
          <p:nvPr/>
        </p:nvPicPr>
        <p:blipFill>
          <a:blip r:embed="rId2"/>
          <a:stretch/>
        </p:blipFill>
        <p:spPr>
          <a:xfrm>
            <a:off x="4740120" y="0"/>
            <a:ext cx="4481640" cy="609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MCj04174740000[1]"/>
          <p:cNvPicPr/>
          <p:nvPr/>
        </p:nvPicPr>
        <p:blipFill>
          <a:blip r:embed="rId3"/>
          <a:stretch/>
        </p:blipFill>
        <p:spPr>
          <a:xfrm>
            <a:off x="250920" y="4508640"/>
            <a:ext cx="1236600" cy="18828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9"/>
          <p:cNvSpPr/>
          <p:nvPr/>
        </p:nvSpPr>
        <p:spPr>
          <a:xfrm rot="16200000">
            <a:off x="2737440" y="2281680"/>
            <a:ext cx="2737080" cy="2808360"/>
          </a:xfrm>
          <a:prstGeom prst="cloudCallout">
            <a:avLst>
              <a:gd name="adj1" fmla="val -42787"/>
              <a:gd name="adj2" fmla="val 65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manzana tan roja y boni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4"/>
          <p:cNvGrpSpPr/>
          <p:nvPr/>
        </p:nvGrpSpPr>
        <p:grpSpPr>
          <a:xfrm>
            <a:off x="6443640" y="2133720"/>
            <a:ext cx="2700360" cy="2447640"/>
            <a:chOff x="6443640" y="2133720"/>
            <a:chExt cx="2700360" cy="2447640"/>
          </a:xfrm>
        </p:grpSpPr>
        <p:sp>
          <p:nvSpPr>
            <p:cNvPr id="53" name="AutoShape 20"/>
            <p:cNvSpPr/>
            <p:nvPr/>
          </p:nvSpPr>
          <p:spPr>
            <a:xfrm>
              <a:off x="6443640" y="2133720"/>
              <a:ext cx="2700360" cy="2447640"/>
            </a:xfrm>
            <a:prstGeom prst="cloudCallout">
              <a:avLst>
                <a:gd name="adj1" fmla="val -31245"/>
                <a:gd name="adj2" fmla="val 6705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21" descr="MCj04174520000[1]"/>
            <p:cNvPicPr/>
            <p:nvPr/>
          </p:nvPicPr>
          <p:blipFill>
            <a:blip r:embed="rId4"/>
            <a:stretch/>
          </p:blipFill>
          <p:spPr>
            <a:xfrm>
              <a:off x="6877080" y="2421000"/>
              <a:ext cx="1898640" cy="174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83237E-006 C 0.06059 -0.03145 0.12118 -0.06266 0.13802 -0.04439 C 0.15486 -0.02613 0.08229 0.09942 0.10156 0.11006 C 0.12083 0.12069 0.22517 0.02312 0.25399 0.01919 C 0.28281 0.01526 0.24913 0.10012 0.27447 0.08671 C 0.29982 0.07329 0.36475 -0.04231 0.40625 -0.06127 C 0.44774 -0.08023 0.49496 -0.04347 0.52378 -0.02751 C 0.5526 -0.01156 0.56631 0.02243 0.57934 0.03399 C 0.59236 0.04555 0.59687 0.04393 0.60156 0.04231 E">
                                      <p:cBhvr>
                                        <p:cTn id="6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MCj04134780000[1]"/>
          <p:cNvPicPr/>
          <p:nvPr/>
        </p:nvPicPr>
        <p:blipFill>
          <a:blip r:embed="rId2"/>
          <a:stretch/>
        </p:blipFill>
        <p:spPr>
          <a:xfrm>
            <a:off x="250920" y="1641600"/>
            <a:ext cx="4465440" cy="384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MCj04174740000[1]"/>
          <p:cNvPicPr/>
          <p:nvPr/>
        </p:nvPicPr>
        <p:blipFill>
          <a:blip r:embed="rId3"/>
          <a:stretch/>
        </p:blipFill>
        <p:spPr>
          <a:xfrm>
            <a:off x="7164360" y="4581360"/>
            <a:ext cx="1236600" cy="188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16763E-006 C -0.02552 -0.05687 -0.05086 -0.11375 -0.09218 -0.10774 C -0.1335 -0.10173 -0.18698 0.03423 -0.24774 0.03584 C -0.3085 0.03746 -0.42152 -0.07167 -0.45729 -0.09734 C -0.49305 -0.123 -0.4776 -0.12069 -0.46198 -0.11838 E">
                                      <p:cBhvr>
                                        <p:cTn id="2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MCj03914060000[1]"/>
          <p:cNvPicPr/>
          <p:nvPr/>
        </p:nvPicPr>
        <p:blipFill>
          <a:blip r:embed="rId2"/>
          <a:stretch/>
        </p:blipFill>
        <p:spPr>
          <a:xfrm>
            <a:off x="4879800" y="44280"/>
            <a:ext cx="43419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0"/>
          <p:cNvGrpSpPr/>
          <p:nvPr/>
        </p:nvGrpSpPr>
        <p:grpSpPr>
          <a:xfrm>
            <a:off x="0" y="4653000"/>
            <a:ext cx="2712960" cy="1882800"/>
            <a:chOff x="0" y="4653000"/>
            <a:chExt cx="2712960" cy="1882800"/>
          </a:xfrm>
        </p:grpSpPr>
        <p:pic>
          <p:nvPicPr>
            <p:cNvPr id="63" name="Picture 9" descr="MCj04174520000[1]"/>
            <p:cNvPicPr/>
            <p:nvPr/>
          </p:nvPicPr>
          <p:blipFill>
            <a:blip r:embed="rId3"/>
            <a:stretch/>
          </p:blipFill>
          <p:spPr>
            <a:xfrm>
              <a:off x="0" y="4724280"/>
              <a:ext cx="189864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5" descr="MCj04174740000[1]"/>
            <p:cNvPicPr/>
            <p:nvPr/>
          </p:nvPicPr>
          <p:blipFill>
            <a:blip r:embed="rId4"/>
            <a:stretch/>
          </p:blipFill>
          <p:spPr>
            <a:xfrm>
              <a:off x="1476360" y="4653000"/>
              <a:ext cx="1236600" cy="188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AutoShape 6"/>
          <p:cNvSpPr/>
          <p:nvPr/>
        </p:nvSpPr>
        <p:spPr>
          <a:xfrm rot="16200000">
            <a:off x="2737440" y="2281680"/>
            <a:ext cx="2737080" cy="2808360"/>
          </a:xfrm>
          <a:prstGeom prst="cloudCallout">
            <a:avLst>
              <a:gd name="adj1" fmla="val -42787"/>
              <a:gd name="adj2" fmla="val 65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manzana tan roja y boni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1.7341E-006 C 0.05001 -0.06636 0.10001 -0.13249 0.13022 -0.12486 C 0.16042 -0.11723 0.14688 0.04301 0.18091 0.04647 C 0.21494 0.04994 0.27761 -0.09064 0.3349 -0.10358 C 0.39219 -0.11653 0.49202 -0.04462 0.52535 -0.03168 C 0.55869 -0.01873 0.54671 -0.0222 0.5349 -0.02543 E">
                                      <p:cBhvr>
                                        <p:cTn id="27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MCj04174520000[1]"/>
          <p:cNvPicPr/>
          <p:nvPr/>
        </p:nvPicPr>
        <p:blipFill>
          <a:blip r:embed="rId3"/>
          <a:stretch/>
        </p:blipFill>
        <p:spPr>
          <a:xfrm>
            <a:off x="4788000" y="479736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Cj04174740000[1]"/>
          <p:cNvPicPr/>
          <p:nvPr/>
        </p:nvPicPr>
        <p:blipFill>
          <a:blip r:embed="rId4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9"/>
          <p:cNvGrpSpPr/>
          <p:nvPr/>
        </p:nvGrpSpPr>
        <p:grpSpPr>
          <a:xfrm>
            <a:off x="3348000" y="2204640"/>
            <a:ext cx="2629080" cy="2376360"/>
            <a:chOff x="3348000" y="2204640"/>
            <a:chExt cx="2629080" cy="2376360"/>
          </a:xfrm>
        </p:grpSpPr>
        <p:sp>
          <p:nvSpPr>
            <p:cNvPr id="72" name="AutoShape 9"/>
            <p:cNvSpPr/>
            <p:nvPr/>
          </p:nvSpPr>
          <p:spPr>
            <a:xfrm rot="16200000">
              <a:off x="3474360" y="2078280"/>
              <a:ext cx="2376360" cy="2629080"/>
            </a:xfrm>
            <a:prstGeom prst="cloudCallout">
              <a:avLst>
                <a:gd name="adj1" fmla="val -39615"/>
                <a:gd name="adj2" fmla="val 6983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16" descr="MCj04174440000[1]"/>
            <p:cNvPicPr/>
            <p:nvPr/>
          </p:nvPicPr>
          <p:blipFill>
            <a:blip r:embed="rId5"/>
            <a:stretch/>
          </p:blipFill>
          <p:spPr>
            <a:xfrm>
              <a:off x="3780000" y="2349360"/>
              <a:ext cx="1614240" cy="1992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6729 C 0.00938 -0.17665 -0.00139 -0.11191 0.01632 -0.14544 C 0.01684 -0.1496 0.01684 -0.15399 0.01788 -0.15815 C 0.01979 -0.16602 0.02552 -0.16694 0.02899 -0.17295 C 0.03767 -0.18821 0.0309 -0.18382 0.0401 -0.18775 C 0.05764 -0.20417 0.02431 -0.17457 0.08125 -0.19422 C 0.0849 -0.19561 0.08559 -0.20278 0.08767 -0.20694 C 0.08872 -0.20902 0.0908 -0.20972 0.09236 -0.2111 C 0.10139 -0.20902 0.10868 -0.20509 0.11632 -0.19839 C 0.11823 -0.19445 0.12517 -0.18613 0.1257 -0.18151 C 0.12656 -0.17457 0.1257 -0.1674 0.1257 -0.16024 E"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MCj04134780000[1]"/>
          <p:cNvPicPr/>
          <p:nvPr/>
        </p:nvPicPr>
        <p:blipFill>
          <a:blip r:embed="rId2"/>
          <a:stretch/>
        </p:blipFill>
        <p:spPr>
          <a:xfrm>
            <a:off x="250920" y="1641600"/>
            <a:ext cx="4465440" cy="3840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MCj04174520000[1]"/>
          <p:cNvPicPr/>
          <p:nvPr/>
        </p:nvPicPr>
        <p:blipFill>
          <a:blip r:embed="rId3"/>
          <a:stretch/>
        </p:blipFill>
        <p:spPr>
          <a:xfrm>
            <a:off x="7020000" y="4797360"/>
            <a:ext cx="1898640" cy="174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1676E-006 C -0.02448 -0.06035 -0.04878 -0.12069 -0.06996 -0.10567 C -0.09114 -0.09064 -0.10989 0.08948 -0.12708 0.09087 C -0.14427 0.09225 -0.15069 -0.09711 -0.17309 -0.09734 C -0.19548 -0.09757 -0.24218 0.09272 -0.26198 0.08878 C -0.28177 0.08485 -0.27205 -0.11769 -0.29218 -0.12046 C -0.31232 -0.12324 -0.35729 0.06867 -0.38264 0.07191 C -0.40798 0.07514 -0.42621 -0.01318 -0.44444 -0.1015 E">
                                      <p:cBhvr>
                                        <p:cTn id="50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8"/>
          <p:cNvSpPr/>
          <p:nvPr/>
        </p:nvSpPr>
        <p:spPr>
          <a:xfrm rot="16200000">
            <a:off x="2321640" y="2941920"/>
            <a:ext cx="2376360" cy="2628720"/>
          </a:xfrm>
          <a:prstGeom prst="cloudCallout">
            <a:avLst>
              <a:gd name="adj1" fmla="val -45194"/>
              <a:gd name="adj2" fmla="val 59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é manzana tan roja y boni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0" y="4865760"/>
            <a:ext cx="2798640" cy="1992240"/>
            <a:chOff x="0" y="4865760"/>
            <a:chExt cx="2798640" cy="1992240"/>
          </a:xfrm>
        </p:grpSpPr>
        <p:pic>
          <p:nvPicPr>
            <p:cNvPr id="83" name="Picture 9" descr="MCj04174440000[1]"/>
            <p:cNvPicPr/>
            <p:nvPr/>
          </p:nvPicPr>
          <p:blipFill>
            <a:blip r:embed="rId3"/>
            <a:stretch/>
          </p:blipFill>
          <p:spPr>
            <a:xfrm>
              <a:off x="0" y="4865760"/>
              <a:ext cx="1614600" cy="19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MCj04174520000[1]"/>
            <p:cNvPicPr/>
            <p:nvPr/>
          </p:nvPicPr>
          <p:blipFill>
            <a:blip r:embed="rId4"/>
            <a:stretch/>
          </p:blipFill>
          <p:spPr>
            <a:xfrm>
              <a:off x="900000" y="5110200"/>
              <a:ext cx="1898640" cy="174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6" descr="MCj04174740000[1]"/>
          <p:cNvPicPr/>
          <p:nvPr/>
        </p:nvPicPr>
        <p:blipFill>
          <a:blip r:embed="rId5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14728 C 0.03629 -0.26659 0.07222 -0.38566 0.09896 -0.35653 C 0.1257 -0.3274 0.14132 0.02012 0.16094 0.02821 C 0.18056 0.0363 0.19583 -0.31491 0.21649 -0.30798 C 0.23715 -0.30104 0.26597 0.07006 0.28472 0.07029 C 0.30347 0.07052 0.29722 -0.29433 0.32917 -0.30589 C 0.36111 -0.31746 0.45208 -0.0504 0.47674 0.0007 E">
                                      <p:cBhvr>
                                        <p:cTn id="56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Cj03914060000[1]"/>
          <p:cNvPicPr/>
          <p:nvPr/>
        </p:nvPicPr>
        <p:blipFill>
          <a:blip r:embed="rId2"/>
          <a:stretch/>
        </p:blipFill>
        <p:spPr>
          <a:xfrm>
            <a:off x="4873680" y="0"/>
            <a:ext cx="4270320" cy="580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MCj04174440000[1]"/>
          <p:cNvPicPr/>
          <p:nvPr/>
        </p:nvPicPr>
        <p:blipFill>
          <a:blip r:embed="rId3"/>
          <a:stretch/>
        </p:blipFill>
        <p:spPr>
          <a:xfrm>
            <a:off x="4221000" y="4653000"/>
            <a:ext cx="1614600" cy="199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Cj04174520000[1]"/>
          <p:cNvPicPr/>
          <p:nvPr/>
        </p:nvPicPr>
        <p:blipFill>
          <a:blip r:embed="rId4"/>
          <a:stretch/>
        </p:blipFill>
        <p:spPr>
          <a:xfrm>
            <a:off x="5121360" y="4897440"/>
            <a:ext cx="1898640" cy="174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MCj04174740000[1]"/>
          <p:cNvPicPr/>
          <p:nvPr/>
        </p:nvPicPr>
        <p:blipFill>
          <a:blip r:embed="rId5"/>
          <a:stretch/>
        </p:blipFill>
        <p:spPr>
          <a:xfrm>
            <a:off x="6372360" y="4797360"/>
            <a:ext cx="1236600" cy="18828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2"/>
          <p:cNvGrpSpPr/>
          <p:nvPr/>
        </p:nvGrpSpPr>
        <p:grpSpPr>
          <a:xfrm>
            <a:off x="4082760" y="855360"/>
            <a:ext cx="2348640" cy="2552760"/>
            <a:chOff x="4082760" y="855360"/>
            <a:chExt cx="2348640" cy="2552760"/>
          </a:xfrm>
        </p:grpSpPr>
        <p:sp>
          <p:nvSpPr>
            <p:cNvPr id="93" name="AutoShape 11"/>
            <p:cNvSpPr/>
            <p:nvPr/>
          </p:nvSpPr>
          <p:spPr>
            <a:xfrm rot="16034400">
              <a:off x="4032720" y="1014840"/>
              <a:ext cx="2448000" cy="2233440"/>
            </a:xfrm>
            <a:prstGeom prst="cloudCallout">
              <a:avLst>
                <a:gd name="adj1" fmla="val -68648"/>
                <a:gd name="adj2" fmla="val 521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0" descr="MCj04241380000[1]"/>
            <p:cNvPicPr/>
            <p:nvPr/>
          </p:nvPicPr>
          <p:blipFill>
            <a:blip r:embed="rId6"/>
            <a:stretch/>
          </p:blipFill>
          <p:spPr>
            <a:xfrm>
              <a:off x="4357800" y="1697040"/>
              <a:ext cx="1923840" cy="860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-0.12647 C 0.0309 -0.22312 0.0684 -0.31954 0.08871 -0.32508 C 0.10903 -0.33063 0.11163 -0.18705 0.1158 -0.16023 E">
                                      <p:cBhvr>
                                        <p:cTn id="6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14266 C 0.06701 -0.29919 0.13402 -0.45572 0.16979 -0.47861 C 0.20555 -0.5015 0.20677 -0.31306 0.21423 -0.28 E">
                                      <p:cBhvr>
                                        <p:cTn id="7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MPj04140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MCj04134780000[1]"/>
          <p:cNvPicPr/>
          <p:nvPr/>
        </p:nvPicPr>
        <p:blipFill>
          <a:blip r:embed="rId2"/>
          <a:stretch/>
        </p:blipFill>
        <p:spPr>
          <a:xfrm>
            <a:off x="250920" y="1641600"/>
            <a:ext cx="4465440" cy="384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MCj04174440000[1]"/>
          <p:cNvPicPr/>
          <p:nvPr/>
        </p:nvPicPr>
        <p:blipFill>
          <a:blip r:embed="rId3"/>
          <a:stretch/>
        </p:blipFill>
        <p:spPr>
          <a:xfrm>
            <a:off x="7308720" y="4581360"/>
            <a:ext cx="1614600" cy="199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3884 C -0.0217 -0.15491 -0.0434 -0.27098 -0.0651 -0.24393 C -0.08681 -0.21687 -0.11146 0.12255 -0.13021 0.12393 C -0.14896 0.12532 -0.16042 -0.2326 -0.17778 -0.23537 C -0.19514 -0.23815 -0.21719 0.10775 -0.2349 0.10706 C -0.2526 0.10636 -0.26493 -0.24231 -0.2842 -0.23953 C -0.30347 -0.23676 -0.33472 0.12278 -0.35087 0.12393 C -0.36701 0.12509 -0.36632 -0.23237 -0.38108 -0.23329 C -0.39583 -0.23422 -0.41701 0.0881 -0.43976 0.11769 C -0.4625 0.14729 -0.4901 0.04578 -0.51753 -0.05572 E">
                                      <p:cBhvr>
                                        <p:cTn id="81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0:52:41Z</dcterms:created>
  <dc:creator>st-lowe-k</dc:creator>
  <dc:description/>
  <dc:language>en-US</dc:language>
  <cp:lastModifiedBy>Clare Seccombe</cp:lastModifiedBy>
  <dcterms:modified xsi:type="dcterms:W3CDTF">2014-04-15T05:58:54Z</dcterms:modified>
  <cp:revision>42</cp:revision>
  <dc:subject/>
  <dc:title>Los cuatro amigos</dc:title>
</cp:coreProperties>
</file>