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533-F7D0-45CC-BF8A-9DDDF7C8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BD3-D97B-468F-AF74-35227DA1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8EC-76FE-42CE-A611-8C414C79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FE2-6BCB-4FA5-9CDD-E9023663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4CD6-9A12-4247-88C3-149AE468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8107-7661-4BE6-B771-7BCD1B30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8532-A0C3-4AC1-BF91-4AE70DFF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9602-5C50-49B9-9B6E-380ADAB6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5597-6506-420E-A3E9-5E477817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0594-48B9-447E-965A-56DD5D38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09F4-A4C6-433D-804B-FFA518DE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F8D-A5E2-45F1-A641-3EF4A342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AFAF-825C-46EF-8C88-735AB915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EA80-29EC-4F2B-900D-DEE60239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36FC-1055-4B77-8965-56235BF1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32D7-6D67-4203-8C83-1DD67DB9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E524-B7E2-43E2-8F43-583737F4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3B7E2-E42E-441A-9F94-B976A275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3CE1-3042-4CCA-BAFB-2CAB2477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9644D-8F1B-4E2E-B95D-F8EA00FE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3383D-9E7C-4D62-8AB8-429911CE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417D4-AC76-428F-B525-A984CE62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8FA-8FA8-40D6-972E-9896366C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E1182-D6A1-48C5-999F-9A402894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CC9FA-D058-4D64-95B6-D64F3E18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4EC50-11FB-454C-B1F8-A9E20B92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12675-08E4-464E-A656-69B59EB3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A85FA-092C-464F-B417-CD7DEC6A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6985E-854F-470B-BD44-F98EFDEB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4AC56-5423-446A-A7C5-2A3D1CB3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012-3ABC-414A-A13A-A211A8F3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FD2-469F-4167-8F11-9BC7D0B3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4F3-21D3-4E8B-A1D4-D1DC4EBE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C0E-272C-470F-9F57-96D0ED28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87D-0315-49F0-B701-6952FEA2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A8A-327B-4402-8CDE-F85F8D5C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BD45-3417-467C-B403-EF1202FB28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0AD2-A443-4EE2-A0F8-1F359853B5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FB0A-C027-4B6E-BE62-4B9B96AF9FF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9"/>
                </a:solidFill>
                <a:latin typeface="Comic Sans MS"/>
                <a:ea typeface="Gill Sans Ligh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195640" y="481320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95640" y="549360"/>
            <a:ext cx="1224000" cy="183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195640" y="338292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2195640" y="19890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3360600" y="1020600"/>
            <a:ext cx="595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río 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3360600" y="24620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grande rí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3360600" y="39038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colegio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3360600" y="5346720"/>
            <a:ext cx="65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río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1" descr="río"/>
          <p:cNvPicPr/>
          <p:nvPr/>
        </p:nvPicPr>
        <p:blipFill>
          <a:blip r:embed="rId7"/>
          <a:stretch/>
        </p:blipFill>
        <p:spPr>
          <a:xfrm>
            <a:off x="176040" y="1749600"/>
            <a:ext cx="1830600" cy="990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grpSp>
        <p:nvGrpSpPr>
          <p:cNvPr id="134" name="Group 5"/>
          <p:cNvGrpSpPr/>
          <p:nvPr/>
        </p:nvGrpSpPr>
        <p:grpSpPr>
          <a:xfrm>
            <a:off x="471600" y="3456000"/>
            <a:ext cx="1241280" cy="1835280"/>
            <a:chOff x="471600" y="3456000"/>
            <a:chExt cx="1241280" cy="1835280"/>
          </a:xfrm>
        </p:grpSpPr>
        <p:pic>
          <p:nvPicPr>
            <p:cNvPr id="135" name="Picture 1" descr=""/>
            <p:cNvPicPr/>
            <p:nvPr/>
          </p:nvPicPr>
          <p:blipFill>
            <a:blip r:embed="rId8"/>
            <a:stretch/>
          </p:blipFill>
          <p:spPr>
            <a:xfrm>
              <a:off x="471600" y="3456000"/>
              <a:ext cx="627840" cy="18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4" descr=""/>
            <p:cNvPicPr/>
            <p:nvPr/>
          </p:nvPicPr>
          <p:blipFill>
            <a:blip r:embed="rId9"/>
            <a:stretch/>
          </p:blipFill>
          <p:spPr>
            <a:xfrm>
              <a:off x="1251720" y="3977640"/>
              <a:ext cx="44676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Straight Connector 3"/>
            <p:cNvSpPr/>
            <p:nvPr/>
          </p:nvSpPr>
          <p:spPr>
            <a:xfrm>
              <a:off x="485640" y="5291280"/>
              <a:ext cx="1227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8" name="Right Arrow 4"/>
          <p:cNvSpPr/>
          <p:nvPr/>
        </p:nvSpPr>
        <p:spPr>
          <a:xfrm rot="7762200">
            <a:off x="890280" y="3166920"/>
            <a:ext cx="590400" cy="3362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9"/>
                </a:solidFill>
                <a:latin typeface="Comic Sans MS"/>
                <a:ea typeface="Gill Sans Ligh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195640" y="481320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95640" y="549360"/>
            <a:ext cx="1224000" cy="1833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195640" y="338292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2195640" y="19890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>
            <a:off x="3360600" y="1020600"/>
            <a:ext cx="595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plaza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3360600" y="24620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 plaza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3360600" y="39038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 grande plaz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3360600" y="5346720"/>
            <a:ext cx="65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 iglesia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" name="Group 5"/>
          <p:cNvGrpSpPr/>
          <p:nvPr/>
        </p:nvGrpSpPr>
        <p:grpSpPr>
          <a:xfrm>
            <a:off x="471600" y="3456000"/>
            <a:ext cx="1241280" cy="1835280"/>
            <a:chOff x="471600" y="3456000"/>
            <a:chExt cx="1241280" cy="1835280"/>
          </a:xfrm>
        </p:grpSpPr>
        <p:pic>
          <p:nvPicPr>
            <p:cNvPr id="150" name="Picture 1" descr=""/>
            <p:cNvPicPr/>
            <p:nvPr/>
          </p:nvPicPr>
          <p:blipFill>
            <a:blip r:embed="rId7"/>
            <a:stretch/>
          </p:blipFill>
          <p:spPr>
            <a:xfrm>
              <a:off x="471600" y="3456000"/>
              <a:ext cx="627840" cy="18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4" descr=""/>
            <p:cNvPicPr/>
            <p:nvPr/>
          </p:nvPicPr>
          <p:blipFill>
            <a:blip r:embed="rId8"/>
            <a:stretch/>
          </p:blipFill>
          <p:spPr>
            <a:xfrm>
              <a:off x="1251720" y="3977640"/>
              <a:ext cx="44676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Straight Connector 3"/>
            <p:cNvSpPr/>
            <p:nvPr/>
          </p:nvSpPr>
          <p:spPr>
            <a:xfrm>
              <a:off x="485640" y="5291280"/>
              <a:ext cx="1227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3" name="Right Arrow 4"/>
          <p:cNvSpPr/>
          <p:nvPr/>
        </p:nvSpPr>
        <p:spPr>
          <a:xfrm rot="7762200">
            <a:off x="890280" y="3166920"/>
            <a:ext cx="590400" cy="3362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22" descr="plaza"/>
          <p:cNvPicPr/>
          <p:nvPr/>
        </p:nvPicPr>
        <p:blipFill>
          <a:blip r:embed="rId9"/>
          <a:stretch/>
        </p:blipFill>
        <p:spPr>
          <a:xfrm>
            <a:off x="306360" y="1460520"/>
            <a:ext cx="1584360" cy="119052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9"/>
                </a:solidFill>
                <a:latin typeface="Comic Sans MS"/>
                <a:ea typeface="Gill Sans Light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195640" y="481320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95640" y="549360"/>
            <a:ext cx="1224000" cy="1833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195640" y="338292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2195640" y="19890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3360600" y="1020600"/>
            <a:ext cx="595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colegio 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3360600" y="24620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Correos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14"/>
          <p:cNvSpPr/>
          <p:nvPr/>
        </p:nvSpPr>
        <p:spPr>
          <a:xfrm>
            <a:off x="3360600" y="39038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Correos 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15"/>
          <p:cNvSpPr/>
          <p:nvPr/>
        </p:nvSpPr>
        <p:spPr>
          <a:xfrm>
            <a:off x="3360600" y="5346720"/>
            <a:ext cx="65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pequeño Corre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471600" y="3456000"/>
            <a:ext cx="1241280" cy="1835280"/>
            <a:chOff x="471600" y="3456000"/>
            <a:chExt cx="1241280" cy="1835280"/>
          </a:xfrm>
        </p:grpSpPr>
        <p:pic>
          <p:nvPicPr>
            <p:cNvPr id="166" name="Picture 1" descr=""/>
            <p:cNvPicPr/>
            <p:nvPr/>
          </p:nvPicPr>
          <p:blipFill>
            <a:blip r:embed="rId7"/>
            <a:stretch/>
          </p:blipFill>
          <p:spPr>
            <a:xfrm>
              <a:off x="471600" y="3456000"/>
              <a:ext cx="627840" cy="18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4" descr=""/>
            <p:cNvPicPr/>
            <p:nvPr/>
          </p:nvPicPr>
          <p:blipFill>
            <a:blip r:embed="rId8"/>
            <a:stretch/>
          </p:blipFill>
          <p:spPr>
            <a:xfrm>
              <a:off x="1251720" y="3977640"/>
              <a:ext cx="44676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Straight Connector 3"/>
            <p:cNvSpPr/>
            <p:nvPr/>
          </p:nvSpPr>
          <p:spPr>
            <a:xfrm>
              <a:off x="485640" y="5291280"/>
              <a:ext cx="1227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Right Arrow 4"/>
          <p:cNvSpPr/>
          <p:nvPr/>
        </p:nvSpPr>
        <p:spPr>
          <a:xfrm rot="7762200">
            <a:off x="1402200" y="3526560"/>
            <a:ext cx="590760" cy="33480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9" descr="correos"/>
          <p:cNvPicPr/>
          <p:nvPr/>
        </p:nvPicPr>
        <p:blipFill>
          <a:blip r:embed="rId9"/>
          <a:stretch/>
        </p:blipFill>
        <p:spPr>
          <a:xfrm>
            <a:off x="331920" y="1176480"/>
            <a:ext cx="1598400" cy="167004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9"/>
                </a:solidFill>
                <a:latin typeface="Comic Sans MS"/>
                <a:ea typeface="Gill Sans Light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195640" y="481320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95640" y="549360"/>
            <a:ext cx="1224000" cy="183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195640" y="338292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2195640" y="19890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"/>
          <p:cNvSpPr/>
          <p:nvPr/>
        </p:nvSpPr>
        <p:spPr>
          <a:xfrm>
            <a:off x="3360600" y="1020600"/>
            <a:ext cx="595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grande coleg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3360600" y="24620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colegio 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3360600" y="39038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biblioteca 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15"/>
          <p:cNvSpPr/>
          <p:nvPr/>
        </p:nvSpPr>
        <p:spPr>
          <a:xfrm>
            <a:off x="3360600" y="5346720"/>
            <a:ext cx="65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pequeño coleg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471600" y="3456000"/>
            <a:ext cx="1241280" cy="1835280"/>
            <a:chOff x="471600" y="3456000"/>
            <a:chExt cx="1241280" cy="1835280"/>
          </a:xfrm>
        </p:grpSpPr>
        <p:pic>
          <p:nvPicPr>
            <p:cNvPr id="182" name="Picture 1" descr=""/>
            <p:cNvPicPr/>
            <p:nvPr/>
          </p:nvPicPr>
          <p:blipFill>
            <a:blip r:embed="rId7"/>
            <a:stretch/>
          </p:blipFill>
          <p:spPr>
            <a:xfrm>
              <a:off x="471600" y="3456000"/>
              <a:ext cx="627840" cy="18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4" descr=""/>
            <p:cNvPicPr/>
            <p:nvPr/>
          </p:nvPicPr>
          <p:blipFill>
            <a:blip r:embed="rId8"/>
            <a:stretch/>
          </p:blipFill>
          <p:spPr>
            <a:xfrm>
              <a:off x="1251720" y="3977640"/>
              <a:ext cx="44676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Straight Connector 3"/>
            <p:cNvSpPr/>
            <p:nvPr/>
          </p:nvSpPr>
          <p:spPr>
            <a:xfrm>
              <a:off x="485640" y="5291280"/>
              <a:ext cx="1227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Right Arrow 4"/>
          <p:cNvSpPr/>
          <p:nvPr/>
        </p:nvSpPr>
        <p:spPr>
          <a:xfrm rot="7762200">
            <a:off x="1402200" y="3526560"/>
            <a:ext cx="590760" cy="33480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8" descr="colegio"/>
          <p:cNvPicPr/>
          <p:nvPr/>
        </p:nvPicPr>
        <p:blipFill>
          <a:blip r:embed="rId9"/>
          <a:stretch/>
        </p:blipFill>
        <p:spPr>
          <a:xfrm>
            <a:off x="274680" y="1790640"/>
            <a:ext cx="1739880" cy="132732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9"/>
                </a:solidFill>
                <a:latin typeface="Comic Sans MS"/>
                <a:ea typeface="Gill Sans Light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195640" y="481320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2195640" y="549360"/>
            <a:ext cx="1224000" cy="1833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195640" y="338292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195640" y="19890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3360600" y="1020600"/>
            <a:ext cx="595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 iglesia pequeñ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3360600" y="24620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pequeña igles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Box 14"/>
          <p:cNvSpPr/>
          <p:nvPr/>
        </p:nvSpPr>
        <p:spPr>
          <a:xfrm>
            <a:off x="3360600" y="39038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iglesia 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3360600" y="5346720"/>
            <a:ext cx="65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iglesia pequeñ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" name="Group 5"/>
          <p:cNvGrpSpPr/>
          <p:nvPr/>
        </p:nvGrpSpPr>
        <p:grpSpPr>
          <a:xfrm>
            <a:off x="471600" y="3456000"/>
            <a:ext cx="1241280" cy="1835280"/>
            <a:chOff x="471600" y="3456000"/>
            <a:chExt cx="1241280" cy="1835280"/>
          </a:xfrm>
        </p:grpSpPr>
        <p:pic>
          <p:nvPicPr>
            <p:cNvPr id="198" name="Picture 1" descr=""/>
            <p:cNvPicPr/>
            <p:nvPr/>
          </p:nvPicPr>
          <p:blipFill>
            <a:blip r:embed="rId6"/>
            <a:stretch/>
          </p:blipFill>
          <p:spPr>
            <a:xfrm>
              <a:off x="471600" y="3456000"/>
              <a:ext cx="627840" cy="18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7"/>
            <a:stretch/>
          </p:blipFill>
          <p:spPr>
            <a:xfrm>
              <a:off x="1251720" y="3977640"/>
              <a:ext cx="44676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Straight Connector 3"/>
            <p:cNvSpPr/>
            <p:nvPr/>
          </p:nvSpPr>
          <p:spPr>
            <a:xfrm>
              <a:off x="485640" y="5291280"/>
              <a:ext cx="1227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1" name="Right Arrow 4"/>
          <p:cNvSpPr/>
          <p:nvPr/>
        </p:nvSpPr>
        <p:spPr>
          <a:xfrm rot="7762200">
            <a:off x="860400" y="3130920"/>
            <a:ext cx="592200" cy="3366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20" descr="iglesia"/>
          <p:cNvPicPr/>
          <p:nvPr/>
        </p:nvPicPr>
        <p:blipFill>
          <a:blip r:embed="rId8"/>
          <a:stretch/>
        </p:blipFill>
        <p:spPr>
          <a:xfrm>
            <a:off x="511200" y="1044720"/>
            <a:ext cx="1190520" cy="189072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9"/>
                </a:solidFill>
                <a:latin typeface="Comic Sans MS"/>
                <a:ea typeface="Gill Sans Ligh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195640" y="481320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2195640" y="549360"/>
            <a:ext cx="1224000" cy="1833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195640" y="338292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195640" y="19890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3360600" y="1020600"/>
            <a:ext cx="595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colegio pequeñ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3360600" y="24620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 grande bibliote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3360600" y="39038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grande coleg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Box 15"/>
          <p:cNvSpPr/>
          <p:nvPr/>
        </p:nvSpPr>
        <p:spPr>
          <a:xfrm>
            <a:off x="3360600" y="5346720"/>
            <a:ext cx="65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a biblioteca gran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3" name="Group 5"/>
          <p:cNvGrpSpPr/>
          <p:nvPr/>
        </p:nvGrpSpPr>
        <p:grpSpPr>
          <a:xfrm>
            <a:off x="471600" y="3456000"/>
            <a:ext cx="1241280" cy="1835280"/>
            <a:chOff x="471600" y="3456000"/>
            <a:chExt cx="1241280" cy="1835280"/>
          </a:xfrm>
        </p:grpSpPr>
        <p:pic>
          <p:nvPicPr>
            <p:cNvPr id="214" name="Picture 1" descr=""/>
            <p:cNvPicPr/>
            <p:nvPr/>
          </p:nvPicPr>
          <p:blipFill>
            <a:blip r:embed="rId6"/>
            <a:stretch/>
          </p:blipFill>
          <p:spPr>
            <a:xfrm>
              <a:off x="471600" y="3456000"/>
              <a:ext cx="627840" cy="18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4" descr=""/>
            <p:cNvPicPr/>
            <p:nvPr/>
          </p:nvPicPr>
          <p:blipFill>
            <a:blip r:embed="rId7"/>
            <a:stretch/>
          </p:blipFill>
          <p:spPr>
            <a:xfrm>
              <a:off x="1251720" y="3977640"/>
              <a:ext cx="44676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Straight Connector 3"/>
            <p:cNvSpPr/>
            <p:nvPr/>
          </p:nvSpPr>
          <p:spPr>
            <a:xfrm>
              <a:off x="485640" y="5291280"/>
              <a:ext cx="1227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7" name="Right Arrow 4"/>
          <p:cNvSpPr/>
          <p:nvPr/>
        </p:nvSpPr>
        <p:spPr>
          <a:xfrm rot="7762200">
            <a:off x="806040" y="3063240"/>
            <a:ext cx="590400" cy="3366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17" descr="biblioteca"/>
          <p:cNvPicPr/>
          <p:nvPr/>
        </p:nvPicPr>
        <p:blipFill>
          <a:blip r:embed="rId8"/>
          <a:stretch/>
        </p:blipFill>
        <p:spPr>
          <a:xfrm>
            <a:off x="227160" y="1249200"/>
            <a:ext cx="1844640" cy="13878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11-01T19:44:39Z</dcterms:modified>
  <cp:revision>252</cp:revision>
  <dc:subject/>
  <dc:title>TITLE</dc:title>
</cp:coreProperties>
</file>