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539-245A-42A3-AF80-29A09EAF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86D-3B10-45CC-AECD-B377F757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FD8-0704-421F-ABF6-B972B15D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A5E-E818-41E4-BDDD-2A596856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BDFD-F038-4477-BBFE-0996C32B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D19-8669-4410-A41D-C1A382AB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1A31-10D2-44BF-AAAB-24B55C76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40D1-D2F9-4DF4-B9F9-70B422BA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02F0-E52E-4AAE-88EE-F5518FD8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485E-41FD-4C13-9760-4B73769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001E-6425-4387-845F-1F5689B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C6A-6FED-4842-955E-A15A06E5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66A9-E801-4AAB-8026-2096442A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F382-1B95-4C01-B2EA-A0D6D54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1379-481F-4088-A3D9-D2DDA9C1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9028-955F-4C00-9F41-B20321E7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9785-9018-43DF-9A30-ECA369ED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6034-8860-45FA-A241-7162885A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B8B8-288E-4891-9657-3834C0BC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73EF-42AE-4978-9B97-7611FD25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3F121-783B-4FEE-BB6D-060654D8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BEC6E-0A5A-4F6A-AA49-CF0F7965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F31-4F06-4032-AB6A-771FE132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A256-24B5-4366-80E6-6E240F88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90E1-12A4-4B6E-BF89-E195360A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1B0A-BC20-4C8A-A4A0-DDCCCAE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AFA9-FD17-4D36-B6D4-5A9DA7EE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4810-80CB-4DEE-8861-55EACC83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247E-B4DB-4B1E-909D-855213DC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61DB-06AD-4693-AF48-6163552A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B77-1D3F-4776-AD05-03B98F74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83F-52BA-4FCA-8469-4290B900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8A6-812A-4684-800C-9BDCA42B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B4D-25AF-4B20-A175-22B78509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593-E857-46F7-8A11-BCD456BF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0DA-0424-45B1-A4D4-31F9CB9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69FC-3EAA-49EB-BCB7-4924CA6C70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7A3C-2D67-4FBB-B4B7-DDD69181DD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5051-2956-435B-B5AE-0B70CA17AB4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río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rande rí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legio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río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1" descr="río"/>
          <p:cNvPicPr/>
          <p:nvPr/>
        </p:nvPicPr>
        <p:blipFill>
          <a:blip r:embed="rId7"/>
          <a:stretch/>
        </p:blipFill>
        <p:spPr>
          <a:xfrm>
            <a:off x="176040" y="1749600"/>
            <a:ext cx="1830600" cy="990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grpSp>
        <p:nvGrpSpPr>
          <p:cNvPr id="134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35" name="Picture 1" descr=""/>
            <p:cNvPicPr/>
            <p:nvPr/>
          </p:nvPicPr>
          <p:blipFill>
            <a:blip r:embed="rId8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"/>
            <p:cNvPicPr/>
            <p:nvPr/>
          </p:nvPicPr>
          <p:blipFill>
            <a:blip r:embed="rId9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" name="Right Arrow 4"/>
          <p:cNvSpPr/>
          <p:nvPr/>
        </p:nvSpPr>
        <p:spPr>
          <a:xfrm rot="7762200">
            <a:off x="890280" y="3166920"/>
            <a:ext cx="590400" cy="3362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laz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plaz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grande pla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iglesi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50" name="Picture 1" descr=""/>
            <p:cNvPicPr/>
            <p:nvPr/>
          </p:nvPicPr>
          <p:blipFill>
            <a:blip r:embed="rId7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4" descr=""/>
            <p:cNvPicPr/>
            <p:nvPr/>
          </p:nvPicPr>
          <p:blipFill>
            <a:blip r:embed="rId8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" name="Right Arrow 4"/>
          <p:cNvSpPr/>
          <p:nvPr/>
        </p:nvSpPr>
        <p:spPr>
          <a:xfrm rot="7762200">
            <a:off x="890280" y="3166920"/>
            <a:ext cx="590400" cy="3362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22" descr="plaza"/>
          <p:cNvPicPr/>
          <p:nvPr/>
        </p:nvPicPr>
        <p:blipFill>
          <a:blip r:embed="rId9"/>
          <a:stretch/>
        </p:blipFill>
        <p:spPr>
          <a:xfrm>
            <a:off x="306360" y="1460520"/>
            <a:ext cx="1584360" cy="11905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legio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rreos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rreos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equeño Corre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66" name="Picture 1" descr=""/>
            <p:cNvPicPr/>
            <p:nvPr/>
          </p:nvPicPr>
          <p:blipFill>
            <a:blip r:embed="rId7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4" descr=""/>
            <p:cNvPicPr/>
            <p:nvPr/>
          </p:nvPicPr>
          <p:blipFill>
            <a:blip r:embed="rId8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ight Arrow 4"/>
          <p:cNvSpPr/>
          <p:nvPr/>
        </p:nvSpPr>
        <p:spPr>
          <a:xfrm rot="7762200">
            <a:off x="1402200" y="3526560"/>
            <a:ext cx="590760" cy="3348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9" descr="correos"/>
          <p:cNvPicPr/>
          <p:nvPr/>
        </p:nvPicPr>
        <p:blipFill>
          <a:blip r:embed="rId9"/>
          <a:stretch/>
        </p:blipFill>
        <p:spPr>
          <a:xfrm>
            <a:off x="331920" y="1176480"/>
            <a:ext cx="1598400" cy="16700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rande coleg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legio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biblioteca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equeño coleg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82" name="Picture 1" descr=""/>
            <p:cNvPicPr/>
            <p:nvPr/>
          </p:nvPicPr>
          <p:blipFill>
            <a:blip r:embed="rId7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" descr=""/>
            <p:cNvPicPr/>
            <p:nvPr/>
          </p:nvPicPr>
          <p:blipFill>
            <a:blip r:embed="rId8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Right Arrow 4"/>
          <p:cNvSpPr/>
          <p:nvPr/>
        </p:nvSpPr>
        <p:spPr>
          <a:xfrm rot="7762200">
            <a:off x="1402200" y="3526560"/>
            <a:ext cx="590760" cy="3348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8" descr="colegio"/>
          <p:cNvPicPr/>
          <p:nvPr/>
        </p:nvPicPr>
        <p:blipFill>
          <a:blip r:embed="rId9"/>
          <a:stretch/>
        </p:blipFill>
        <p:spPr>
          <a:xfrm>
            <a:off x="274680" y="1790640"/>
            <a:ext cx="1739880" cy="13273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iglesia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equeña igles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iglesia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iglesia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98" name="Picture 1" descr=""/>
            <p:cNvPicPr/>
            <p:nvPr/>
          </p:nvPicPr>
          <p:blipFill>
            <a:blip r:embed="rId6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7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1" name="Right Arrow 4"/>
          <p:cNvSpPr/>
          <p:nvPr/>
        </p:nvSpPr>
        <p:spPr>
          <a:xfrm rot="7762200">
            <a:off x="860400" y="3130920"/>
            <a:ext cx="592200" cy="3366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20" descr="iglesia"/>
          <p:cNvPicPr/>
          <p:nvPr/>
        </p:nvPicPr>
        <p:blipFill>
          <a:blip r:embed="rId8"/>
          <a:stretch/>
        </p:blipFill>
        <p:spPr>
          <a:xfrm>
            <a:off x="511200" y="1044720"/>
            <a:ext cx="1190520" cy="18907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legio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grande bibliote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rande coleg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bibliotec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3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214" name="Picture 1" descr=""/>
            <p:cNvPicPr/>
            <p:nvPr/>
          </p:nvPicPr>
          <p:blipFill>
            <a:blip r:embed="rId6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4" descr=""/>
            <p:cNvPicPr/>
            <p:nvPr/>
          </p:nvPicPr>
          <p:blipFill>
            <a:blip r:embed="rId7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Right Arrow 4"/>
          <p:cNvSpPr/>
          <p:nvPr/>
        </p:nvSpPr>
        <p:spPr>
          <a:xfrm rot="7762200">
            <a:off x="806040" y="3063240"/>
            <a:ext cx="590400" cy="3366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17" descr="biblioteca"/>
          <p:cNvPicPr/>
          <p:nvPr/>
        </p:nvPicPr>
        <p:blipFill>
          <a:blip r:embed="rId8"/>
          <a:stretch/>
        </p:blipFill>
        <p:spPr>
          <a:xfrm>
            <a:off x="227160" y="1249200"/>
            <a:ext cx="1844640" cy="13878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44:39Z</dcterms:modified>
  <cp:revision>252</cp:revision>
  <dc:subject/>
  <dc:title>TITLE</dc:title>
</cp:coreProperties>
</file>