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D1CB-15E2-423C-AC81-90D3F3C336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C6EB-14D5-46D0-9CA0-E29E9C2CCF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54DD-C5B8-4404-B45A-167076F333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E662-93F2-4F93-A545-AD010E337F3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0BF3-A503-4390-AC40-6F14C4DE1F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0C6E-A240-4BB9-9F21-9C51A4CEE0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1502-66E1-4E21-9CD1-4F302191ADB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5D74-50AA-4B11-9B5D-E1872AFE7F4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233A-9282-4C74-82C5-7526168014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CFCB-5099-4FCB-A2A0-A690B533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5FC-9F0D-447D-8E42-0D4057B4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05F1-2E1A-4249-8E5D-C5629307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997-A6BA-44E9-B5BD-3017DBC5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5849-549F-4207-B511-3F00E7C6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0EA7-0BE8-49C1-B591-323E7E06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DDB2-C4E9-45CB-A974-45AB84AC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ED3C-F913-49FC-8688-76C54E85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87D2-CC1F-469D-B8F1-4A5CD908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5A0A-7F53-42EE-B4C2-CFDE9961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B200-0C7C-4EE2-9DAA-705796F4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8D04-3A32-4BA8-BB25-81E59E5A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2BD0-FE39-478B-A79E-EA5649B3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BBE2-80C4-40FC-876B-8CD36C01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54C4-96F0-4C69-BAD0-DF1D31B7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688E-C844-455B-B961-1FB73BCD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BA42-1F87-482F-8A8B-6A156281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FF1E9-DBF5-4892-82A9-E70B1340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F0FAB-551F-4993-8252-AD4AC221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FA171-6DBC-4A2C-A586-B4C0ED1B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1138E-C47B-4F52-8C97-676B99D7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AEEE8-BF86-4A09-8856-70CB2A55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53E-0AA7-4922-AC1E-63C219E5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C96AC-592A-4C2D-9E35-72C9EF07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D82B6-DF86-44E2-98B1-EB3C4287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B2B2-C50B-41AF-ABCA-4E9D33CC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0522F-B83B-4ADE-9DB6-46A87213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F831E-4811-4E2E-A087-2564865E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2B61F-4686-48CE-8E23-227DF8A2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478C3-374F-4BE6-B6C7-B1C4368B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A84-BFE9-4C7D-B283-44A9DA9C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F0CE-350F-451E-B20A-3136F979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51A4-391E-48F2-8639-0CE21776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259-3F0D-44FB-83CD-F1EB20B3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376-786E-44AF-A829-685FB2B0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3FF-D36E-4AFF-BF82-72F15920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F594-6401-4866-8BF2-7D2DD76DA25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7C06-47D2-4F86-99BA-D0A1C9BD14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35B9-4A3A-4F77-81EE-E87AED7E92E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403280" y="2205000"/>
            <a:ext cx="70581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I ca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f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se a bilingual dictionary to find out the genders and meanings of Spanish nou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-15840" y="257076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un  </a:t>
            </a: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or</a:t>
            </a: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  una 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-15840" y="379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63"/>
                </a:solidFill>
                <a:latin typeface="Comic Sans MS"/>
              </a:rPr>
              <a:t>ducha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-15840" y="235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un  </a:t>
            </a: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or</a:t>
            </a: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  una 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Oval 2"/>
          <p:cNvSpPr/>
          <p:nvPr/>
        </p:nvSpPr>
        <p:spPr>
          <a:xfrm>
            <a:off x="4564080" y="2205000"/>
            <a:ext cx="2095560" cy="1800360"/>
          </a:xfrm>
          <a:prstGeom prst="ellipse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-15840" y="379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63"/>
                </a:solidFill>
                <a:latin typeface="Comic Sans MS"/>
              </a:rPr>
              <a:t>atajo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-15840" y="235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un  </a:t>
            </a: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or</a:t>
            </a: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  una 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Oval 2"/>
          <p:cNvSpPr/>
          <p:nvPr/>
        </p:nvSpPr>
        <p:spPr>
          <a:xfrm>
            <a:off x="1332000" y="2205000"/>
            <a:ext cx="2095560" cy="1800360"/>
          </a:xfrm>
          <a:prstGeom prst="ellipse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-15840" y="379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63"/>
                </a:solidFill>
                <a:latin typeface="Comic Sans MS"/>
              </a:rPr>
              <a:t>mantel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-15840" y="235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un  </a:t>
            </a: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or</a:t>
            </a: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  una 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Oval 2"/>
          <p:cNvSpPr/>
          <p:nvPr/>
        </p:nvSpPr>
        <p:spPr>
          <a:xfrm>
            <a:off x="1332000" y="2205000"/>
            <a:ext cx="2095560" cy="1800360"/>
          </a:xfrm>
          <a:prstGeom prst="ellipse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-15840" y="379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63"/>
                </a:solidFill>
                <a:latin typeface="Comic Sans MS"/>
              </a:rPr>
              <a:t>índice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-15840" y="235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un  </a:t>
            </a: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or</a:t>
            </a: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  una 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Oval 2"/>
          <p:cNvSpPr/>
          <p:nvPr/>
        </p:nvSpPr>
        <p:spPr>
          <a:xfrm>
            <a:off x="1332000" y="2205000"/>
            <a:ext cx="2095560" cy="1800360"/>
          </a:xfrm>
          <a:prstGeom prst="ellipse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-15840" y="379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63"/>
                </a:solidFill>
                <a:latin typeface="Comic Sans MS"/>
              </a:rPr>
              <a:t>estupidez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-15840" y="235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un  </a:t>
            </a: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or</a:t>
            </a: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  una 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Oval 2"/>
          <p:cNvSpPr/>
          <p:nvPr/>
        </p:nvSpPr>
        <p:spPr>
          <a:xfrm>
            <a:off x="4573440" y="2205000"/>
            <a:ext cx="2095560" cy="1800360"/>
          </a:xfrm>
          <a:prstGeom prst="ellipse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-15840" y="379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63"/>
                </a:solidFill>
                <a:latin typeface="Comic Sans MS"/>
              </a:rPr>
              <a:t>trébol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-15840" y="2354040"/>
            <a:ext cx="915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un  </a:t>
            </a:r>
            <a:r>
              <a:rPr b="0" lang="en-GB" sz="5000" spc="-1" strike="noStrike">
                <a:solidFill>
                  <a:srgbClr val="fffffa"/>
                </a:solidFill>
                <a:latin typeface="Comic Sans MS"/>
              </a:rPr>
              <a:t>or</a:t>
            </a: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  una 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Oval 2"/>
          <p:cNvSpPr/>
          <p:nvPr/>
        </p:nvSpPr>
        <p:spPr>
          <a:xfrm>
            <a:off x="1403280" y="2205000"/>
            <a:ext cx="2095560" cy="1800360"/>
          </a:xfrm>
          <a:prstGeom prst="ellipse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6-01-03T17:27:20Z</dcterms:modified>
  <cp:revision>283</cp:revision>
  <dc:subject/>
  <dc:title>TITLE</dc:title>
</cp:coreProperties>
</file>