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F0D4-32F8-4AD1-B791-93699EA202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2480-5A99-4933-9394-5F8CCAF381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C9BA-F96F-459E-8BD9-73DF1710E80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3DA0-1C38-4BDC-A123-3844CBE396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DDA1-D055-461D-98A9-A10225DCBD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0007-9423-4245-9486-277F4D8474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5045-202F-4F96-AF21-136EA3E86E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0E6B-3D82-49EB-BD7C-ACE5A5DDC0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4705-B147-4ECB-AABA-78DF9BCBB6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A79-1F77-4BEC-B2B6-2D85AA91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68B-09B7-4AA5-A321-E44518A3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723-6F83-46F6-B0ED-8BE9224D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638-0BDD-456E-992B-BBCE6CA9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1EC4-E9C3-4FB2-ABC1-EFE9EA3C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3403-162F-4308-AD52-CB8AE476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7508-2DEC-4EFF-BD55-8165B0EC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6258-68C7-46FB-B7FC-7D042996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1EB0-2946-4EBC-AD81-82EC5DB4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856B-DC82-4886-9329-FCE4516F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CDAC-83D8-4D0A-9AFF-C16955FF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7F2-EDB8-42A5-BD2E-C18B67DE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DBC8-459B-412F-9B8C-BDD16C92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E9EC-1F52-405D-9E75-C67DC43A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4607-EB10-437A-8E5C-C44AAFD0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713C-406A-4825-9212-149EC096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B87C-99DD-4BD6-9805-B0A748EA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93AE-F360-47F3-ADA4-E0AE27FE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44DD-E550-4603-8738-4665DF76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D28C2-A6CE-4600-A63D-4DCA44D6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8E1F-5247-4B87-A247-DAE6DC5F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73A74-7908-45A7-A466-C0B85669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751A-EA61-474F-94FD-575C08EC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916B-3FAE-4C27-9FBA-17E698F7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2AAC6-6373-44EA-8F7F-AAFBB65E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82946-FF6A-4AD1-B134-9D1373EE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78697-CA5E-4CE0-858A-A66A6DE5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7114A-CAD6-4DEE-AFB6-BAC1FF5C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D2822-AFC6-4FD2-94AA-C7230C5A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E5CB6-22A9-4EAA-A851-02CBF8DA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2E1-1993-46D8-8FAF-5A95C510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32C-F54E-47DC-B63E-AF43122D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435-9B24-4958-9DB5-E2D7052D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242-170B-4211-A8B3-47ACB8FB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107-B6FE-42EC-92BC-B4E72507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DB1-0C9F-459F-BDCF-96F6291E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5B33-8436-4FD4-8195-53A9831BC1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6E29-18C6-4070-9D9C-10BFC31A42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94D6-2161-4D44-B6DE-E149984F69D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403280" y="2205000"/>
            <a:ext cx="70581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I ca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se a bilingual dictionary to find out the genders and meanings of Spanish nou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-15840" y="257076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un  </a:t>
            </a: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or</a:t>
            </a: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  una 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-15840" y="379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63"/>
                </a:solidFill>
                <a:latin typeface="Comic Sans MS"/>
              </a:rPr>
              <a:t>ducha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-15840" y="235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un  </a:t>
            </a: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or</a:t>
            </a: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  una 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Oval 2"/>
          <p:cNvSpPr/>
          <p:nvPr/>
        </p:nvSpPr>
        <p:spPr>
          <a:xfrm>
            <a:off x="4564080" y="2205000"/>
            <a:ext cx="2095560" cy="1800360"/>
          </a:xfrm>
          <a:prstGeom prst="ellipse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-15840" y="379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63"/>
                </a:solidFill>
                <a:latin typeface="Comic Sans MS"/>
              </a:rPr>
              <a:t>atajo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-15840" y="235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un  </a:t>
            </a: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or</a:t>
            </a: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  una 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Oval 2"/>
          <p:cNvSpPr/>
          <p:nvPr/>
        </p:nvSpPr>
        <p:spPr>
          <a:xfrm>
            <a:off x="1332000" y="2205000"/>
            <a:ext cx="2095560" cy="1800360"/>
          </a:xfrm>
          <a:prstGeom prst="ellipse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-15840" y="379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63"/>
                </a:solidFill>
                <a:latin typeface="Comic Sans MS"/>
              </a:rPr>
              <a:t>mantel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-15840" y="235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un  </a:t>
            </a: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or</a:t>
            </a: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  una 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2"/>
          <p:cNvSpPr/>
          <p:nvPr/>
        </p:nvSpPr>
        <p:spPr>
          <a:xfrm>
            <a:off x="1332000" y="2205000"/>
            <a:ext cx="2095560" cy="1800360"/>
          </a:xfrm>
          <a:prstGeom prst="ellipse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-15840" y="379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63"/>
                </a:solidFill>
                <a:latin typeface="Comic Sans MS"/>
              </a:rPr>
              <a:t>índic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-15840" y="235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un  </a:t>
            </a: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or</a:t>
            </a: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  una 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Oval 2"/>
          <p:cNvSpPr/>
          <p:nvPr/>
        </p:nvSpPr>
        <p:spPr>
          <a:xfrm>
            <a:off x="1332000" y="2205000"/>
            <a:ext cx="2095560" cy="1800360"/>
          </a:xfrm>
          <a:prstGeom prst="ellipse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-15840" y="379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63"/>
                </a:solidFill>
                <a:latin typeface="Comic Sans MS"/>
              </a:rPr>
              <a:t>estupidez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-15840" y="235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un  </a:t>
            </a: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or</a:t>
            </a: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  una 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Oval 2"/>
          <p:cNvSpPr/>
          <p:nvPr/>
        </p:nvSpPr>
        <p:spPr>
          <a:xfrm>
            <a:off x="4573440" y="2205000"/>
            <a:ext cx="2095560" cy="1800360"/>
          </a:xfrm>
          <a:prstGeom prst="ellipse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-15840" y="379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63"/>
                </a:solidFill>
                <a:latin typeface="Comic Sans MS"/>
              </a:rPr>
              <a:t>trébol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-15840" y="235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un  </a:t>
            </a: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or</a:t>
            </a: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  una 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Oval 2"/>
          <p:cNvSpPr/>
          <p:nvPr/>
        </p:nvSpPr>
        <p:spPr>
          <a:xfrm>
            <a:off x="1403280" y="2205000"/>
            <a:ext cx="2095560" cy="1800360"/>
          </a:xfrm>
          <a:prstGeom prst="ellipse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6-01-03T17:27:20Z</dcterms:modified>
  <cp:revision>283</cp:revision>
  <dc:subject/>
  <dc:title>TITLE</dc:title>
</cp:coreProperties>
</file>