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A7EA-C818-4A8E-9058-719CD90067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64ED-0483-4658-99A8-F0BFF47F5C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C12-3115-489E-AFDE-C2139A30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47F-0000-4786-9804-1D4209F3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7FA-5D76-4918-AA01-28E84971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DF7-CD6F-4EA5-9110-8185EAA3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96F2-19BD-4C01-A851-C135851E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9CEA-B8DA-4972-9462-2444883C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8E75-B281-4CF2-99D7-B04C682A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551B-20D7-47D6-8656-7B25CF1A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61A7-548F-417B-A24B-6ECB8C96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7E83-807D-4170-A61B-8C423AC7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5FF2-66A8-4760-868F-03F2686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156-752A-40DE-B6B9-1702B47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C510-4EE1-4B9E-A78B-47CC96E0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B922-603A-46AB-8813-A45DC4C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6E45-B2E4-4C05-9DC1-09BF2EFA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44AE-A687-4E58-9972-17943D13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0F56-84F9-4EC0-B1F8-37F06540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6F7A-5EB1-40A5-AEAA-F2F24C88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C391-6CED-4426-8D56-CB9E41B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FBBF-BF4F-4DFB-ACDB-2A3205B8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45665-5C95-4D26-A167-8020084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705A-A8AF-4DD9-866C-652874B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E3B-8A78-4B2C-ABAF-EB5D86BB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2B48-BAB3-42DD-9D9A-50CEE18F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B860-ACE2-4D87-BF5A-C5C6AB5D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556B-09FE-459D-88AD-F3CD8F29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D870-CB6B-4EB4-880B-35DA0B0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DE35-8B2F-4C7D-B66F-BDDEE8B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6185-BBED-4FFB-A916-CB8CC116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45A6-4EF4-4055-BDF3-6B7BB5E3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A8C-D894-429E-9FBB-B5D43C66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D22-D653-42EF-BE8B-740650D8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A7C-FE92-4014-BD76-A0F1DADB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A13-02B6-466E-838B-39655314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A89-C0AC-4D07-9038-AF2FEDC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4FF-E228-4BDC-B520-6B1B0EC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66E4-F69A-4C28-B7D6-8F80885780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347A-FB3D-443B-8817-48FDEC2726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5B8E-AC18-4F8B-9A9E-744DCCB2C6C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95280" y="115920"/>
            <a:ext cx="8640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mi cara redondi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ngo ojo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y nariz  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 también tengo una bo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a com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y rei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 mis ojo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veo todo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 mi nariz    hago ¡achí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 con mi boca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o co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omitas de maíz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2446200" y="1130400"/>
            <a:ext cx="1081080" cy="404640"/>
            <a:chOff x="2446200" y="1130400"/>
            <a:chExt cx="1081080" cy="40464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tretch/>
          </p:blipFill>
          <p:spPr>
            <a:xfrm>
              <a:off x="2446200" y="1130400"/>
              <a:ext cx="54036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" descr=""/>
            <p:cNvPicPr/>
            <p:nvPr/>
          </p:nvPicPr>
          <p:blipFill>
            <a:blip r:embed="rId2"/>
            <a:stretch/>
          </p:blipFill>
          <p:spPr>
            <a:xfrm flipH="1">
              <a:off x="2986560" y="1130400"/>
              <a:ext cx="540720" cy="40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4705200" y="1273320"/>
            <a:ext cx="257400" cy="42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5364000" y="1697040"/>
            <a:ext cx="1143000" cy="75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Clare\AppData\Local\Microsoft\Windows\Temporary Internet Files\Content.IE5\KO6975V7\eating-lunch-cartoon[1].jpg"/>
          <p:cNvPicPr/>
          <p:nvPr/>
        </p:nvPicPr>
        <p:blipFill>
          <a:blip r:embed="rId5"/>
          <a:stretch/>
        </p:blipFill>
        <p:spPr>
          <a:xfrm>
            <a:off x="2643120" y="2398680"/>
            <a:ext cx="704880" cy="67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Users\Clare\AppData\Local\Microsoft\Windows\Temporary Internet Files\Content.IE5\S0RXMQY3\laugh_ha_ha[1].jpg"/>
          <p:cNvPicPr/>
          <p:nvPr/>
        </p:nvPicPr>
        <p:blipFill>
          <a:blip r:embed="rId6"/>
          <a:stretch/>
        </p:blipFill>
        <p:spPr>
          <a:xfrm>
            <a:off x="4427640" y="2513160"/>
            <a:ext cx="608040" cy="58248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2808360" y="4033800"/>
            <a:ext cx="1078920" cy="403200"/>
            <a:chOff x="2808360" y="4033800"/>
            <a:chExt cx="1078920" cy="403200"/>
          </a:xfrm>
        </p:grpSpPr>
        <p:pic>
          <p:nvPicPr>
            <p:cNvPr id="140" name="Picture 13" descr=""/>
            <p:cNvPicPr/>
            <p:nvPr/>
          </p:nvPicPr>
          <p:blipFill>
            <a:blip r:embed="rId7"/>
            <a:stretch/>
          </p:blipFill>
          <p:spPr>
            <a:xfrm>
              <a:off x="2808360" y="4033800"/>
              <a:ext cx="53964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4" descr=""/>
            <p:cNvPicPr/>
            <p:nvPr/>
          </p:nvPicPr>
          <p:blipFill>
            <a:blip r:embed="rId8"/>
            <a:stretch/>
          </p:blipFill>
          <p:spPr>
            <a:xfrm flipH="1">
              <a:off x="3347640" y="4033800"/>
              <a:ext cx="53964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15" descr=""/>
          <p:cNvPicPr/>
          <p:nvPr/>
        </p:nvPicPr>
        <p:blipFill>
          <a:blip r:embed="rId9"/>
          <a:stretch/>
        </p:blipFill>
        <p:spPr>
          <a:xfrm>
            <a:off x="2855880" y="4727520"/>
            <a:ext cx="263520" cy="43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Clare\AppData\Local\Microsoft\Windows\Temporary Internet Files\Content.IE5\Y1TTIEMX\sneeze[1].gif"/>
          <p:cNvPicPr/>
          <p:nvPr/>
        </p:nvPicPr>
        <p:blipFill>
          <a:blip r:embed="rId10"/>
          <a:stretch/>
        </p:blipFill>
        <p:spPr>
          <a:xfrm>
            <a:off x="5403960" y="4437000"/>
            <a:ext cx="952560" cy="74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"/>
          <p:cNvPicPr/>
          <p:nvPr/>
        </p:nvPicPr>
        <p:blipFill>
          <a:blip r:embed="rId11"/>
          <a:stretch/>
        </p:blipFill>
        <p:spPr>
          <a:xfrm>
            <a:off x="3110040" y="5318280"/>
            <a:ext cx="893520" cy="59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Clare\AppData\Local\Microsoft\Windows\Temporary Internet Files\Content.IE5\PZ2QY092\popcorn_thumb[5][1].gif"/>
          <p:cNvPicPr/>
          <p:nvPr/>
        </p:nvPicPr>
        <p:blipFill>
          <a:blip r:embed="rId12"/>
          <a:stretch/>
        </p:blipFill>
        <p:spPr>
          <a:xfrm>
            <a:off x="4003560" y="5877000"/>
            <a:ext cx="747720" cy="855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13"/>
          <a:stretch/>
        </p:blipFill>
        <p:spPr>
          <a:xfrm>
            <a:off x="4454640" y="114480"/>
            <a:ext cx="90936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32:43Z</dcterms:modified>
  <cp:revision>253</cp:revision>
  <dc:subject/>
  <dc:title>TITLE</dc:title>
</cp:coreProperties>
</file>