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9.png" ContentType="image/png"/>
  <Override PartName="/ppt/media/image12.png" ContentType="image/png"/>
  <Override PartName="/ppt/media/image1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9A39D-418E-4CB8-9690-0F6D048BA997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906FB-7B6B-42D0-B475-D6422033F3F3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C1C87-C135-4AC0-8B6A-C59801882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262D7-DFAB-42AA-902E-12AC8B450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9D10B-C742-40D8-B540-3794F6113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C00CD-E372-4196-8004-DFFC66640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33D3F-B9B3-4D18-8FA4-72AA2ABFA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9D68C-83A4-47D8-B10B-82DD531C1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8A9CC-FC64-4FCE-A1CB-E865DCE32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9D8B7-94B3-415A-A7E2-7E87018B9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FB944-0608-47EB-AC76-2D377359C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BF09F-32CB-4B91-A937-282CC4BEA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74ADF-A3C4-41DA-8A4D-E86E8276D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78C89-9D86-4913-B7D9-CE277CE5E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3F45B-E973-4790-924B-C19C8337F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2A589-222B-4290-9D3E-0796CF9FF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D657E-E3F3-40CF-A389-146528346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6791A-D435-4F03-81BC-8EC8AF864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9B349-3BA0-4003-8393-7A041E10B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D42287-66FB-4AE0-A4FF-9E3D9A45F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A6898A-09A0-414F-8320-5E15810D0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E7AE56-FA8B-4B46-8CD4-3FDEB2D92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10FD06-6B26-4CF3-AE94-E232BF2A4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14F35D-C5C3-4878-B8C5-1405DA4C9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BB2CC-C850-41D0-A193-765A7BCC1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904ADE-9E3F-4F3C-A636-5B2683C9D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1E5FDB-7771-46A2-83D0-83F9FFEF6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F40EE7-703B-4384-B4DF-6C318C0E2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B393D7-10FE-4CD2-847A-98C7DFE84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82ACF3-5A7F-4C1A-BEF8-5A4DF2389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B705FF-4D70-44E2-834E-2205C68D8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841F55-CEFC-493D-A77B-61BDE47F3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60949-A4E7-4EAE-B9F9-FA46CE98A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21838-7422-4327-AF74-8F3C6D4B0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4EAEC-804F-41DC-A251-62FCEC239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11E6F-2C17-4E4E-94A3-2B3114752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40E21-FA18-48A4-BBD2-10A08173D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CA6C8-0B1B-4F74-9524-CD7990CDD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1BDC3-C3EC-4526-B804-A05CD6303B66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6B615-2225-40C1-A56A-26E52F58B98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6A6CC-6DF7-4D6B-923B-61840F4D9591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a"/>
          </a:solidFill>
          <a:ln w="9360">
            <a:solidFill>
              <a:srgbClr val="ffff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TextBox 1"/>
          <p:cNvSpPr/>
          <p:nvPr/>
        </p:nvSpPr>
        <p:spPr>
          <a:xfrm>
            <a:off x="395280" y="115920"/>
            <a:ext cx="8640720" cy="66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En mi cara redondit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engo ojos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 y nariz  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y también tengo una boc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para comer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y reir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on mis ojos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     veo todo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on mi nariz    hago ¡achís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y con mi boca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omo com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palomitas de maíz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32" name="Group 3"/>
          <p:cNvGrpSpPr/>
          <p:nvPr/>
        </p:nvGrpSpPr>
        <p:grpSpPr>
          <a:xfrm>
            <a:off x="2446200" y="1130400"/>
            <a:ext cx="1081080" cy="404640"/>
            <a:chOff x="2446200" y="1130400"/>
            <a:chExt cx="1081080" cy="404640"/>
          </a:xfrm>
        </p:grpSpPr>
        <p:pic>
          <p:nvPicPr>
            <p:cNvPr id="133" name="Picture 2" descr=""/>
            <p:cNvPicPr/>
            <p:nvPr/>
          </p:nvPicPr>
          <p:blipFill>
            <a:blip r:embed="rId1"/>
            <a:stretch/>
          </p:blipFill>
          <p:spPr>
            <a:xfrm>
              <a:off x="2446200" y="1130400"/>
              <a:ext cx="540360" cy="40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" name="Picture 5" descr=""/>
            <p:cNvPicPr/>
            <p:nvPr/>
          </p:nvPicPr>
          <p:blipFill>
            <a:blip r:embed="rId2"/>
            <a:stretch/>
          </p:blipFill>
          <p:spPr>
            <a:xfrm flipH="1">
              <a:off x="2986560" y="1130400"/>
              <a:ext cx="540720" cy="404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35" name="Picture 4" descr=""/>
          <p:cNvPicPr/>
          <p:nvPr/>
        </p:nvPicPr>
        <p:blipFill>
          <a:blip r:embed="rId3"/>
          <a:stretch/>
        </p:blipFill>
        <p:spPr>
          <a:xfrm>
            <a:off x="4705200" y="1273320"/>
            <a:ext cx="257400" cy="4237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6" descr=""/>
          <p:cNvPicPr/>
          <p:nvPr/>
        </p:nvPicPr>
        <p:blipFill>
          <a:blip r:embed="rId4"/>
          <a:stretch/>
        </p:blipFill>
        <p:spPr>
          <a:xfrm>
            <a:off x="5364000" y="1697040"/>
            <a:ext cx="1143000" cy="7556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5" descr="C:\Users\Clare\AppData\Local\Microsoft\Windows\Temporary Internet Files\Content.IE5\KO6975V7\eating-lunch-cartoon[1].jpg"/>
          <p:cNvPicPr/>
          <p:nvPr/>
        </p:nvPicPr>
        <p:blipFill>
          <a:blip r:embed="rId5"/>
          <a:stretch/>
        </p:blipFill>
        <p:spPr>
          <a:xfrm>
            <a:off x="2643120" y="2398680"/>
            <a:ext cx="704880" cy="6714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6" descr="C:\Users\Clare\AppData\Local\Microsoft\Windows\Temporary Internet Files\Content.IE5\S0RXMQY3\laugh_ha_ha[1].jpg"/>
          <p:cNvPicPr/>
          <p:nvPr/>
        </p:nvPicPr>
        <p:blipFill>
          <a:blip r:embed="rId6"/>
          <a:stretch/>
        </p:blipFill>
        <p:spPr>
          <a:xfrm>
            <a:off x="4427640" y="2513160"/>
            <a:ext cx="608040" cy="582480"/>
          </a:xfrm>
          <a:prstGeom prst="rect">
            <a:avLst/>
          </a:prstGeom>
          <a:ln w="0">
            <a:noFill/>
          </a:ln>
        </p:spPr>
      </p:pic>
      <p:grpSp>
        <p:nvGrpSpPr>
          <p:cNvPr id="139" name="Group 12"/>
          <p:cNvGrpSpPr/>
          <p:nvPr/>
        </p:nvGrpSpPr>
        <p:grpSpPr>
          <a:xfrm>
            <a:off x="2808360" y="4033800"/>
            <a:ext cx="1078920" cy="403200"/>
            <a:chOff x="2808360" y="4033800"/>
            <a:chExt cx="1078920" cy="403200"/>
          </a:xfrm>
        </p:grpSpPr>
        <p:pic>
          <p:nvPicPr>
            <p:cNvPr id="140" name="Picture 13" descr=""/>
            <p:cNvPicPr/>
            <p:nvPr/>
          </p:nvPicPr>
          <p:blipFill>
            <a:blip r:embed="rId7"/>
            <a:stretch/>
          </p:blipFill>
          <p:spPr>
            <a:xfrm>
              <a:off x="2808360" y="4033800"/>
              <a:ext cx="539640" cy="403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" name="Picture 14" descr=""/>
            <p:cNvPicPr/>
            <p:nvPr/>
          </p:nvPicPr>
          <p:blipFill>
            <a:blip r:embed="rId8"/>
            <a:stretch/>
          </p:blipFill>
          <p:spPr>
            <a:xfrm flipH="1">
              <a:off x="3347640" y="4033800"/>
              <a:ext cx="539640" cy="403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42" name="Picture 15" descr=""/>
          <p:cNvPicPr/>
          <p:nvPr/>
        </p:nvPicPr>
        <p:blipFill>
          <a:blip r:embed="rId9"/>
          <a:stretch/>
        </p:blipFill>
        <p:spPr>
          <a:xfrm>
            <a:off x="2855880" y="4727520"/>
            <a:ext cx="263520" cy="4320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7" descr="C:\Users\Clare\AppData\Local\Microsoft\Windows\Temporary Internet Files\Content.IE5\Y1TTIEMX\sneeze[1].gif"/>
          <p:cNvPicPr/>
          <p:nvPr/>
        </p:nvPicPr>
        <p:blipFill>
          <a:blip r:embed="rId10"/>
          <a:stretch/>
        </p:blipFill>
        <p:spPr>
          <a:xfrm>
            <a:off x="5403960" y="4437000"/>
            <a:ext cx="952560" cy="7416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7" descr=""/>
          <p:cNvPicPr/>
          <p:nvPr/>
        </p:nvPicPr>
        <p:blipFill>
          <a:blip r:embed="rId11"/>
          <a:stretch/>
        </p:blipFill>
        <p:spPr>
          <a:xfrm>
            <a:off x="3110040" y="5318280"/>
            <a:ext cx="893520" cy="5904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8" descr="C:\Users\Clare\AppData\Local\Microsoft\Windows\Temporary Internet Files\Content.IE5\PZ2QY092\popcorn_thumb[5][1].gif"/>
          <p:cNvPicPr/>
          <p:nvPr/>
        </p:nvPicPr>
        <p:blipFill>
          <a:blip r:embed="rId12"/>
          <a:stretch/>
        </p:blipFill>
        <p:spPr>
          <a:xfrm>
            <a:off x="4003560" y="5877000"/>
            <a:ext cx="747720" cy="8557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7" descr=""/>
          <p:cNvPicPr/>
          <p:nvPr/>
        </p:nvPicPr>
        <p:blipFill>
          <a:blip r:embed="rId13"/>
          <a:stretch/>
        </p:blipFill>
        <p:spPr>
          <a:xfrm>
            <a:off x="4454640" y="114480"/>
            <a:ext cx="909360" cy="91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 Seccombe</cp:lastModifiedBy>
  <dcterms:modified xsi:type="dcterms:W3CDTF">2015-11-01T19:32:43Z</dcterms:modified>
  <cp:revision>253</cp:revision>
  <dc:subject/>
  <dc:title>TITLE</dc:title>
</cp:coreProperties>
</file>