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75ED-3E1F-4E09-B3A9-6634C1DD7F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0502-E47F-4C38-B282-F8D7F8A542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30BF-6E13-4382-8BD7-8A6231927B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6DAE-F282-4F8F-9306-C1DA1E4575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9348-5CC4-431A-9CC7-9261D11E48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8CAD-6636-4DDA-B523-10DDFC67D3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BDF4-181F-4037-BF13-B2F7512A47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33A5-8780-4F4C-A92B-551186671C0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5455-AE49-419A-A341-37C4C45DCC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18D4-527E-4485-A61C-76612423B6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8A23-A665-4069-9FA3-FC2D8B58183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837D-189E-426B-B440-C841B95E56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AA42-70CC-45AE-A838-75288E3894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0803-BA3B-4EE1-BF32-AEFB5FB8E0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0EB3-3D33-4F85-9FA0-6A34D3F0B7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A0B0-2758-4B9D-9EC2-035C9AB869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5778-F4BB-4BE7-987B-362D8D80223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7703-475F-4EE8-AC5C-540BAD7548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7294-301B-46CC-A6D0-47806AD30C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2267-3090-4F30-AA5C-F7255B595E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E1B9-20CA-4137-BC13-73C49F9EBA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551F-1BC4-4FA8-8984-12DADB1F5B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0C5D-230C-4845-98BF-4F17CDBF55D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088A-9DAA-46FA-98C6-D2EE6B632D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A2E4-A791-47FF-9EB3-9CCAB9F0FA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6CAC-868B-4253-8E29-514ECB40CBC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7971-83F4-485C-8433-742DBD7DBA9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599C-987F-414A-943E-EE867DE0E7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E82-1340-49D3-8EA0-8B765653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700-2D09-4FE0-8C33-A63B857C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DE4-2831-4030-8CF9-5DE1C98D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C5D-A770-4956-94A4-940AA567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0CB-A364-48A2-97A1-AC3AEBA3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90F-9A6C-461A-88D2-8A09C90C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21E-3FDC-47C7-9E9E-E40B7078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CC6-B5EA-427A-9CE7-6691228A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B89-FC15-432F-A2E7-3C2BE45E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88F-0564-4B64-90AF-D838580D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36D-A191-425E-9EDB-E548CC1F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A54-3343-4B0A-B2D6-CFFA13B0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7C50-F988-426F-A83F-5985914542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908000" y="765000"/>
            <a:ext cx="5112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63"/>
                </a:solidFill>
                <a:latin typeface="Comic Sans MS"/>
              </a:rPr>
              <a:t>100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763640" y="3500280"/>
            <a:ext cx="5656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63"/>
                </a:solidFill>
                <a:latin typeface="Comic Sans MS"/>
              </a:rPr>
              <a:t>PUNTO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336760" y="461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2330280" y="15732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5180040" y="465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4"/>
          <a:stretch/>
        </p:blipFill>
        <p:spPr>
          <a:xfrm>
            <a:off x="2330280" y="236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5"/>
          <a:stretch/>
        </p:blipFill>
        <p:spPr>
          <a:xfrm>
            <a:off x="5162400" y="127080"/>
            <a:ext cx="1432080" cy="1593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6"/>
          <a:stretch/>
        </p:blipFill>
        <p:spPr>
          <a:xfrm>
            <a:off x="5162400" y="2444760"/>
            <a:ext cx="1649520" cy="1397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1230480" y="155736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abue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1211400" y="382284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pad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961920" y="6099120"/>
            <a:ext cx="32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herm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4894200" y="1557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abue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4875120" y="38228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mad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4624560" y="6099120"/>
            <a:ext cx="324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herma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ction Button: Return 2">
            <a:hlinkClick r:id="rId7" action="ppaction://hlinksldjump"/>
          </p:cNvPr>
          <p:cNvSpPr/>
          <p:nvPr/>
        </p:nvSpPr>
        <p:spPr>
          <a:xfrm>
            <a:off x="8244000" y="6093000"/>
            <a:ext cx="720720" cy="64908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3983" h="21600">
                <a:moveTo>
                  <a:pt x="0" y="0"/>
                </a:moveTo>
                <a:lnTo>
                  <a:pt x="23983" y="0"/>
                </a:lnTo>
                <a:lnTo>
                  <a:pt x="23983" y="21600"/>
                </a:lnTo>
                <a:lnTo>
                  <a:pt x="0" y="21600"/>
                </a:lnTo>
                <a:close/>
              </a:path>
              <a:path fill="lightenLess" w="23983" h="21600">
                <a:moveTo>
                  <a:pt x="0" y="0"/>
                </a:moveTo>
                <a:lnTo>
                  <a:pt x="23983" y="0"/>
                </a:lnTo>
                <a:lnTo>
                  <a:pt x="22583" y="1400"/>
                </a:lnTo>
                <a:lnTo>
                  <a:pt x="1400" y="1400"/>
                </a:lnTo>
                <a:close/>
              </a:path>
              <a:path fill="darken" w="23983" h="21600">
                <a:moveTo>
                  <a:pt x="23983" y="0"/>
                </a:moveTo>
                <a:lnTo>
                  <a:pt x="23983" y="21600"/>
                </a:lnTo>
                <a:lnTo>
                  <a:pt x="22583" y="20200"/>
                </a:lnTo>
                <a:lnTo>
                  <a:pt x="22583" y="1400"/>
                </a:lnTo>
                <a:close/>
              </a:path>
              <a:path fill="darkenLess" w="23983" h="21600">
                <a:moveTo>
                  <a:pt x="2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3" y="20200"/>
                </a:lnTo>
                <a:close/>
              </a:path>
              <a:path fill="lighten" w="2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3" h="21600">
                <a:moveTo>
                  <a:pt x="4985" y="7493"/>
                </a:moveTo>
                <a:lnTo>
                  <a:pt x="8492" y="7493"/>
                </a:lnTo>
                <a:lnTo>
                  <a:pt x="8492" y="12828"/>
                </a:lnTo>
                <a:cubicBezTo>
                  <a:pt x="8492" y="13751"/>
                  <a:pt x="9293" y="14482"/>
                  <a:pt x="10329" y="14482"/>
                </a:cubicBezTo>
                <a:lnTo>
                  <a:pt x="11991" y="14482"/>
                </a:lnTo>
                <a:cubicBezTo>
                  <a:pt x="13027" y="14482"/>
                  <a:pt x="13828" y="13751"/>
                  <a:pt x="13828" y="12828"/>
                </a:cubicBezTo>
                <a:lnTo>
                  <a:pt x="13828" y="7493"/>
                </a:lnTo>
                <a:lnTo>
                  <a:pt x="11991" y="7493"/>
                </a:lnTo>
                <a:lnTo>
                  <a:pt x="15499" y="3985"/>
                </a:lnTo>
                <a:lnTo>
                  <a:pt x="19172" y="7493"/>
                </a:lnTo>
                <a:lnTo>
                  <a:pt x="17335" y="7493"/>
                </a:lnTo>
                <a:lnTo>
                  <a:pt x="17335" y="12828"/>
                </a:lnTo>
                <a:cubicBezTo>
                  <a:pt x="17335" y="15596"/>
                  <a:pt x="14759" y="18155"/>
                  <a:pt x="11991" y="18155"/>
                </a:cubicBezTo>
                <a:lnTo>
                  <a:pt x="10329" y="18155"/>
                </a:lnTo>
                <a:cubicBezTo>
                  <a:pt x="7561" y="18155"/>
                  <a:pt x="4985" y="15596"/>
                  <a:pt x="4985" y="12828"/>
                </a:cubicBezTo>
                <a:close/>
              </a:path>
            </a:pathLst>
          </a:cu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755640" y="2154240"/>
            <a:ext cx="813744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d9"/>
                </a:solidFill>
                <a:latin typeface="Comic Sans MS"/>
              </a:rPr>
              <a:t>NOTES FOR THE TEACH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Students can work in groups or as a whole cla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he aim of the game is to score 100 points or mo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Groups take it in turns to say one of the family memb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eacher reveals the next slide showing the family member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he group scores the number of points shown next to the family member they have chose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If you get to slide 26 and nobody has reached 100 points, click on the return button. This will take you back to slide 3 and you can run through the slides aga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o make things more interesting you could give each team a wild card which will allow then to double their points on the next turn (see next slide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1187280" y="6308640"/>
            <a:ext cx="784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a"/>
                </a:solidFill>
                <a:latin typeface="Arial Rounded MT Bold"/>
              </a:rPr>
              <a:t>© Light Bulb Languages 2015 CS </a:t>
            </a:r>
            <a:r>
              <a:rPr b="0" lang="en-GB" sz="14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14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440" y="0"/>
          <a:ext cx="914256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6320"/>
                <a:gridCol w="304812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</a:tbl>
          </a:graphicData>
        </a:graphic>
      </p:graphicFrame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1584360" cy="10969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287280" y="155736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3780000" y="189000"/>
            <a:ext cx="1584000" cy="10969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"/>
          <p:cNvSpPr/>
          <p:nvPr/>
        </p:nvSpPr>
        <p:spPr>
          <a:xfrm>
            <a:off x="3311640" y="155736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3"/>
          <a:stretch/>
        </p:blipFill>
        <p:spPr>
          <a:xfrm>
            <a:off x="6815160" y="189000"/>
            <a:ext cx="1582560" cy="10969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8"/>
          <p:cNvSpPr/>
          <p:nvPr/>
        </p:nvSpPr>
        <p:spPr>
          <a:xfrm>
            <a:off x="6346800" y="155736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9" descr=""/>
          <p:cNvPicPr/>
          <p:nvPr/>
        </p:nvPicPr>
        <p:blipFill>
          <a:blip r:embed="rId4"/>
          <a:stretch/>
        </p:blipFill>
        <p:spPr>
          <a:xfrm>
            <a:off x="755640" y="3586320"/>
            <a:ext cx="1584360" cy="1096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0"/>
          <p:cNvSpPr/>
          <p:nvPr/>
        </p:nvSpPr>
        <p:spPr>
          <a:xfrm>
            <a:off x="287280" y="495468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11" descr=""/>
          <p:cNvPicPr/>
          <p:nvPr/>
        </p:nvPicPr>
        <p:blipFill>
          <a:blip r:embed="rId5"/>
          <a:stretch/>
        </p:blipFill>
        <p:spPr>
          <a:xfrm>
            <a:off x="3780000" y="3586320"/>
            <a:ext cx="1584000" cy="10969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2"/>
          <p:cNvSpPr/>
          <p:nvPr/>
        </p:nvSpPr>
        <p:spPr>
          <a:xfrm>
            <a:off x="3311640" y="495468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Picture 13" descr=""/>
          <p:cNvPicPr/>
          <p:nvPr/>
        </p:nvPicPr>
        <p:blipFill>
          <a:blip r:embed="rId6"/>
          <a:stretch/>
        </p:blipFill>
        <p:spPr>
          <a:xfrm>
            <a:off x="6815160" y="3586320"/>
            <a:ext cx="1582560" cy="10969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4"/>
          <p:cNvSpPr/>
          <p:nvPr/>
        </p:nvSpPr>
        <p:spPr>
          <a:xfrm>
            <a:off x="6346800" y="495468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08-08T15:59:59Z</dcterms:modified>
  <cp:revision>124</cp:revision>
  <dc:subject/>
  <dc:title>TITLE</dc:title>
</cp:coreProperties>
</file>