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99A-BCCB-4822-8354-3FE45BE34C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E10D-04D9-408B-8FC3-CC846680F1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484-3237-4B73-B941-77A6DDBE3F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8FA1-F2E2-4D05-B1F4-9E51EE676D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0D3-1B9A-4CD8-A992-C744FD6BA2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263-6901-4219-B5F3-D7151073DA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6170-C6A7-4582-98C2-9F7763F4C1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3915-513D-428A-A6E7-AAAC0559BE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D801-E72D-4C04-921D-0B2F5DDA4E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C6D7-3B04-4DC2-A54C-E2F1394AAF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5E32-2EAC-4262-B1D6-11183516D5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A4F8-42BE-4343-9CF9-8FB20F35BE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42D-2CB1-4A3E-B3CF-F7A2B61B7C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73B6-8368-49ED-A4F2-ABC7E4DFE3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AD3-8713-4C8B-863E-2ACE10C95B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B88-20D1-4B1B-9D1F-72649AC003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D41C-D534-4F79-B6C5-14CD621039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AC55-F008-4542-A258-8BE4FD691C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88A3-2474-4D80-844D-0E027EE3BF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CA1E-1A7E-4628-8228-987F7E4721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77F8-FA04-4526-A12D-B169DD84A0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7049-F3E0-446D-9319-4337ACCF45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8E45-D626-4401-97C5-69CC6DA847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5100-E75A-43BB-89B4-828345F6B0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45D-804D-45E9-B50F-5D441FA676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A43-2DD0-4BB0-BA10-882840FE40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0122-7150-466B-8C77-0FF8337FC2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9B8F-1D28-413A-ACEC-AEE556E3A0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52C-B81A-4868-8129-3A3C9A1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8AA-EF21-4B61-8F1C-82E0BAF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D4C-8C19-4593-8210-47A24581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29B-A5DF-438E-9EA1-95DFCD31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4F3-76F1-4ACA-BAF1-92DEDC84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3E9-EE2D-4E63-AC52-76003B1D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DF4-48B6-4256-9BB2-5B6B2A6C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F92-640C-4285-BB4B-52B01B6A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1AD-37B4-478F-802E-CE482947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413-DECD-4668-9A1A-3045ED4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BEB-89D7-4157-897F-6AFC75A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FA0-CBA3-41D4-B448-91E1C7E6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9E8-0E08-4727-B8F3-5E2B62A7F2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908000" y="76500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63"/>
                </a:solidFill>
                <a:latin typeface="Comic Sans MS"/>
              </a:rPr>
              <a:t>100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63640" y="3500280"/>
            <a:ext cx="565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63"/>
                </a:solidFill>
                <a:latin typeface="Comic Sans MS"/>
              </a:rPr>
              <a:t>PUNTO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230480" y="1557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961920" y="609912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4894200" y="1557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4875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m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4624560" y="609912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ction Button: Return 2">
            <a:hlinkClick r:id="rId7" action="ppaction://hlinksldjump"/>
          </p:cNvPr>
          <p:cNvSpPr/>
          <p:nvPr/>
        </p:nvSpPr>
        <p:spPr>
          <a:xfrm>
            <a:off x="8244000" y="6093000"/>
            <a:ext cx="720720" cy="64908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83" h="21600">
                <a:moveTo>
                  <a:pt x="0" y="0"/>
                </a:moveTo>
                <a:lnTo>
                  <a:pt x="23983" y="0"/>
                </a:lnTo>
                <a:lnTo>
                  <a:pt x="23983" y="21600"/>
                </a:lnTo>
                <a:lnTo>
                  <a:pt x="0" y="21600"/>
                </a:lnTo>
                <a:close/>
              </a:path>
              <a:path fill="lightenLess" w="23983" h="21600">
                <a:moveTo>
                  <a:pt x="0" y="0"/>
                </a:moveTo>
                <a:lnTo>
                  <a:pt x="23983" y="0"/>
                </a:lnTo>
                <a:lnTo>
                  <a:pt x="22583" y="1400"/>
                </a:lnTo>
                <a:lnTo>
                  <a:pt x="1400" y="1400"/>
                </a:lnTo>
                <a:close/>
              </a:path>
              <a:path fill="darken" w="23983" h="21600">
                <a:moveTo>
                  <a:pt x="23983" y="0"/>
                </a:moveTo>
                <a:lnTo>
                  <a:pt x="23983" y="21600"/>
                </a:lnTo>
                <a:lnTo>
                  <a:pt x="22583" y="20200"/>
                </a:lnTo>
                <a:lnTo>
                  <a:pt x="22583" y="1400"/>
                </a:lnTo>
                <a:close/>
              </a:path>
              <a:path fill="darkenLess" w="23983" h="21600">
                <a:moveTo>
                  <a:pt x="2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3" y="20200"/>
                </a:lnTo>
                <a:close/>
              </a:path>
              <a:path fill="lighten" w="2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3" h="21600">
                <a:moveTo>
                  <a:pt x="4985" y="7493"/>
                </a:moveTo>
                <a:lnTo>
                  <a:pt x="8492" y="7493"/>
                </a:lnTo>
                <a:lnTo>
                  <a:pt x="8492" y="12828"/>
                </a:lnTo>
                <a:cubicBezTo>
                  <a:pt x="8492" y="13751"/>
                  <a:pt x="9293" y="14482"/>
                  <a:pt x="10329" y="14482"/>
                </a:cubicBezTo>
                <a:lnTo>
                  <a:pt x="11991" y="14482"/>
                </a:lnTo>
                <a:cubicBezTo>
                  <a:pt x="13027" y="14482"/>
                  <a:pt x="13828" y="13751"/>
                  <a:pt x="13828" y="12828"/>
                </a:cubicBezTo>
                <a:lnTo>
                  <a:pt x="13828" y="7493"/>
                </a:lnTo>
                <a:lnTo>
                  <a:pt x="11991" y="7493"/>
                </a:lnTo>
                <a:lnTo>
                  <a:pt x="15499" y="3985"/>
                </a:lnTo>
                <a:lnTo>
                  <a:pt x="19172" y="7493"/>
                </a:lnTo>
                <a:lnTo>
                  <a:pt x="17335" y="7493"/>
                </a:lnTo>
                <a:lnTo>
                  <a:pt x="17335" y="12828"/>
                </a:lnTo>
                <a:cubicBezTo>
                  <a:pt x="17335" y="15596"/>
                  <a:pt x="14759" y="18155"/>
                  <a:pt x="11991" y="18155"/>
                </a:cubicBezTo>
                <a:lnTo>
                  <a:pt x="10329" y="18155"/>
                </a:lnTo>
                <a:cubicBezTo>
                  <a:pt x="7561" y="18155"/>
                  <a:pt x="4985" y="15596"/>
                  <a:pt x="4985" y="12828"/>
                </a:cubicBez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55640" y="2154240"/>
            <a:ext cx="81374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d9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Students can work in groups or as a whole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aim of the game is to score 100 points or m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Groups take it in turns to say one of the family me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eacher reveals the next slide showing the family memb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group scores the number of points shown next to the family member they have chos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If you get to slide 26 and nobody has reached 100 points, click on the return button. This will take you back to slide 3 and you can run through the slides ag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o make things more interesting you could give each team a wild card which will allow then to double their points on the next turn (see next slid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6320"/>
                <a:gridCol w="304812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</a:tbl>
          </a:graphicData>
        </a:graphic>
      </p:graphicFrame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7280" y="1557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3311640" y="155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6815160" y="18900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"/>
          <p:cNvSpPr/>
          <p:nvPr/>
        </p:nvSpPr>
        <p:spPr>
          <a:xfrm>
            <a:off x="6346800" y="155736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755640" y="358632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0"/>
          <p:cNvSpPr/>
          <p:nvPr/>
        </p:nvSpPr>
        <p:spPr>
          <a:xfrm>
            <a:off x="287280" y="495468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11" descr=""/>
          <p:cNvPicPr/>
          <p:nvPr/>
        </p:nvPicPr>
        <p:blipFill>
          <a:blip r:embed="rId5"/>
          <a:stretch/>
        </p:blipFill>
        <p:spPr>
          <a:xfrm>
            <a:off x="3780000" y="358632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3311640" y="495468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6"/>
          <a:stretch/>
        </p:blipFill>
        <p:spPr>
          <a:xfrm>
            <a:off x="6815160" y="358632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6346800" y="49546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5:59:59Z</dcterms:modified>
  <cp:revision>124</cp:revision>
  <dc:subject/>
  <dc:title>TITLE</dc:title>
</cp:coreProperties>
</file>