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5E0-99D7-47D8-810A-6E60A1FEFA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CC4-9621-4588-8BDD-2E3AD14968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6345-2161-466C-86C6-715A2C492D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89B-7853-4950-8154-5A185AAC1E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E01-D97E-4EEE-A10E-FEFF5249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FBC-417F-4FE9-9898-AB4BCAA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170-45FC-412D-9865-B9BD046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D1F-7AA4-48F5-982F-3FE3D420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4D9-D999-4B62-9521-2A44AF25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644-4EA2-4CE0-A1E8-9C2F0B1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5B-1925-47FA-942D-153B704F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210-3687-44A2-B5F8-40242917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950-0168-4273-8FA3-758FC39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A44-74D8-4C79-9B5D-ED6A512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7B1-885F-457E-AA01-26346AA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004-9AB4-4AD7-93EE-8F7B5B1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365-63F6-48B9-A385-44BAC1F2EA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732720" y="6308640"/>
            <a:ext cx="241128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95280" y="333360"/>
            <a:ext cx="8424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nk, Pair, Sh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09920" y="1432080"/>
            <a:ext cx="239544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95280" y="1417680"/>
            <a:ext cx="2367000" cy="23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076480" y="4103640"/>
            <a:ext cx="5064120" cy="253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6553080" y="143496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30320" y="100080"/>
            <a:ext cx="88833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30320" y="2190600"/>
            <a:ext cx="8872560" cy="1771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7451640" y="2878200"/>
            <a:ext cx="1368360" cy="5205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ab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130320" y="4521240"/>
            <a:ext cx="8883360" cy="1792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30320" y="16002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engo una hermana y un herma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74600" y="392904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 hermano se llama Pabl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30320" y="629136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 hermana tiene diez añ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0320" y="16002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Vivo con mi pad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84240" y="36306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engo un hermano pequeño y dos herman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0320" y="563868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s hermanas se llaman María y Ro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4600" y="136440"/>
            <a:ext cx="5603760" cy="139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50840" y="2276640"/>
            <a:ext cx="8739000" cy="123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25280" y="4289400"/>
            <a:ext cx="87710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5:57Z</dcterms:modified>
  <cp:revision>137</cp:revision>
  <dc:subject/>
  <dc:title>TITLE</dc:title>
</cp:coreProperties>
</file>