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C754-1798-4E80-84FF-67AB44054A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F4F1-2625-4737-8CC0-DB599A1662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0FFB-3B56-4218-9780-DAEBCEDE65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F65C-5FC6-4C6F-8BC6-70D8D5E85A8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66F-1DCF-4E60-896D-F61A88BF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E402-80DB-4A4E-9677-A03BA361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8A93-1B16-47C5-AC43-E75D7DDF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179-8852-4ACC-B80F-E3DC133A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4F2-5E7A-4FBC-9936-B41A1613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F74-2808-446E-A574-8210288B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3AB-FCCE-4086-8CB5-96F3DA94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CA7-C697-45AA-AFEE-AE1D556A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783-D5D7-431D-A6C2-8FC52A73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13A-0BDE-4499-8E73-3088C5CB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595-2D81-44D1-B0CB-22C6E33E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1A0-4608-41E0-AC91-B70C173F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E8B4-4B17-4E33-B090-4B4ADEAE81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732720" y="6308640"/>
            <a:ext cx="241128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211640" y="189000"/>
            <a:ext cx="432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395280" y="333360"/>
            <a:ext cx="8424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ink, Pair, Sh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409920" y="1432080"/>
            <a:ext cx="239544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395280" y="1417680"/>
            <a:ext cx="2367000" cy="2395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076480" y="4103640"/>
            <a:ext cx="5064120" cy="2532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6553080" y="143496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211640" y="189000"/>
            <a:ext cx="432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30320" y="100080"/>
            <a:ext cx="8883360" cy="1500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130320" y="2190600"/>
            <a:ext cx="8872560" cy="1771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7451640" y="2878200"/>
            <a:ext cx="1368360" cy="52056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ab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130320" y="4521240"/>
            <a:ext cx="8883360" cy="1792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130320" y="1600200"/>
            <a:ext cx="88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Tengo una hermana y un herman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174600" y="3929040"/>
            <a:ext cx="88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Mi hermano se llama Pabl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130320" y="6291360"/>
            <a:ext cx="88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Mi hermana tiene diez año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211640" y="189000"/>
            <a:ext cx="432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0320" y="1600200"/>
            <a:ext cx="88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Vivo con mi pad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84240" y="3630600"/>
            <a:ext cx="88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Tengo un hermano pequeño y dos herman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130320" y="5638680"/>
            <a:ext cx="88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Mis hermanas se llaman María y Ros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174600" y="136440"/>
            <a:ext cx="5603760" cy="1395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150840" y="2276640"/>
            <a:ext cx="8739000" cy="123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125280" y="4289400"/>
            <a:ext cx="877104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6:05:57Z</dcterms:modified>
  <cp:revision>137</cp:revision>
  <dc:subject/>
  <dc:title>TITLE</dc:title>
</cp:coreProperties>
</file>