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160A-EB9E-435C-A5F6-2A1B5108F61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4D07-483D-4C40-9572-C65A7CE4616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C50A-EB51-4A15-8872-A8FEBC79E2F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128F-1833-4412-A626-DEBD3EC4FCC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8DAB-434C-459C-93E2-67FC139AAC2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20B3-4962-4E77-A7FD-6929DA945BF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F67C-3A06-46FE-97C5-2C1585FFD2B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EE9B-2647-4EA7-BA62-8B698771F10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469D-9E6B-49F4-8B6F-2E9A19AB8EA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E4C2-1634-4A90-81A3-221917483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50B5-47E5-41E0-9528-91E1FDC4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68D9-5F1B-496F-8B24-3FEE953CB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2A62-8CA3-4277-A35C-12770E694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120F-5343-4429-A30E-BA4CD777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009E-A5BB-4C04-890A-809F2CEC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A4D2-5150-4AF4-B0A7-7774AECB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46AF-5899-4FF7-8E67-20FE5A79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1FC6-85DE-470B-86F9-6AD0C5B2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B7E6-BB91-4007-9AC9-CBEDD226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5DD7-5A7C-41A9-96FF-7FC0CF7B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147F-FC58-4BA7-A9DB-7DE9E5A7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C345-2033-4AAD-BE8C-799F5824C7E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336760" y="4614840"/>
            <a:ext cx="1481040" cy="1566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2330280" y="157320"/>
            <a:ext cx="1432080" cy="1325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>
            <a:off x="5180040" y="4653000"/>
            <a:ext cx="1616040" cy="1535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4"/>
          <a:stretch/>
        </p:blipFill>
        <p:spPr>
          <a:xfrm>
            <a:off x="2330280" y="2367000"/>
            <a:ext cx="1432080" cy="1396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5"/>
          <a:stretch/>
        </p:blipFill>
        <p:spPr>
          <a:xfrm>
            <a:off x="5162400" y="127080"/>
            <a:ext cx="1432080" cy="1593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6"/>
          <a:stretch/>
        </p:blipFill>
        <p:spPr>
          <a:xfrm>
            <a:off x="5162400" y="2444760"/>
            <a:ext cx="1649520" cy="1397160"/>
          </a:xfrm>
          <a:prstGeom prst="rect">
            <a:avLst/>
          </a:prstGeom>
          <a:ln w="0">
            <a:noFill/>
          </a:ln>
        </p:spPr>
      </p:pic>
      <p:sp>
        <p:nvSpPr>
          <p:cNvPr id="55" name="TextBox 9"/>
          <p:cNvSpPr/>
          <p:nvPr/>
        </p:nvSpPr>
        <p:spPr>
          <a:xfrm>
            <a:off x="1230480" y="155736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i abuel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Box 13"/>
          <p:cNvSpPr/>
          <p:nvPr/>
        </p:nvSpPr>
        <p:spPr>
          <a:xfrm>
            <a:off x="1211400" y="382284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i pad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14"/>
          <p:cNvSpPr/>
          <p:nvPr/>
        </p:nvSpPr>
        <p:spPr>
          <a:xfrm>
            <a:off x="961920" y="6099120"/>
            <a:ext cx="32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i herman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15"/>
          <p:cNvSpPr/>
          <p:nvPr/>
        </p:nvSpPr>
        <p:spPr>
          <a:xfrm>
            <a:off x="4894200" y="155736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i abue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16"/>
          <p:cNvSpPr/>
          <p:nvPr/>
        </p:nvSpPr>
        <p:spPr>
          <a:xfrm>
            <a:off x="4875120" y="382284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i mad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17"/>
          <p:cNvSpPr/>
          <p:nvPr/>
        </p:nvSpPr>
        <p:spPr>
          <a:xfrm>
            <a:off x="4624560" y="6099120"/>
            <a:ext cx="324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i herma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2124000" y="1125360"/>
            <a:ext cx="4434120" cy="43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979640" y="1003320"/>
            <a:ext cx="458460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Picture 8" descr=""/>
          <p:cNvPicPr/>
          <p:nvPr/>
        </p:nvPicPr>
        <p:blipFill>
          <a:blip r:embed="rId1"/>
          <a:stretch/>
        </p:blipFill>
        <p:spPr>
          <a:xfrm>
            <a:off x="2017800" y="1125360"/>
            <a:ext cx="5108400" cy="43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" name="Picture 7" descr=""/>
          <p:cNvPicPr/>
          <p:nvPr/>
        </p:nvPicPr>
        <p:blipFill>
          <a:blip r:embed="rId1"/>
          <a:stretch/>
        </p:blipFill>
        <p:spPr>
          <a:xfrm>
            <a:off x="2268360" y="765000"/>
            <a:ext cx="443232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1908000" y="692280"/>
            <a:ext cx="50040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2355840" y="1125360"/>
            <a:ext cx="4432320" cy="41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7308720" y="6308640"/>
            <a:ext cx="1835280" cy="549360"/>
          </a:xfrm>
          <a:prstGeom prst="rect">
            <a:avLst/>
          </a:prstGeom>
          <a:solidFill>
            <a:srgbClr val="9a0000"/>
          </a:solidFill>
          <a:ln w="9360">
            <a:solidFill>
              <a:srgbClr val="a319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611280" y="2276640"/>
            <a:ext cx="813744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d9"/>
                </a:solidFill>
                <a:latin typeface="Comic Sans MS"/>
              </a:rPr>
              <a:t>NOTES FOR THE TEACH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d9"/>
                </a:solidFill>
                <a:latin typeface="Comic Sans MS"/>
              </a:rPr>
              <a:t>Students work in grou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d9"/>
                </a:solidFill>
                <a:latin typeface="Comic Sans MS"/>
              </a:rPr>
              <a:t>Groups take it in turns to say a word or sentence about one of the family members.  It could be as simple as one of the family words, or a sentence such as “Te presento a mi madre” or “Mi madre se llama Marina.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d9"/>
                </a:solidFill>
                <a:latin typeface="Comic Sans MS"/>
              </a:rPr>
              <a:t>Teacher then reveals the next slide showing a family member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d9"/>
                </a:solidFill>
                <a:latin typeface="Comic Sans MS"/>
              </a:rPr>
              <a:t>If the group chose the right generation of the family they score points.  They receive 3 points for a grandparent, 2 points for a parent and 1 for a siblin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d9"/>
                </a:solidFill>
                <a:latin typeface="Comic Sans MS"/>
              </a:rPr>
              <a:t>You could duplicate some slides to make the game last longer or to make it more difficul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1187280" y="6308640"/>
            <a:ext cx="7848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a"/>
                </a:solidFill>
                <a:latin typeface="Arial Rounded MT Bold"/>
              </a:rPr>
              <a:t>© Light Bulb Languages 2015 CS </a:t>
            </a:r>
            <a:r>
              <a:rPr b="0" lang="en-GB" sz="1400" spc="-1" strike="noStrike" u="sng">
                <a:solidFill>
                  <a:srgbClr val="ff5050"/>
                </a:solidFill>
                <a:uFillTx/>
                <a:latin typeface="Arial Rounded MT Bold"/>
                <a:hlinkClick r:id="rId1"/>
              </a:rPr>
              <a:t>http://www.lightbulblanguages.co.uk</a:t>
            </a:r>
            <a:r>
              <a:rPr b="0" lang="en-GB" sz="1400" spc="-1" strike="noStrike">
                <a:solidFill>
                  <a:srgbClr val="fffffa"/>
                </a:solidFill>
                <a:latin typeface="Arial Rounded MT Bol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5-08-24T19:40:18Z</dcterms:modified>
  <cp:revision>113</cp:revision>
  <dc:subject/>
  <dc:title>TITLE</dc:title>
</cp:coreProperties>
</file>