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FB88-F7B5-4590-9067-4A691E654F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62C-ED41-42E8-9D5A-66EF89BC0F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5FB-671B-4347-AC48-A68E8ABBFC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A3A-B7B1-474F-80BA-A8BE44A2DB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07B0-E951-4536-A904-3F548A05DD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B31-2107-48FF-9F93-89F2178F19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DB1D-40B7-4111-918A-D579FC8AF7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DE3-AB96-475B-89D0-0BF9CB7EAE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CB73-43CF-481B-AF3D-772CE35584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08D-A2F4-44E6-B84C-ABAB9D90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1F0-9E1A-4DFF-A85B-FBFEBC3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42E-1BA7-4C45-9E2A-930EE7D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C09-26CF-4655-86CB-FADD2C32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3FE-F7C8-413F-87CE-C7470AB9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2BB-4BEA-4226-BD7B-91D71422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537-3445-4CF6-96BA-ED6E462F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380-779B-4D14-BF19-514F3CDC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D46-3DA0-4A9D-AD9A-BA518B3B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749-5DE1-4E8F-A65D-9423674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CDC-6D25-445F-9995-09252361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568-334D-4451-8614-CE80AE3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DBE-ACAD-479A-986F-963429956E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230480" y="1557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961920" y="609912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4894200" y="155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b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875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mad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624560" y="60991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herm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341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979640" y="1003320"/>
            <a:ext cx="4584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017800" y="1125360"/>
            <a:ext cx="510840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323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04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355840" y="1125360"/>
            <a:ext cx="4432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7308720" y="6308640"/>
            <a:ext cx="1835280" cy="549360"/>
          </a:xfrm>
          <a:prstGeom prst="rect">
            <a:avLst/>
          </a:prstGeom>
          <a:solidFill>
            <a:srgbClr val="9a0000"/>
          </a:solidFill>
          <a:ln w="93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11280" y="2276640"/>
            <a:ext cx="81374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d9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Students work in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Groups take it in turns to say a word or sentence about one of the family members.  It could be as simple as one of the family words, or a sentence such as “Te presento a mi madre” or “Mi madre se llama Marina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Teacher then reveals the next slide showing a family me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If the group chose the right generation of the family they score points.  They receive 3 points for a grandparent, 2 points for a parent and 1 for a sib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d9"/>
                </a:solidFill>
                <a:latin typeface="Comic Sans MS"/>
              </a:rPr>
              <a:t>You could duplicate some slides to make the game last longer or to make it more difficu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8-24T19:40:18Z</dcterms:modified>
  <cp:revision>113</cp:revision>
  <dc:subject/>
  <dc:title>TITLE</dc:title>
</cp:coreProperties>
</file>