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9C244-1FF2-46DD-B88D-5F0491E6E26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4BA0C-A40D-463C-B6D8-40EF68D54EB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54CCF-BEB6-4801-BAC5-7F3AF77B1BC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EBFF-4C7C-4DB2-873C-5F307E8A2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3E5A-1434-4ACD-81DF-CEDB4AA69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0B43-1DE5-4E0F-972B-8CDD7727B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9B44-5FF4-4838-8E73-FA1B87F54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B75C-1893-47C5-A4CB-60A606BF5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3BBB-A61A-409F-BF26-D87660A2F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92A9-0C3D-4F9C-9DF6-A98A443CA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14B7-7E25-4F57-9102-9ADBA1856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B7B6-2B88-4EA3-9CEB-309BDCA2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8A28-E1F0-4D8D-A740-A32F729B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2698-A03B-4865-9D5E-6E7FDB81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25C2-E87B-416A-A0C4-2DCDEB20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3494D-A77F-411A-B726-A0E119657B7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35712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549360"/>
            <a:ext cx="915048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530280" y="404640"/>
            <a:ext cx="8083440" cy="764280"/>
          </a:xfrm>
          <a:prstGeom prst="rect">
            <a:avLst/>
          </a:prstGeom>
          <a:solidFill>
            <a:srgbClr val="002060"/>
          </a:solidFill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búsqueda de vocabulari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0" y="2205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ffffa"/>
                </a:solidFill>
                <a:latin typeface="Comic Sans MS"/>
              </a:rPr>
              <a:t>my mother</a:t>
            </a:r>
            <a:endParaRPr b="0" lang="en-US" sz="7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3887640" y="580536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0" y="3699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cfc00"/>
                </a:solidFill>
                <a:latin typeface="Comic Sans MS"/>
              </a:rPr>
              <a:t>mi madre</a:t>
            </a:r>
            <a:endParaRPr b="0" lang="en-US" sz="7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Box 1"/>
          <p:cNvSpPr/>
          <p:nvPr/>
        </p:nvSpPr>
        <p:spPr>
          <a:xfrm>
            <a:off x="530280" y="404640"/>
            <a:ext cx="8083440" cy="764280"/>
          </a:xfrm>
          <a:prstGeom prst="rect">
            <a:avLst/>
          </a:prstGeom>
          <a:solidFill>
            <a:srgbClr val="002060"/>
          </a:solidFill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búsqueda de vocabulari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0" y="2205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ffffa"/>
                </a:solidFill>
                <a:latin typeface="Comic Sans MS"/>
              </a:rPr>
              <a:t>my father</a:t>
            </a:r>
            <a:endParaRPr b="0" lang="en-US" sz="7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3887640" y="580536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0" y="3699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cfc00"/>
                </a:solidFill>
                <a:latin typeface="Comic Sans MS"/>
              </a:rPr>
              <a:t>mi padre</a:t>
            </a:r>
            <a:endParaRPr b="0" lang="en-US" sz="7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Box 1"/>
          <p:cNvSpPr/>
          <p:nvPr/>
        </p:nvSpPr>
        <p:spPr>
          <a:xfrm>
            <a:off x="530280" y="404640"/>
            <a:ext cx="8083440" cy="764280"/>
          </a:xfrm>
          <a:prstGeom prst="rect">
            <a:avLst/>
          </a:prstGeom>
          <a:solidFill>
            <a:srgbClr val="002060"/>
          </a:solidFill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búsqueda de vocabulari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0" y="2205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ffffa"/>
                </a:solidFill>
                <a:latin typeface="Comic Sans MS"/>
              </a:rPr>
              <a:t>my brother</a:t>
            </a:r>
            <a:endParaRPr b="0" lang="en-US" sz="7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3887640" y="580536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0" y="3699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cfc00"/>
                </a:solidFill>
                <a:latin typeface="Comic Sans MS"/>
              </a:rPr>
              <a:t>mi hermano</a:t>
            </a:r>
            <a:endParaRPr b="0" lang="en-US" sz="7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Box 1"/>
          <p:cNvSpPr/>
          <p:nvPr/>
        </p:nvSpPr>
        <p:spPr>
          <a:xfrm>
            <a:off x="530280" y="404640"/>
            <a:ext cx="8083440" cy="764280"/>
          </a:xfrm>
          <a:prstGeom prst="rect">
            <a:avLst/>
          </a:prstGeom>
          <a:solidFill>
            <a:srgbClr val="002060"/>
          </a:solidFill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búsqueda de vocabulari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TextBox 2"/>
          <p:cNvSpPr/>
          <p:nvPr/>
        </p:nvSpPr>
        <p:spPr>
          <a:xfrm>
            <a:off x="0" y="2205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ffffa"/>
                </a:solidFill>
                <a:latin typeface="Comic Sans MS"/>
              </a:rPr>
              <a:t>my sister</a:t>
            </a:r>
            <a:endParaRPr b="0" lang="en-US" sz="7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887640" y="580536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0" y="3699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cfc00"/>
                </a:solidFill>
                <a:latin typeface="Comic Sans MS"/>
              </a:rPr>
              <a:t>mi hermana</a:t>
            </a:r>
            <a:endParaRPr b="0" lang="en-US" sz="7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TextBox 1"/>
          <p:cNvSpPr/>
          <p:nvPr/>
        </p:nvSpPr>
        <p:spPr>
          <a:xfrm>
            <a:off x="530280" y="404640"/>
            <a:ext cx="8083440" cy="764280"/>
          </a:xfrm>
          <a:prstGeom prst="rect">
            <a:avLst/>
          </a:prstGeom>
          <a:solidFill>
            <a:srgbClr val="002060"/>
          </a:solidFill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búsqueda de vocabulari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0" y="2205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ffffa"/>
                </a:solidFill>
                <a:latin typeface="Comic Sans MS"/>
              </a:rPr>
              <a:t>my grandmother</a:t>
            </a:r>
            <a:endParaRPr b="0" lang="en-US" sz="7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Box 3"/>
          <p:cNvSpPr/>
          <p:nvPr/>
        </p:nvSpPr>
        <p:spPr>
          <a:xfrm>
            <a:off x="3887640" y="580536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TextBox 6"/>
          <p:cNvSpPr/>
          <p:nvPr/>
        </p:nvSpPr>
        <p:spPr>
          <a:xfrm>
            <a:off x="0" y="3699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cfc00"/>
                </a:solidFill>
                <a:latin typeface="Comic Sans MS"/>
              </a:rPr>
              <a:t>mi abuela</a:t>
            </a:r>
            <a:endParaRPr b="0" lang="en-US" sz="7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TextBox 1"/>
          <p:cNvSpPr/>
          <p:nvPr/>
        </p:nvSpPr>
        <p:spPr>
          <a:xfrm>
            <a:off x="530280" y="404640"/>
            <a:ext cx="8083440" cy="764280"/>
          </a:xfrm>
          <a:prstGeom prst="rect">
            <a:avLst/>
          </a:prstGeom>
          <a:solidFill>
            <a:srgbClr val="002060"/>
          </a:solidFill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búsqueda de vocabulari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TextBox 2"/>
          <p:cNvSpPr/>
          <p:nvPr/>
        </p:nvSpPr>
        <p:spPr>
          <a:xfrm>
            <a:off x="0" y="2205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ffffa"/>
                </a:solidFill>
                <a:latin typeface="Comic Sans MS"/>
              </a:rPr>
              <a:t>my grandfather</a:t>
            </a:r>
            <a:endParaRPr b="0" lang="en-US" sz="7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3887640" y="580536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Box 6"/>
          <p:cNvSpPr/>
          <p:nvPr/>
        </p:nvSpPr>
        <p:spPr>
          <a:xfrm>
            <a:off x="0" y="3699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cfc00"/>
                </a:solidFill>
                <a:latin typeface="Comic Sans MS"/>
              </a:rPr>
              <a:t>mi abuelo</a:t>
            </a:r>
            <a:endParaRPr b="0" lang="en-US" sz="7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9-06-03T06:59:05Z</dcterms:modified>
  <cp:revision>123</cp:revision>
  <dc:subject/>
  <dc:title>TITLE</dc:title>
</cp:coreProperties>
</file>