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0398-F692-4739-A9C3-F38AF6B8D6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CC42-70D1-47C2-918A-03F2A3DC66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751F-AA7E-4CE4-A135-B33AE6D61A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4DE-FFD8-4E43-BE8F-AA1D41FD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216-861C-4CD4-A85D-099E4B6E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586-EED8-47B5-B749-0635E6A5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66B-826A-4638-838A-ED89288B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23F-592F-44CE-B149-E8BBD5CC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AC4-6F4D-4569-96B4-AFB833B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AF0-8E94-4E57-8CEA-6CB1E4E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A50-5169-4C1C-8821-7EDAC0FA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E85-1937-4462-AA80-A926851C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17F-63BB-4FD1-B705-CAD9F20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C49-E764-4BD0-88A7-E5EEEF2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D07-71F9-4B4A-9D10-728C7AD1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8428-1BB0-4324-8695-7E4C620029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50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mo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madre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fa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padre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bro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herman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sist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herman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grandmo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abuel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grandfa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abuel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6:59:05Z</dcterms:modified>
  <cp:revision>123</cp:revision>
  <dc:subject/>
  <dc:title>TITLE</dc:title>
</cp:coreProperties>
</file>