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876C-5213-45F0-9529-4F8A3E8FF4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D1D-27C5-456A-AB12-A54B2FC08D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fruit” if it’s a fruit, stay quiet if it i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135E-D8DC-4610-BEE7-CBED992EBE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F3B-C14F-4DD8-89F6-CF098C62AE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0E0-A201-4D07-BCCE-4D040225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91F-23A0-4F15-ADA1-5F531F77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246-EEB4-426D-8838-C62CF0EE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72A-8A8A-406A-890E-F6943D5C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121-2B29-4A53-B67F-C99DFC63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F81-88A3-4C6B-B21D-A1F1C0B3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44F-134D-43B2-A9F1-282CE27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3AC-4DA3-4A22-9944-12E4A6C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2E1-66D3-464F-AE1B-62B6095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F65-9CF3-4B1E-B760-99B246B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8CD-FA72-4017-B022-B1399D2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AD3-7D7A-4B99-A3D1-21B18D5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6A3-41F6-46F7-ADB5-242038B512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per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fres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4373640" y="40687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manzan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1258920" y="1413000"/>
            <a:ext cx="482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63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rogra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920" y="34210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ue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192560" y="115920"/>
            <a:ext cx="47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025960" y="249228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fres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per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025960" y="1125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a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20" y="4365720"/>
            <a:ext cx="539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manzan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73160" y="12477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botel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002120" y="515772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48360" y="4044960"/>
            <a:ext cx="40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go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411280" y="2359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l_t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_aranj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92360" y="-100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f_ _ _a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627360" y="466092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_ _ _ _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c_r_ _ _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042920" y="57592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_anzan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6:50Z</dcterms:modified>
  <cp:revision>162</cp:revision>
  <dc:subject/>
  <dc:title>TITLE</dc:title>
</cp:coreProperties>
</file>