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86BD-4AFC-48A6-962C-452791DE00E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all out the correct 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16DD-EBA5-4C94-91AE-F1B710359F7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all out “fruit” if it’s a fruit, stay quiet if it isn’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D258-48F3-44DE-A49F-A7AA35B53F4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all out the correct 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39A7-5710-4239-BF06-D55B7C99594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9AD9-22D8-4C85-BC01-4801E86EA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DCA0-FFDB-4D90-BAFA-5E61FC44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518E-3835-4252-AC5B-FF71D61BC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5BC3-587C-4FC1-A068-1E2F88E8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1BD1-4926-425B-9643-C6840DF2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E3C1-CD2B-4E18-B4F3-3F6B4E43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B22B-1DAD-41B8-B700-1AA06143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BC40-4226-4F3D-A678-6AF6E6F9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9FB4-CFDF-4E6B-90F6-8BBEFB35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2364-6651-420C-B656-7BD23DF7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F160-E8B7-493E-933C-33D85D0D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8B06-0F85-41BE-80D2-346DE07D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273A-6BC1-4A0D-945D-3ED2C0142BD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221"/>
          <p:cNvSpPr/>
          <p:nvPr/>
        </p:nvSpPr>
        <p:spPr>
          <a:xfrm>
            <a:off x="324000" y="3573360"/>
            <a:ext cx="3454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as pera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 Box 224"/>
          <p:cNvSpPr/>
          <p:nvPr/>
        </p:nvSpPr>
        <p:spPr>
          <a:xfrm>
            <a:off x="2843280" y="5300640"/>
            <a:ext cx="48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as fresa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225"/>
          <p:cNvSpPr/>
          <p:nvPr/>
        </p:nvSpPr>
        <p:spPr>
          <a:xfrm>
            <a:off x="4373640" y="406872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as naranja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226"/>
          <p:cNvSpPr/>
          <p:nvPr/>
        </p:nvSpPr>
        <p:spPr>
          <a:xfrm>
            <a:off x="4284720" y="189000"/>
            <a:ext cx="475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as manzana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228"/>
          <p:cNvSpPr/>
          <p:nvPr/>
        </p:nvSpPr>
        <p:spPr>
          <a:xfrm>
            <a:off x="2178000" y="2593800"/>
            <a:ext cx="439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os plátano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229"/>
          <p:cNvSpPr/>
          <p:nvPr/>
        </p:nvSpPr>
        <p:spPr>
          <a:xfrm>
            <a:off x="1258920" y="1413000"/>
            <a:ext cx="482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as ciruela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cc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79280" y="2322360"/>
            <a:ext cx="50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os plátano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68360" y="5759280"/>
            <a:ext cx="633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os programa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69920" y="3421080"/>
            <a:ext cx="50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os puente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4192560" y="115920"/>
            <a:ext cx="478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as ciruela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5025960" y="2492280"/>
            <a:ext cx="4118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as fresa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0" y="115920"/>
            <a:ext cx="42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as pera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5025960" y="1125360"/>
            <a:ext cx="40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as caja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20520" y="4365720"/>
            <a:ext cx="5399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as manzana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173160" y="1247760"/>
            <a:ext cx="532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as botella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4002120" y="5157720"/>
            <a:ext cx="511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as naranja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5148360" y="4044960"/>
            <a:ext cx="403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as goma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7" dur="1" fill="hold"/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411280" y="235908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_s pl_t_ _ _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112536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_s _aranj_ _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592360" y="-10008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_s f_ _ _a_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3627360" y="4660920"/>
            <a:ext cx="496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_s p_ _ _ _ 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539640" y="356220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_s c_r_ _ _a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1042920" y="575928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_s _anzan_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5-04-28T09:26:50Z</dcterms:modified>
  <cp:revision>162</cp:revision>
  <dc:subject/>
  <dc:title>TITLE</dc:title>
</cp:coreProperties>
</file>